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612F-C57D-4315-B709-CC97DCFA81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E447-D6DC-4358-9A9C-94BE8104C4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D159-899E-42F4-950C-4463BFFD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889-A199-4274-965C-4A3FF387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2F5-B560-40E9-A28E-C057BB48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BDC-7C3F-4A72-A8D3-76709927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9125-DDA1-4B85-AE90-9CAA668B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2B7C-90A0-45EB-8795-B47D17CE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DA75-EACD-4720-915B-7EE0A753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177D-DF22-4CE3-96A1-10D79675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96D1-3365-450F-9055-7B687BDA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F7EC-076D-4041-9A37-0DE9795D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EE18-D65E-4356-B0E0-5E7FBB62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EE1-C4A1-47EE-B2D2-4E977174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AF47-2328-4AA5-A978-3CCD93E2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60B0-4FF9-4289-809F-A66F2896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4090-FC60-44D4-A028-0CB41921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05D0-2601-438B-8BC1-FFA8336B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BDB4-3FF7-4C88-B28F-DE861859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96B07-C6DF-47B9-86D1-57E6C6B9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FBCAF-8CE0-4DA6-93A2-D8DCBB99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21EAE-3525-4F2F-991C-AEB0EE01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F4E5-AD99-43ED-BA0E-5D55A8B2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C813-66D5-4C03-8DB4-B4FA4B5D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F64-1CFC-4517-A39A-432B8563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5181F-3EB2-40D1-AC00-FB5E45A2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C22D-56EF-4E09-B4BD-C92C7E8B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DB3A5-A4E5-4E81-9BF3-9EB7DB9F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CA009-62BE-4F44-9215-D29BA4EA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20A4A-DA05-41D1-B5B7-381F947C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3FB52-E9AE-4799-9697-35C6C6EB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4E6A4-AD3E-45A1-B9D7-081E9240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0F06A-9EF2-4564-BF4B-93EC538B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47560-7E3B-405E-8566-A6FCF8B0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D2591-EAC8-495E-8098-1149342D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8E6-1B48-4F0A-9D18-24D99BB6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B4CEA-7B2B-4C38-9BEE-A1740D52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D9E38-44E1-416B-BBBE-81021B32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8C568-3019-438C-8B1F-D97A9A67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7FE62-31D6-4648-855D-7743C6B2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FB7E2-EC00-45C8-B302-8C683BF8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5E64E-EDAD-40FE-A922-3E221CDF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2A562-3BD0-4247-91BF-5F079718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01B74-20C8-42ED-BE8F-F215F071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48448-5B91-4C87-926E-73A3240A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B05-40AB-45FC-B6B8-1182B33A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A8A-7C56-47F5-9477-75C8E8C0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0AB-0646-4061-A15C-985D00E9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177-D6FF-4DC0-893B-3170F16A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EA0-4D5C-4DE5-8C62-6D26076D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545E-AE59-4C3B-B9CB-704156F950BE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87256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4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AE46-F46F-4DF2-B9B0-BA23F7B9FEE4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87256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3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     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7D59-5401-41BD-AA02-22D0254FF56C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Алгоритмизация и программирование, язык 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Python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10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8758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4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D7A9-BB8A-41F0-9B56-C39CCE6746F5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hyperlink" Target="mailto:eremin@pspu.ac.ru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cdonalds.com/" TargetMode="External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99880" y="1760400"/>
            <a:ext cx="86536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Программирование на языке </a:t>
            </a:r>
            <a:r>
              <a:rPr b="1" lang="en-US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35240" y="4358880"/>
            <a:ext cx="647352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6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с файлам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692E-0700-44A5-B4D1-AC43289E6A6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массив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D61F-FF23-4BCC-A73A-0B3FDABD5A6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382680" y="801720"/>
            <a:ext cx="846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ы в столбик целые числа. Вывести в другой текстовый файл те же числа, отсортированные в порядке возрас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71"/>
          <p:cNvGrpSpPr/>
          <p:nvPr/>
        </p:nvGrpSpPr>
        <p:grpSpPr>
          <a:xfrm>
            <a:off x="430200" y="2035080"/>
            <a:ext cx="6521400" cy="663480"/>
            <a:chOff x="430200" y="2035080"/>
            <a:chExt cx="6521400" cy="663480"/>
          </a:xfrm>
        </p:grpSpPr>
        <p:sp>
          <p:nvSpPr>
            <p:cNvPr id="258" name="Text Box 69"/>
            <p:cNvSpPr/>
            <p:nvPr/>
          </p:nvSpPr>
          <p:spPr>
            <a:xfrm>
              <a:off x="919080" y="2114280"/>
              <a:ext cx="6032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В чем отличие от предыдущей задач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70"/>
            <p:cNvSpPr/>
            <p:nvPr/>
          </p:nvSpPr>
          <p:spPr>
            <a:xfrm>
              <a:off x="430200" y="20350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71"/>
          <p:cNvGrpSpPr/>
          <p:nvPr/>
        </p:nvGrpSpPr>
        <p:grpSpPr>
          <a:xfrm>
            <a:off x="430200" y="2832120"/>
            <a:ext cx="8196120" cy="904680"/>
            <a:chOff x="430200" y="2832120"/>
            <a:chExt cx="8196120" cy="904680"/>
          </a:xfrm>
        </p:grpSpPr>
        <p:sp>
          <p:nvSpPr>
            <p:cNvPr id="261" name="Text Box 69"/>
            <p:cNvSpPr/>
            <p:nvPr/>
          </p:nvSpPr>
          <p:spPr>
            <a:xfrm>
              <a:off x="919080" y="2911320"/>
              <a:ext cx="77072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Для сортировки нужно удерживать все элементы в памяти одновременно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70"/>
            <p:cNvSpPr/>
            <p:nvPr/>
          </p:nvSpPr>
          <p:spPr>
            <a:xfrm>
              <a:off x="430200" y="28321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массив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95E5-94C0-4797-B316-C1FA86E8C7D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397440" y="81900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масси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625320" y="1303200"/>
            <a:ext cx="7948800" cy="2021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Tru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no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: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append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400320" y="335772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вод в стил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yth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625320" y="3821040"/>
            <a:ext cx="7948800" cy="879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1"/>
          <p:cNvSpPr/>
          <p:nvPr/>
        </p:nvSpPr>
        <p:spPr>
          <a:xfrm>
            <a:off x="394920" y="4821120"/>
            <a:ext cx="20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ртиров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625320" y="5283360"/>
            <a:ext cx="2505240" cy="47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массив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AB3B-20E2-4BEE-A854-E7653723458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400320" y="81900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результ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625320" y="1303200"/>
            <a:ext cx="7948800" cy="1257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tr(A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391320" y="257328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625320" y="3035160"/>
            <a:ext cx="7948800" cy="890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+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\n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6013800" y="1716120"/>
            <a:ext cx="182664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2, 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7524720" y="3071880"/>
            <a:ext cx="363600" cy="11912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0"/>
          <p:cNvSpPr/>
          <p:nvPr/>
        </p:nvSpPr>
        <p:spPr>
          <a:xfrm>
            <a:off x="391320" y="40356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625320" y="4498920"/>
            <a:ext cx="7948800" cy="890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4d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5886360" y="5589720"/>
            <a:ext cx="2687760" cy="459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D0D0-BB6C-42AD-9F16-8320B48956F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369720" y="809640"/>
            <a:ext cx="8666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в столбик записаны числа. Отсортировать их по возрастанию последней цифры и записать в другой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в столбик записаны числа. Отсортировать их по возрастанию суммы цифр и записать в другой файл. Используйте функцию, которая вычисляет сумму цифр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двух файлах записаны отсортированные по возрастанию массивы неизвестной длины. Объединить их и записать результат в третий файл. Полученный массив также должен быть отсортирован по возрастан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C46E-CC23-407A-B9F2-CFCDF07B8BC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382680" y="801720"/>
            <a:ext cx="846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данные о собаках: в каждой строчке кличка собаки, ее возраст и п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Мухтар 4 немецкая овчар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сти в другой файл сведения о собаках, которым меньше 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625320" y="2851200"/>
            <a:ext cx="7948800" cy="1954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не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конец файла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прочитать строку из файла 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азобрать строку – выделить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если возраст &lt;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аписать строку в файл F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данных из фай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6759-906D-4C14-A3A5-749EFD920C9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400320" y="81900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одной стро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"/>
          <p:cNvSpPr/>
          <p:nvPr/>
        </p:nvSpPr>
        <p:spPr>
          <a:xfrm>
            <a:off x="625320" y="1235160"/>
            <a:ext cx="7948800" cy="485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4"/>
          <p:cNvSpPr/>
          <p:nvPr/>
        </p:nvSpPr>
        <p:spPr>
          <a:xfrm>
            <a:off x="402120" y="174456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бивка по пробел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625320" y="2160720"/>
            <a:ext cx="7948800" cy="485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7"/>
          <p:cNvSpPr/>
          <p:nvPr/>
        </p:nvSpPr>
        <p:spPr>
          <a:xfrm>
            <a:off x="403200" y="265896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деление возра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"/>
          <p:cNvSpPr/>
          <p:nvPr/>
        </p:nvSpPr>
        <p:spPr>
          <a:xfrm>
            <a:off x="625320" y="3075120"/>
            <a:ext cx="7948800" cy="8506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9"/>
          <p:cNvSpPr/>
          <p:nvPr/>
        </p:nvSpPr>
        <p:spPr>
          <a:xfrm>
            <a:off x="399600" y="39276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ратко всё вмес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625320" y="4354560"/>
            <a:ext cx="7948800" cy="852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E439-F0B5-4876-A5C7-6531E72CDA3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461880" y="1324080"/>
            <a:ext cx="8423280" cy="378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Tr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not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: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407880" y="80964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ная програм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ст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EF32-7BB4-4710-9B81-321DFA0ED99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"/>
          <p:cNvSpPr/>
          <p:nvPr/>
        </p:nvSpPr>
        <p:spPr>
          <a:xfrm>
            <a:off x="461880" y="1324080"/>
            <a:ext cx="8423280" cy="1957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399240" y="80964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461880" y="3895560"/>
            <a:ext cx="8423280" cy="1570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[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6"/>
          <p:cNvSpPr/>
          <p:nvPr/>
        </p:nvSpPr>
        <p:spPr>
          <a:xfrm>
            <a:off x="399240" y="338148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C924-0B42-4ECF-96FC-7BB2F2905BE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369720" y="809640"/>
            <a:ext cx="8666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записаны данные о результатах сдачи экзамена. Каждая строка содержит фамилию, имя и количество баллов, разделенные пробел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Фамилия&gt; &lt;Имя&gt; &lt;Количество баллов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ести в другой файл фамилии и имена тех учеников, которые получили больше 80 бал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едыдущей задаче добавить к полученному списку нумерацию, сократить имя до одной буквы и поставить перед фамилие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П. Ив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И. Пет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DAE6-FED3-4D16-9FBB-256B277D6A6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69720" y="809640"/>
            <a:ext cx="8666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записаны данные о результатах сдачи экзамена. Каждая строка содержит фамилию, имя и количество баллов, разделенные пробел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Фамилия&gt; &lt;Имя&gt; &lt;Количество баллов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ести в другой файл данные учеников, которые получили больше 80 баллов.  Список должен быть отсортирован по убыванию балла. Формат выходных данных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П. Иванов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 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И. Петров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9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работать с файла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B505-7BD6-4605-BB06-6BBA9AE2061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5"/>
          <p:cNvSpPr/>
          <p:nvPr/>
        </p:nvSpPr>
        <p:spPr>
          <a:xfrm>
            <a:off x="2970360" y="1004760"/>
            <a:ext cx="2317680" cy="5968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6"/>
          <p:cNvSpPr/>
          <p:nvPr/>
        </p:nvSpPr>
        <p:spPr>
          <a:xfrm>
            <a:off x="968400" y="2254320"/>
            <a:ext cx="2317680" cy="5968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4970520" y="2254320"/>
            <a:ext cx="2317680" cy="59688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Блок-схема: процесс 8"/>
          <p:cNvSpPr/>
          <p:nvPr/>
        </p:nvSpPr>
        <p:spPr>
          <a:xfrm>
            <a:off x="407880" y="2906640"/>
            <a:ext cx="4191120" cy="2017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plain tex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, разбитый на стро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пециальных символов только символы перехода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Блок-схема: процесс 9"/>
          <p:cNvSpPr/>
          <p:nvPr/>
        </p:nvSpPr>
        <p:spPr>
          <a:xfrm>
            <a:off x="4843440" y="2906640"/>
            <a:ext cx="4192560" cy="2017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ые симв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ки, звуки, видео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Группа 12"/>
          <p:cNvGrpSpPr/>
          <p:nvPr/>
        </p:nvGrpSpPr>
        <p:grpSpPr>
          <a:xfrm>
            <a:off x="2743200" y="1601640"/>
            <a:ext cx="2589120" cy="652680"/>
            <a:chOff x="2743200" y="1601640"/>
            <a:chExt cx="2589120" cy="652680"/>
          </a:xfrm>
        </p:grpSpPr>
        <p:sp>
          <p:nvSpPr>
            <p:cNvPr id="187" name="Полилиния 10"/>
            <p:cNvSpPr/>
            <p:nvPr/>
          </p:nvSpPr>
          <p:spPr>
            <a:xfrm>
              <a:off x="2743200" y="1601640"/>
              <a:ext cx="1294560" cy="652680"/>
            </a:xfrm>
            <a:custGeom>
              <a:avLst/>
              <a:gdLst>
                <a:gd name="textAreaLeft" fmla="*/ 0 w 1294560"/>
                <a:gd name="textAreaRight" fmla="*/ 1294920 w 129456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294646" h="651850">
                  <a:moveTo>
                    <a:pt x="1294646" y="0"/>
                  </a:moveTo>
                  <a:lnTo>
                    <a:pt x="0" y="6518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олилиния 11"/>
            <p:cNvSpPr/>
            <p:nvPr/>
          </p:nvSpPr>
          <p:spPr>
            <a:xfrm flipH="1">
              <a:off x="4037760" y="1601640"/>
              <a:ext cx="1294560" cy="652680"/>
            </a:xfrm>
            <a:custGeom>
              <a:avLst/>
              <a:gdLst>
                <a:gd name="textAreaLeft" fmla="*/ 360 w 1294560"/>
                <a:gd name="textAreaRight" fmla="*/ 1295280 w 129456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294646" h="651850">
                  <a:moveTo>
                    <a:pt x="1294646" y="0"/>
                  </a:moveTo>
                  <a:lnTo>
                    <a:pt x="0" y="6518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E2A5-875E-4659-AFF9-BDD599028B1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162000" y="1676520"/>
            <a:ext cx="8820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РЕМИН Евгений Александ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-м.н., доцент кафедры мультимедийной дидактики и ИТО ПГГПУ, г. Пер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eremin@pspu.ac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DB03-BCB4-4EA9-8772-54F704432B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392040" y="812880"/>
            <a:ext cx="808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mcdonalds.co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 художников издательства «Бин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и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нцип сэндвич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01CC-8ACC-4E78-9A3B-E35CFE20EA1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Группа 33"/>
          <p:cNvGrpSpPr/>
          <p:nvPr/>
        </p:nvGrpSpPr>
        <p:grpSpPr>
          <a:xfrm>
            <a:off x="5395680" y="1111320"/>
            <a:ext cx="2549880" cy="357120"/>
            <a:chOff x="5395680" y="1111320"/>
            <a:chExt cx="2549880" cy="357120"/>
          </a:xfrm>
        </p:grpSpPr>
        <p:sp>
          <p:nvSpPr>
            <p:cNvPr id="193" name="Text Box 10"/>
            <p:cNvSpPr/>
            <p:nvPr/>
          </p:nvSpPr>
          <p:spPr>
            <a:xfrm>
              <a:off x="5871600" y="1111320"/>
              <a:ext cx="2073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открыть фай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9"/>
            <p:cNvSpPr/>
            <p:nvPr/>
          </p:nvSpPr>
          <p:spPr>
            <a:xfrm flipV="1" rot="16200000">
              <a:off x="5487480" y="1092960"/>
              <a:ext cx="221400" cy="405000"/>
            </a:xfrm>
            <a:prstGeom prst="downArrow">
              <a:avLst>
                <a:gd name="adj1" fmla="val 40000"/>
                <a:gd name="adj2" fmla="val 6973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34"/>
          <p:cNvGrpSpPr/>
          <p:nvPr/>
        </p:nvGrpSpPr>
        <p:grpSpPr>
          <a:xfrm>
            <a:off x="5395680" y="1744560"/>
            <a:ext cx="2754720" cy="357120"/>
            <a:chOff x="5395680" y="1744560"/>
            <a:chExt cx="2754720" cy="357120"/>
          </a:xfrm>
        </p:grpSpPr>
        <p:sp>
          <p:nvSpPr>
            <p:cNvPr id="196" name="AutoShape 8"/>
            <p:cNvSpPr/>
            <p:nvPr/>
          </p:nvSpPr>
          <p:spPr>
            <a:xfrm flipV="1" rot="16200000">
              <a:off x="5487480" y="1712520"/>
              <a:ext cx="221400" cy="405000"/>
            </a:xfrm>
            <a:prstGeom prst="downArrow">
              <a:avLst>
                <a:gd name="adj1" fmla="val 40000"/>
                <a:gd name="adj2" fmla="val 69732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5871600" y="1744560"/>
              <a:ext cx="2278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работа с  файл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Группа 35"/>
          <p:cNvGrpSpPr/>
          <p:nvPr/>
        </p:nvGrpSpPr>
        <p:grpSpPr>
          <a:xfrm>
            <a:off x="5395680" y="2351160"/>
            <a:ext cx="2445120" cy="355680"/>
            <a:chOff x="5395680" y="2351160"/>
            <a:chExt cx="2445120" cy="355680"/>
          </a:xfrm>
        </p:grpSpPr>
        <p:sp>
          <p:nvSpPr>
            <p:cNvPr id="199" name="AutoShape 7"/>
            <p:cNvSpPr/>
            <p:nvPr/>
          </p:nvSpPr>
          <p:spPr>
            <a:xfrm flipV="1" rot="16200000">
              <a:off x="5487840" y="2332440"/>
              <a:ext cx="220320" cy="405000"/>
            </a:xfrm>
            <a:prstGeom prst="downArrow">
              <a:avLst>
                <a:gd name="adj1" fmla="val 40000"/>
                <a:gd name="adj2" fmla="val 70074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"/>
            <p:cNvSpPr/>
            <p:nvPr/>
          </p:nvSpPr>
          <p:spPr>
            <a:xfrm>
              <a:off x="5871600" y="2351160"/>
              <a:ext cx="1969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закрыть фай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4"/>
          <p:cNvSpPr/>
          <p:nvPr/>
        </p:nvSpPr>
        <p:spPr>
          <a:xfrm>
            <a:off x="939960" y="1174680"/>
            <a:ext cx="865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л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39960" y="2298600"/>
            <a:ext cx="865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л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615960" y="1736640"/>
            <a:ext cx="1125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ч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5" descr=""/>
          <p:cNvPicPr/>
          <p:nvPr/>
        </p:nvPicPr>
        <p:blipFill>
          <a:blip r:embed="rId1"/>
          <a:srcRect l="0" t="0" r="1536" b="3465"/>
          <a:stretch/>
        </p:blipFill>
        <p:spPr>
          <a:xfrm>
            <a:off x="1928880" y="2101680"/>
            <a:ext cx="3316320" cy="858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4" descr=""/>
          <p:cNvPicPr/>
          <p:nvPr/>
        </p:nvPicPr>
        <p:blipFill>
          <a:blip r:embed="rId2"/>
          <a:stretch/>
        </p:blipFill>
        <p:spPr>
          <a:xfrm>
            <a:off x="2014560" y="1017720"/>
            <a:ext cx="3224160" cy="582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4" descr=""/>
          <p:cNvPicPr/>
          <p:nvPr/>
        </p:nvPicPr>
        <p:blipFill>
          <a:blip r:embed="rId3"/>
          <a:stretch/>
        </p:blipFill>
        <p:spPr>
          <a:xfrm>
            <a:off x="1936800" y="1481040"/>
            <a:ext cx="3405240" cy="10940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5"/>
          <p:cNvSpPr/>
          <p:nvPr/>
        </p:nvSpPr>
        <p:spPr>
          <a:xfrm>
            <a:off x="896760" y="3877200"/>
            <a:ext cx="74692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здесь работаем с фай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ая прямоугольная выноска 36"/>
          <p:cNvSpPr/>
          <p:nvPr/>
        </p:nvSpPr>
        <p:spPr>
          <a:xfrm>
            <a:off x="376200" y="2968560"/>
            <a:ext cx="3762360" cy="770040"/>
          </a:xfrm>
          <a:prstGeom prst="wedgeRoundRectCallout">
            <a:avLst>
              <a:gd name="adj1" fmla="val -25231"/>
              <a:gd name="adj2" fmla="val 75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йловые переменные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каз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1"/>
          <p:cNvSpPr/>
          <p:nvPr/>
        </p:nvSpPr>
        <p:spPr>
          <a:xfrm>
            <a:off x="5628240" y="5075280"/>
            <a:ext cx="310680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за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a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доб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олилиния 22"/>
          <p:cNvSpPr/>
          <p:nvPr/>
        </p:nvSpPr>
        <p:spPr>
          <a:xfrm>
            <a:off x="6283440" y="4603680"/>
            <a:ext cx="311040" cy="549360"/>
          </a:xfrm>
          <a:custGeom>
            <a:avLst/>
            <a:gdLst>
              <a:gd name="textAreaLeft" fmla="*/ 0 w 311040"/>
              <a:gd name="textAreaRight" fmla="*/ 311400 w 311040"/>
              <a:gd name="textAreaTop" fmla="*/ 0 h 549360"/>
              <a:gd name="textAreaBottom" fmla="*/ 549360 h 549360"/>
            </a:gdLst>
            <a:ahLst/>
            <a:rect l="textAreaLeft" t="textAreaTop" r="textAreaRight" b="textAreaBottom"/>
            <a:pathLst>
              <a:path w="606055" h="765544">
                <a:moveTo>
                  <a:pt x="0" y="765544"/>
                </a:moveTo>
                <a:cubicBezTo>
                  <a:pt x="31898" y="510363"/>
                  <a:pt x="606055" y="414669"/>
                  <a:pt x="95693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ая прямоугольная выноска 23"/>
          <p:cNvSpPr/>
          <p:nvPr/>
        </p:nvSpPr>
        <p:spPr>
          <a:xfrm>
            <a:off x="4506840" y="2968560"/>
            <a:ext cx="3762360" cy="770040"/>
          </a:xfrm>
          <a:prstGeom prst="wedgeRoundRectCallout">
            <a:avLst>
              <a:gd name="adj1" fmla="val -33810"/>
              <a:gd name="adj2" fmla="val 75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умолчанию – на чтение (режим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r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C8E5-4E55-495B-A5B0-6CF077D0ADF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5"/>
          <p:cNvSpPr/>
          <p:nvPr/>
        </p:nvSpPr>
        <p:spPr>
          <a:xfrm>
            <a:off x="561960" y="888480"/>
            <a:ext cx="7469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en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xt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561960" y="1856880"/>
            <a:ext cx="7469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"1 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3"/>
          <p:cNvSpPr/>
          <p:nvPr/>
        </p:nvSpPr>
        <p:spPr>
          <a:xfrm>
            <a:off x="396000" y="140004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стро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4"/>
          <p:cNvSpPr/>
          <p:nvPr/>
        </p:nvSpPr>
        <p:spPr>
          <a:xfrm>
            <a:off x="412920" y="238932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строки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разбивка по пробел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561960" y="2888640"/>
            <a:ext cx="8356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"1","2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6"/>
          <p:cNvSpPr/>
          <p:nvPr/>
        </p:nvSpPr>
        <p:spPr>
          <a:xfrm>
            <a:off x="401040" y="33796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ение целых чисе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5"/>
          <p:cNvSpPr/>
          <p:nvPr/>
        </p:nvSpPr>
        <p:spPr>
          <a:xfrm>
            <a:off x="561960" y="3837600"/>
            <a:ext cx="8356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pli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["1","2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[0])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[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8"/>
          <p:cNvSpPr/>
          <p:nvPr/>
        </p:nvSpPr>
        <p:spPr>
          <a:xfrm>
            <a:off x="391320" y="46926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561960" y="5147640"/>
            <a:ext cx="8356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[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0"/>
          <p:cNvSpPr/>
          <p:nvPr/>
        </p:nvSpPr>
        <p:spPr>
          <a:xfrm>
            <a:off x="391320" y="556272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561960" y="6019200"/>
            <a:ext cx="8356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вод данных в фай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DAD2-93F3-4C32-986F-652AD142248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5"/>
          <p:cNvSpPr/>
          <p:nvPr/>
        </p:nvSpPr>
        <p:spPr>
          <a:xfrm>
            <a:off x="471600" y="913680"/>
            <a:ext cx="8353440" cy="2364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output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"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d} + {:d} = {:d}\n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+b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.close(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71"/>
          <p:cNvGrpSpPr/>
          <p:nvPr/>
        </p:nvGrpSpPr>
        <p:grpSpPr>
          <a:xfrm>
            <a:off x="933480" y="3468600"/>
            <a:ext cx="7188120" cy="663480"/>
            <a:chOff x="933480" y="3468600"/>
            <a:chExt cx="7188120" cy="663480"/>
          </a:xfrm>
        </p:grpSpPr>
        <p:sp>
          <p:nvSpPr>
            <p:cNvPr id="229" name="Text Box 69"/>
            <p:cNvSpPr/>
            <p:nvPr/>
          </p:nvSpPr>
          <p:spPr>
            <a:xfrm>
              <a:off x="1422360" y="3547800"/>
              <a:ext cx="66992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Все данные преобразовать в строку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70"/>
            <p:cNvSpPr/>
            <p:nvPr/>
          </p:nvSpPr>
          <p:spPr>
            <a:xfrm>
              <a:off x="933480" y="3468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неизвестного количеств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3CFC-E11D-4328-871E-07A247D7361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5"/>
          <p:cNvSpPr/>
          <p:nvPr/>
        </p:nvSpPr>
        <p:spPr>
          <a:xfrm>
            <a:off x="471600" y="1667880"/>
            <a:ext cx="746892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ока не конец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прочитать число из фай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обавить его к су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382680" y="8017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в столбик неизвестное количество чисел.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5"/>
          <p:cNvSpPr/>
          <p:nvPr/>
        </p:nvSpPr>
        <p:spPr>
          <a:xfrm>
            <a:off x="471600" y="3296520"/>
            <a:ext cx="746892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no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: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lo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ая прямоугольная выноска 9"/>
          <p:cNvSpPr/>
          <p:nvPr/>
        </p:nvSpPr>
        <p:spPr>
          <a:xfrm>
            <a:off x="4643280" y="3948120"/>
            <a:ext cx="3764160" cy="770040"/>
          </a:xfrm>
          <a:prstGeom prst="wedgeRoundRectCallout">
            <a:avLst>
              <a:gd name="adj1" fmla="val -66648"/>
              <a:gd name="adj2" fmla="val 39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конец файла, вернёт пуст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неизвестного количеств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6735-BF86-4ED3-8A04-DEECB4D59E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"/>
          <p:cNvSpPr/>
          <p:nvPr/>
        </p:nvSpPr>
        <p:spPr>
          <a:xfrm>
            <a:off x="382680" y="8017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в столбик неизвестное количество чисел.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471600" y="1798920"/>
            <a:ext cx="74689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eadlin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lo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ая прямоугольная выноска 7"/>
          <p:cNvSpPr/>
          <p:nvPr/>
        </p:nvSpPr>
        <p:spPr>
          <a:xfrm>
            <a:off x="4159080" y="3065400"/>
            <a:ext cx="3764160" cy="770040"/>
          </a:xfrm>
          <a:prstGeom prst="wedgeRoundRectCallout">
            <a:avLst>
              <a:gd name="adj1" fmla="val -72365"/>
              <a:gd name="adj2" fmla="val -654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все строки в список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ение неизвестного количества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845B-FC56-47C5-A2C6-A4CD2FBFC7D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382680" y="8017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файле записано в столбик неизвестное количество чисел. Найти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5"/>
          <p:cNvSpPr/>
          <p:nvPr/>
        </p:nvSpPr>
        <p:spPr>
          <a:xfrm>
            <a:off x="471600" y="1795680"/>
            <a:ext cx="74689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wit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a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n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71"/>
          <p:cNvGrpSpPr/>
          <p:nvPr/>
        </p:nvGrpSpPr>
        <p:grpSpPr>
          <a:xfrm>
            <a:off x="1547640" y="5389560"/>
            <a:ext cx="5467320" cy="663480"/>
            <a:chOff x="1547640" y="5389560"/>
            <a:chExt cx="5467320" cy="663480"/>
          </a:xfrm>
        </p:grpSpPr>
        <p:sp>
          <p:nvSpPr>
            <p:cNvPr id="247" name="Text Box 69"/>
            <p:cNvSpPr/>
            <p:nvPr/>
          </p:nvSpPr>
          <p:spPr>
            <a:xfrm>
              <a:off x="2036520" y="5468760"/>
              <a:ext cx="4978440" cy="52056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Не нужно закрывать файл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0"/>
            <p:cNvSpPr/>
            <p:nvPr/>
          </p:nvSpPr>
          <p:spPr>
            <a:xfrm>
              <a:off x="1547640" y="53895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Прямоугольник 13"/>
          <p:cNvSpPr/>
          <p:nvPr/>
        </p:nvSpPr>
        <p:spPr>
          <a:xfrm>
            <a:off x="391320" y="338760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т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5"/>
          <p:cNvSpPr/>
          <p:nvPr/>
        </p:nvSpPr>
        <p:spPr>
          <a:xfrm>
            <a:off x="471600" y="3898440"/>
            <a:ext cx="7468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in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o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input.txt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8B46-5568-4502-A64C-AD1225632FC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369720" y="809640"/>
            <a:ext cx="8666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среднее арифметическое всех чисел, записанных в файле в столбик, и выводит результат в другой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находит минимальное и максимальное среди чётных положительных чисел, записанных в файле, и выводит результат в другой файл. Учтите, что таких чисел может вообще не бы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айле в столбик записаны целые числа, сколько их – неизвестно. Напишите программу, которая определяет длину самой длинной цепочки идущих подряд одинаковых чисел и выводит результат в другой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555</cp:lastModifiedBy>
  <dcterms:modified xsi:type="dcterms:W3CDTF">2023-04-06T09:14:43Z</dcterms:modified>
  <cp:revision>1794</cp:revision>
  <dc:subject/>
  <dc:title>Программное обеспечение (ПО)</dc:title>
</cp:coreProperties>
</file>