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2.xml.rels" ContentType="application/vnd.openxmlformats-package.relationships+xml"/>
  <Override PartName="/ppt/notesSlides/notesSlide1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87C-C02B-4321-A189-8F02D16DC5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6B95-CED5-4021-B933-984A320C4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7FE-E47F-4675-975B-4EC068FB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961-C96E-4C72-9891-1BA2446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F01-7964-410D-99E9-011FDF45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456-A136-436D-ADFF-E6868D5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855F-98B6-462F-9656-05366FE8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5798-1065-402B-B10A-78CD6F4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E4FB-C7F6-43EA-8126-11C90AB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2D2-ADEB-46F2-82A7-70585F32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62C6-30DE-4416-92D3-68D69A3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476-C5E0-47FB-B745-8C1029A3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AB6B-C1F0-42EA-813A-87F1623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35F-2ABF-4FAD-8563-4728C484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765-02B3-4AEA-B886-DDFE7C27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D155-4DEE-46C4-A9AE-3C435A57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802-501F-4E70-B847-78DDD44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33E-88CF-4B65-BD1F-0FF57C00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8ABA-E886-4E52-8744-1DD2F058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EF842-6695-45DA-AFB5-F4E7BE5C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A42A-DCEE-4CD1-ACAE-6C55B172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A891-23B4-4B26-BC7D-565B62A9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B8CC-3577-4A69-9687-A7D03D1B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1AE8-F78E-4C57-8B6A-30AFDCB3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6BF-0B4C-4DB9-8001-66451C78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7E76-B0D3-409F-A245-079AD942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03AC-64E2-4B66-A324-89E9CFB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56D2-0E50-45C1-914D-1C726B5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7259-9DB9-4C2D-A2B2-19BD7B5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6DFA-853F-44C0-809B-6A927225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C8D4-E291-4B47-9ACD-59B59B92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E303-1455-4A1F-B06E-AF8FAD3B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4019-C744-48B4-903F-96C21A9B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1A99-6764-4B0D-9383-A87B4326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4FC3-0FBE-481F-9841-21F36FB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E4B-3DAC-4188-9595-C31D88F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376F-1267-4B99-89CB-32C19446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7068-0C38-4E4E-A568-BDC9BCF7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3CBF-47E2-4006-A20B-46CAC078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6C92-BD98-430D-9B3E-D1AA7FAF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2071-B221-4C97-A130-16AA792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2ED8-870C-47AE-AC03-2FB9597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0F81-3CF3-4785-B12D-B140232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4CF5-C4B9-46F3-A448-D57BF67D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20FC-951F-4C95-BCF0-D80C61CE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D79-AD45-4CCC-8ABF-C771DAA5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501-03E4-4770-8004-01AE0B96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15F-9122-4098-8816-7AE401C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618-EE67-44FE-AD24-20D549F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1F1-7CC1-41CA-B7B5-A029B66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973-7E28-42E5-8814-B8626991D08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FC8-EA4E-4743-807D-5F8061A45D6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BE8-EC70-4D2B-874E-FCF3642B2B5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5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9BBC-B6F3-4B6D-BD35-8B427A34FDE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42.xml"/><Relationship Id="rId5" Type="http://schemas.openxmlformats.org/officeDocument/2006/relationships/slide" Target="slide59.xml"/><Relationship Id="rId6" Type="http://schemas.openxmlformats.org/officeDocument/2006/relationships/slide" Target="slide70.xml"/><Relationship Id="rId7" Type="http://schemas.openxmlformats.org/officeDocument/2006/relationships/slide" Target="slide95.xml"/><Relationship Id="rId8" Type="http://schemas.openxmlformats.org/officeDocument/2006/relationships/slide" Target="slide116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4298-5A77-4CBC-9DE5-596B6EA83DC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7231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333520" y="2408040"/>
            <a:ext cx="466416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Алгоритм и его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стейш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Вет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Символьные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Циклические алгорит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Массивы (спи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Поиск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умма: псевдок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537-6BE0-43ED-9AF0-3E740771B12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34880" y="871560"/>
            <a:ext cx="8353440" cy="150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вести два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числить их сум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вывести сумму на эк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297160" y="2774880"/>
            <a:ext cx="4970520" cy="1343160"/>
          </a:xfrm>
          <a:prstGeom prst="wedgeRoundRectCallout">
            <a:avLst>
              <a:gd name="adj1" fmla="val -43782"/>
              <a:gd name="adj2" fmla="val -864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горитм на русском языке с элементами языка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55"/>
          <p:cNvGrpSpPr/>
          <p:nvPr/>
        </p:nvGrpSpPr>
        <p:grpSpPr>
          <a:xfrm>
            <a:off x="846000" y="4443480"/>
            <a:ext cx="7278840" cy="663480"/>
            <a:chOff x="846000" y="4443480"/>
            <a:chExt cx="7278840" cy="663480"/>
          </a:xfrm>
        </p:grpSpPr>
        <p:sp>
          <p:nvSpPr>
            <p:cNvPr id="233" name="Text Box 56"/>
            <p:cNvSpPr/>
            <p:nvPr/>
          </p:nvSpPr>
          <p:spPr>
            <a:xfrm>
              <a:off x="1312920" y="4549680"/>
              <a:ext cx="6811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ьютер не может исполнить псевдокод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7"/>
            <p:cNvSpPr/>
            <p:nvPr/>
          </p:nvSpPr>
          <p:spPr>
            <a:xfrm>
              <a:off x="846000" y="4443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случайными числ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B898-FE3D-438A-9878-6C078139DF7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"/>
          <p:cNvSpPr/>
          <p:nvPr/>
        </p:nvSpPr>
        <p:spPr>
          <a:xfrm>
            <a:off x="471600" y="1738440"/>
            <a:ext cx="699444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6"/>
          <p:cNvSpPr/>
          <p:nvPr/>
        </p:nvSpPr>
        <p:spPr>
          <a:xfrm>
            <a:off x="398520" y="40482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"/>
          <p:cNvSpPr/>
          <p:nvPr/>
        </p:nvSpPr>
        <p:spPr>
          <a:xfrm>
            <a:off x="471600" y="446724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randint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59"/>
          <p:cNvSpPr/>
          <p:nvPr/>
        </p:nvSpPr>
        <p:spPr>
          <a:xfrm>
            <a:off x="457200" y="933480"/>
            <a:ext cx="308628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библиотеки (модуля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9"/>
          <p:cNvSpPr/>
          <p:nvPr/>
        </p:nvSpPr>
        <p:spPr>
          <a:xfrm>
            <a:off x="4013280" y="933480"/>
            <a:ext cx="3759120" cy="679320"/>
          </a:xfrm>
          <a:prstGeom prst="wedgeRoundRectCallout">
            <a:avLst>
              <a:gd name="adj1" fmla="val -2689"/>
              <a:gd name="adj2" fmla="val 87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ять функцию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"/>
                            </p:stCondLst>
                            <p:childTnLst>
                              <p:par>
                                <p:cTn id="2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8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4" fill="hold">
                            <p:stCondLst>
                              <p:cond delay="500"/>
                            </p:stCondLst>
                            <p:childTnLst>
                              <p:par>
                                <p:cTn id="2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массива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941-88C2-4C51-B051-9B0895B9D6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спис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"/>
          <p:cNvSpPr/>
          <p:nvPr/>
        </p:nvSpPr>
        <p:spPr>
          <a:xfrm>
            <a:off x="847800" y="1273320"/>
            <a:ext cx="2496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4"/>
          <p:cNvSpPr/>
          <p:nvPr/>
        </p:nvSpPr>
        <p:spPr>
          <a:xfrm>
            <a:off x="3411360" y="1300320"/>
            <a:ext cx="36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345960" y="17510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чку через проб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847800" y="2284560"/>
            <a:ext cx="5692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i]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4"/>
          <p:cNvSpPr/>
          <p:nvPr/>
        </p:nvSpPr>
        <p:spPr>
          <a:xfrm>
            <a:off x="6796080" y="263376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45960" y="325908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847800" y="3784680"/>
            <a:ext cx="49831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x, e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"/>
          <p:cNvSpPr/>
          <p:nvPr/>
        </p:nvSpPr>
        <p:spPr>
          <a:xfrm>
            <a:off x="6313320" y="3992400"/>
            <a:ext cx="22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9"/>
          <p:cNvSpPr/>
          <p:nvPr/>
        </p:nvSpPr>
        <p:spPr>
          <a:xfrm>
            <a:off x="5715000" y="3193920"/>
            <a:ext cx="3035160" cy="998640"/>
          </a:xfrm>
          <a:prstGeom prst="wedgeRoundRectCallout">
            <a:avLst>
              <a:gd name="adj1" fmla="val -66171"/>
              <a:gd name="adj2" fmla="val -62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 после вывода очеред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345960" y="475776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847800" y="5283360"/>
            <a:ext cx="28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>
            <a:off x="2346480" y="5970600"/>
            <a:ext cx="2798640" cy="704880"/>
          </a:xfrm>
          <a:prstGeom prst="wedgeRoundRectCallout">
            <a:avLst>
              <a:gd name="adj1" fmla="val -40138"/>
              <a:gd name="adj2" fmla="val -89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список на эле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5"/>
          <p:cNvSpPr/>
          <p:nvPr/>
        </p:nvSpPr>
        <p:spPr>
          <a:xfrm>
            <a:off x="4262400" y="5283360"/>
            <a:ext cx="4672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Двойная стрелка влево/вправо 23"/>
          <p:cNvSpPr/>
          <p:nvPr/>
        </p:nvSpPr>
        <p:spPr>
          <a:xfrm>
            <a:off x="3767040" y="5497560"/>
            <a:ext cx="441360" cy="209520"/>
          </a:xfrm>
          <a:prstGeom prst="leftRigh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8" dur="indefinite" restart="never" nodeType="tmRoot">
          <p:childTnLst>
            <p:seq>
              <p:cTn id="2969" dur="indefinite" nodeType="mainSeq">
                <p:childTnLst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0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0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9B7-A5F4-4D9D-B46F-CC571C5841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369720" y="80964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о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5"/>
          <p:cNvSpPr/>
          <p:nvPr/>
        </p:nvSpPr>
        <p:spPr>
          <a:xfrm>
            <a:off x="369720" y="3413160"/>
            <a:ext cx="842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9 10 6 8 5 9 6 10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0037-2074-4048-8954-6D36F032FDF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5"/>
          <p:cNvSpPr/>
          <p:nvPr/>
        </p:nvSpPr>
        <p:spPr>
          <a:xfrm>
            <a:off x="369720" y="8222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натуральных числ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заполнить массив из 10 эле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половина массива заполняется случайными числами в диапазоне межд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больш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а вторая половина массива содержит их квадраты в том же поря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границы диапаз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8 7 10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25 64 49 100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C2E-F34E-4EA4-853E-0235AF716A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4"/>
          <p:cNvSpPr/>
          <p:nvPr/>
        </p:nvSpPr>
        <p:spPr>
          <a:xfrm>
            <a:off x="345960" y="7952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847800" y="127332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836640" y="2622600"/>
            <a:ext cx="5638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ru-RU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Прямоугольник 14"/>
          <p:cNvSpPr/>
          <p:nvPr/>
        </p:nvSpPr>
        <p:spPr>
          <a:xfrm>
            <a:off x="345960" y="354168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898560" y="4059360"/>
            <a:ext cx="5959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ge(N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345960" y="215424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вод по одному элемент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т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1" dur="indefinite" restart="never" nodeType="tmRoot">
          <p:childTnLst>
            <p:seq>
              <p:cTn id="3052" dur="indefinite" nodeType="mainSeq">
                <p:childTnLst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7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3" dur="5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6" dur="500"/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массива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979-B94B-49E0-A0B0-04B3980A12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"/>
          <p:cNvSpPr/>
          <p:nvPr/>
        </p:nvSpPr>
        <p:spPr>
          <a:xfrm>
            <a:off x="345960" y="795240"/>
            <a:ext cx="63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сех чисел в одной ст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"/>
          <p:cNvSpPr/>
          <p:nvPr/>
        </p:nvSpPr>
        <p:spPr>
          <a:xfrm>
            <a:off x="492120" y="1239840"/>
            <a:ext cx="78231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 3 4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,"3","4","5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 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1,2,3,4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рямоугольник 17"/>
          <p:cNvSpPr/>
          <p:nvPr/>
        </p:nvSpPr>
        <p:spPr>
          <a:xfrm>
            <a:off x="1405080" y="1959120"/>
            <a:ext cx="1349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рямоугольник 18"/>
          <p:cNvSpPr/>
          <p:nvPr/>
        </p:nvSpPr>
        <p:spPr>
          <a:xfrm>
            <a:off x="345960" y="2847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6"/>
          <p:cNvSpPr/>
          <p:nvPr/>
        </p:nvSpPr>
        <p:spPr>
          <a:xfrm>
            <a:off x="492120" y="3306600"/>
            <a:ext cx="73058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fill="hold">
                      <p:stCondLst>
                        <p:cond delay="indefinite"/>
                      </p:stCondLst>
                      <p:childTnLst>
                        <p:par>
                          <p:cTn id="3125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C0BB-73D3-4045-A6E0-EA1758D39A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345960" y="795240"/>
            <a:ext cx="4586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"/>
          <p:cNvSpPr/>
          <p:nvPr/>
        </p:nvSpPr>
        <p:spPr>
          <a:xfrm>
            <a:off x="847800" y="1209600"/>
            <a:ext cx="3192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6"/>
          <p:cNvSpPr/>
          <p:nvPr/>
        </p:nvSpPr>
        <p:spPr>
          <a:xfrm>
            <a:off x="836640" y="2765520"/>
            <a:ext cx="6021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A[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6"/>
          <p:cNvGrpSpPr/>
          <p:nvPr/>
        </p:nvGrpSpPr>
        <p:grpSpPr>
          <a:xfrm>
            <a:off x="404640" y="5265720"/>
            <a:ext cx="8485200" cy="1008000"/>
            <a:chOff x="404640" y="5265720"/>
            <a:chExt cx="8485200" cy="1008000"/>
          </a:xfrm>
        </p:grpSpPr>
        <p:sp>
          <p:nvSpPr>
            <p:cNvPr id="1131" name="Text Box 7"/>
            <p:cNvSpPr/>
            <p:nvPr/>
          </p:nvSpPr>
          <p:spPr>
            <a:xfrm>
              <a:off x="871560" y="5371920"/>
              <a:ext cx="8018280" cy="9018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лико (1000, 1000000)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) при изменени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менять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8"/>
            <p:cNvSpPr/>
            <p:nvPr/>
          </p:nvSpPr>
          <p:spPr>
            <a:xfrm>
              <a:off x="404640" y="5265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fill="hold">
                            <p:stCondLst>
                              <p:cond delay="500"/>
                            </p:stCondLst>
                            <p:childTnLst>
                              <p:par>
                                <p:cTn id="3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6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4" dur="5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бработать все элементы масси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917-3930-4F7E-B219-9340EC4B45A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3459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0680" y="1292400"/>
            <a:ext cx="321444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рямоугольник 11"/>
          <p:cNvSpPr/>
          <p:nvPr/>
        </p:nvSpPr>
        <p:spPr>
          <a:xfrm>
            <a:off x="485640" y="4794120"/>
            <a:ext cx="3229200" cy="4291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ый прямоугольник 12"/>
          <p:cNvSpPr/>
          <p:nvPr/>
        </p:nvSpPr>
        <p:spPr>
          <a:xfrm>
            <a:off x="355680" y="1674720"/>
            <a:ext cx="3494160" cy="69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4"/>
          <p:cNvSpPr/>
          <p:nvPr/>
        </p:nvSpPr>
        <p:spPr>
          <a:xfrm>
            <a:off x="4408560" y="7952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Обработка в цик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4475160" y="1292400"/>
            <a:ext cx="41292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трелка вправо 15"/>
          <p:cNvSpPr/>
          <p:nvPr/>
        </p:nvSpPr>
        <p:spPr>
          <a:xfrm>
            <a:off x="3965400" y="1925640"/>
            <a:ext cx="385920" cy="210960"/>
          </a:xfrm>
          <a:prstGeom prst="rightArrow">
            <a:avLst>
              <a:gd name="adj1" fmla="val 50000"/>
              <a:gd name="adj2" fmla="val 5030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4"/>
          <p:cNvSpPr/>
          <p:nvPr/>
        </p:nvSpPr>
        <p:spPr>
          <a:xfrm>
            <a:off x="4408560" y="2813040"/>
            <a:ext cx="38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6"/>
          <p:cNvSpPr/>
          <p:nvPr/>
        </p:nvSpPr>
        <p:spPr>
          <a:xfrm>
            <a:off x="4475160" y="3271680"/>
            <a:ext cx="41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N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обработать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трелка вправо 18"/>
          <p:cNvSpPr/>
          <p:nvPr/>
        </p:nvSpPr>
        <p:spPr>
          <a:xfrm rot="5400000">
            <a:off x="7690320" y="2882160"/>
            <a:ext cx="384120" cy="2113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6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2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5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0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3" dur="500"/>
                                        <p:tgtEl>
                                          <p:spTgt spid="1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8" dur="500"/>
                                        <p:tgtEl>
                                          <p:spTgt spid="1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1" dur="500"/>
                                        <p:tgtEl>
                                          <p:spTgt spid="1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6" dur="500"/>
                                        <p:tgtEl>
                                          <p:spTgt spid="1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4" dur="500"/>
                                        <p:tgtEl>
                                          <p:spTgt spid="1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7" dur="500"/>
                                        <p:tgtEl>
                                          <p:spTgt spid="1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9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500"/>
                            </p:stCondLst>
                            <p:childTnLst>
                              <p:par>
                                <p:cTn id="3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0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3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FB3B-190E-49DF-9F28-9784A5B802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Прямоугольник 4"/>
          <p:cNvSpPr/>
          <p:nvPr/>
        </p:nvSpPr>
        <p:spPr>
          <a:xfrm>
            <a:off x="232560" y="809640"/>
            <a:ext cx="62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схем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6"/>
          <p:cNvSpPr/>
          <p:nvPr/>
        </p:nvSpPr>
        <p:spPr>
          <a:xfrm>
            <a:off x="719280" y="1300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рямоугольник 9"/>
          <p:cNvSpPr/>
          <p:nvPr/>
        </p:nvSpPr>
        <p:spPr>
          <a:xfrm>
            <a:off x="241560" y="3452760"/>
            <a:ext cx="51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не нужно изменят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719280" y="394344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сделать что-то с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719280" y="241308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Прямоугольник 12"/>
          <p:cNvSpPr/>
          <p:nvPr/>
        </p:nvSpPr>
        <p:spPr>
          <a:xfrm>
            <a:off x="1912680" y="481176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A[0], A[1], ..., A[N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6"/>
          <p:cNvSpPr/>
          <p:nvPr/>
        </p:nvSpPr>
        <p:spPr>
          <a:xfrm>
            <a:off x="719280" y="53802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4" dur="indefinite" restart="never" nodeType="tmRoot">
          <p:childTnLst>
            <p:seq>
              <p:cTn id="3275" dur="indefinite" nodeType="mainSeq">
                <p:childTnLst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7" dur="500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0" dur="500"/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8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ыведет програм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464-907B-4EBD-8CC3-77679C5705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474840" y="89208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6"/>
          <p:cNvSpPr/>
          <p:nvPr/>
        </p:nvSpPr>
        <p:spPr>
          <a:xfrm>
            <a:off x="474840" y="155412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74840" y="2178000"/>
            <a:ext cx="6089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[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474840" y="288432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+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4735440" y="15541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4735440" y="217800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735440" y="28940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4735440" y="325584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6"/>
          <p:cNvSpPr/>
          <p:nvPr/>
        </p:nvSpPr>
        <p:spPr>
          <a:xfrm>
            <a:off x="474840" y="3979800"/>
            <a:ext cx="60894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= 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6"/>
          <p:cNvSpPr/>
          <p:nvPr/>
        </p:nvSpPr>
        <p:spPr>
          <a:xfrm>
            <a:off x="4735440" y="39895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735440" y="434196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74840" y="5065560"/>
            <a:ext cx="6089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k] +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A[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4735440" y="5791320"/>
            <a:ext cx="986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3513240" y="5373720"/>
            <a:ext cx="2995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4,5,3,6,8,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B1F-AC31-4BB3-9FF6-E565C1F18E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68280" y="8175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величина, имеющая имя, тип и значение. Значение переменной можно изменять во время работы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903320" y="2494080"/>
            <a:ext cx="2386080" cy="27921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3833640" y="2328840"/>
            <a:ext cx="1335240" cy="120024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6"/>
          <p:cNvSpPr/>
          <p:nvPr/>
        </p:nvSpPr>
        <p:spPr>
          <a:xfrm rot="18783600">
            <a:off x="3381480" y="3441240"/>
            <a:ext cx="709560" cy="4525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00ff"/>
          </a:solidFill>
          <a:ln w="12600">
            <a:solidFill>
              <a:srgbClr val="f2f2f2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7" descr=""/>
          <p:cNvPicPr/>
          <p:nvPr/>
        </p:nvPicPr>
        <p:blipFill>
          <a:blip r:embed="rId3"/>
          <a:stretch/>
        </p:blipFill>
        <p:spPr>
          <a:xfrm>
            <a:off x="2816280" y="3614760"/>
            <a:ext cx="156060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5437080" y="2611440"/>
            <a:ext cx="1755720" cy="646200"/>
          </a:xfrm>
          <a:prstGeom prst="wedgeRoundRectCallout">
            <a:avLst>
              <a:gd name="adj1" fmla="val -80314"/>
              <a:gd name="adj2" fmla="val 9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538520" y="4057560"/>
            <a:ext cx="1036800" cy="646200"/>
          </a:xfrm>
          <a:prstGeom prst="wedgeRoundRectCallout">
            <a:avLst>
              <a:gd name="adj1" fmla="val -121814"/>
              <a:gd name="adj2" fmla="val 17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счёт нужны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10B2-166D-43D4-BB6C-F4C642E1AA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Прямоугольник 7"/>
          <p:cNvSpPr/>
          <p:nvPr/>
        </p:nvSpPr>
        <p:spPr>
          <a:xfrm>
            <a:off x="396720" y="841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массиве записаны данные о росте баскетболистов. Сколько из них имеет рост больш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но меньше 190 см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6"/>
          <p:cNvSpPr/>
          <p:nvPr/>
        </p:nvSpPr>
        <p:spPr>
          <a:xfrm>
            <a:off x="719280" y="3078000"/>
            <a:ext cx="4881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55"/>
          <p:cNvGrpSpPr/>
          <p:nvPr/>
        </p:nvGrpSpPr>
        <p:grpSpPr>
          <a:xfrm>
            <a:off x="758880" y="2168640"/>
            <a:ext cx="2746440" cy="663480"/>
            <a:chOff x="758880" y="2168640"/>
            <a:chExt cx="2746440" cy="663480"/>
          </a:xfrm>
        </p:grpSpPr>
        <p:sp>
          <p:nvSpPr>
            <p:cNvPr id="1175" name="Text Box 56"/>
            <p:cNvSpPr/>
            <p:nvPr/>
          </p:nvSpPr>
          <p:spPr>
            <a:xfrm>
              <a:off x="1225800" y="2274840"/>
              <a:ext cx="2279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реша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57"/>
            <p:cNvSpPr/>
            <p:nvPr/>
          </p:nvSpPr>
          <p:spPr>
            <a:xfrm>
              <a:off x="758880" y="216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0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7" dur="500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500"/>
                            </p:stCondLst>
                            <p:childTnLst>
                              <p:par>
                                <p:cTn id="3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1" dur="500"/>
                                        <p:tgtEl>
                                          <p:spTgt spid="1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бор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8764-6620-4D97-855B-FE6ECA01EB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6"/>
          <p:cNvSpPr/>
          <p:nvPr/>
        </p:nvSpPr>
        <p:spPr>
          <a:xfrm>
            <a:off x="719280" y="1392120"/>
            <a:ext cx="43862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719280" y="3854520"/>
            <a:ext cx="4449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Прямоугольник 3"/>
          <p:cNvSpPr/>
          <p:nvPr/>
        </p:nvSpPr>
        <p:spPr>
          <a:xfrm>
            <a:off x="229680" y="341136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Прямоугольник 7"/>
          <p:cNvSpPr/>
          <p:nvPr/>
        </p:nvSpPr>
        <p:spPr>
          <a:xfrm>
            <a:off x="396720" y="84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умму чётных элементов масси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55"/>
          <p:cNvGrpSpPr/>
          <p:nvPr/>
        </p:nvGrpSpPr>
        <p:grpSpPr>
          <a:xfrm>
            <a:off x="4505400" y="1355760"/>
            <a:ext cx="3825360" cy="931680"/>
            <a:chOff x="4505400" y="1355760"/>
            <a:chExt cx="3825360" cy="931680"/>
          </a:xfrm>
        </p:grpSpPr>
        <p:sp>
          <p:nvSpPr>
            <p:cNvPr id="1184" name="Text Box 56"/>
            <p:cNvSpPr/>
            <p:nvPr/>
          </p:nvSpPr>
          <p:spPr>
            <a:xfrm>
              <a:off x="4971960" y="1461960"/>
              <a:ext cx="33588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элемент чётный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57"/>
            <p:cNvSpPr/>
            <p:nvPr/>
          </p:nvSpPr>
          <p:spPr>
            <a:xfrm>
              <a:off x="4505400" y="13557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AutoShape 59"/>
          <p:cNvSpPr/>
          <p:nvPr/>
        </p:nvSpPr>
        <p:spPr>
          <a:xfrm>
            <a:off x="2725560" y="5365800"/>
            <a:ext cx="2951280" cy="654120"/>
          </a:xfrm>
          <a:prstGeom prst="wedgeRoundRectCallout">
            <a:avLst>
              <a:gd name="adj1" fmla="val -51226"/>
              <a:gd name="adj2" fmla="val -120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массив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6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4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ет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47A-DB67-41CB-91F5-E0E47E5CC4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6"/>
          <p:cNvSpPr/>
          <p:nvPr/>
        </p:nvSpPr>
        <p:spPr>
          <a:xfrm>
            <a:off x="444600" y="896760"/>
            <a:ext cx="36543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%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303200" y="2817720"/>
          <a:ext cx="6096240" cy="517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Прямоугольник 5"/>
          <p:cNvSpPr/>
          <p:nvPr/>
        </p:nvSpPr>
        <p:spPr>
          <a:xfrm>
            <a:off x="795240" y="283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Прямоугольник 6"/>
          <p:cNvSpPr/>
          <p:nvPr/>
        </p:nvSpPr>
        <p:spPr>
          <a:xfrm>
            <a:off x="795240" y="36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303200" y="356724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Прямоугольник 8"/>
          <p:cNvSpPr/>
          <p:nvPr/>
        </p:nvSpPr>
        <p:spPr>
          <a:xfrm>
            <a:off x="178560" y="4299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1303200" y="4249800"/>
          <a:ext cx="1219320" cy="5173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Прямоугольник 10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рямоугольник 11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рямоугольник 12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Прямоугольник 13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4"/>
          <p:cNvSpPr/>
          <p:nvPr/>
        </p:nvSpPr>
        <p:spPr>
          <a:xfrm>
            <a:off x="1696680" y="357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Прямоугольник 15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Прямоугольник 16"/>
          <p:cNvSpPr/>
          <p:nvPr/>
        </p:nvSpPr>
        <p:spPr>
          <a:xfrm>
            <a:off x="1722240" y="423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Прямоугольник 17"/>
          <p:cNvSpPr/>
          <p:nvPr/>
        </p:nvSpPr>
        <p:spPr>
          <a:xfrm>
            <a:off x="1614600" y="4233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Прямоугольник 18"/>
          <p:cNvSpPr/>
          <p:nvPr/>
        </p:nvSpPr>
        <p:spPr>
          <a:xfrm>
            <a:off x="1614600" y="4233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олилиния 19"/>
          <p:cNvSpPr/>
          <p:nvPr/>
        </p:nvSpPr>
        <p:spPr>
          <a:xfrm>
            <a:off x="1906560" y="3227400"/>
            <a:ext cx="360" cy="468360"/>
          </a:xfrm>
          <a:custGeom>
            <a:avLst/>
            <a:gdLst/>
            <a:ahLst/>
            <a:rect l="l" t="t" r="r" b="b"/>
            <a:pathLst>
              <a:path w="0" h="561860">
                <a:moveTo>
                  <a:pt x="0" y="0"/>
                </a:moveTo>
                <a:lnTo>
                  <a:pt x="0" y="561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Полилиния 21"/>
          <p:cNvSpPr/>
          <p:nvPr/>
        </p:nvSpPr>
        <p:spPr>
          <a:xfrm>
            <a:off x="2266920" y="3219480"/>
            <a:ext cx="730440" cy="482400"/>
          </a:xfrm>
          <a:custGeom>
            <a:avLst/>
            <a:gdLst>
              <a:gd name="textAreaLeft" fmla="*/ 0 w 730440"/>
              <a:gd name="textAreaRight" fmla="*/ 730800 w 73044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олилиния 22"/>
          <p:cNvSpPr/>
          <p:nvPr/>
        </p:nvSpPr>
        <p:spPr>
          <a:xfrm>
            <a:off x="2292480" y="3174840"/>
            <a:ext cx="1930320" cy="559080"/>
          </a:xfrm>
          <a:custGeom>
            <a:avLst/>
            <a:gdLst>
              <a:gd name="textAreaLeft" fmla="*/ 0 w 1930320"/>
              <a:gd name="textAreaRight" fmla="*/ 1930680 w 19303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Полилиния 23"/>
          <p:cNvSpPr/>
          <p:nvPr/>
        </p:nvSpPr>
        <p:spPr>
          <a:xfrm>
            <a:off x="2324160" y="3174840"/>
            <a:ext cx="3070080" cy="587520"/>
          </a:xfrm>
          <a:custGeom>
            <a:avLst/>
            <a:gdLst>
              <a:gd name="textAreaLeft" fmla="*/ 0 w 3070080"/>
              <a:gd name="textAreaRight" fmla="*/ 3070440 w 30700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Полилиния 24"/>
          <p:cNvSpPr/>
          <p:nvPr/>
        </p:nvSpPr>
        <p:spPr>
          <a:xfrm>
            <a:off x="2371680" y="3174840"/>
            <a:ext cx="4241880" cy="625680"/>
          </a:xfrm>
          <a:custGeom>
            <a:avLst/>
            <a:gdLst>
              <a:gd name="textAreaLeft" fmla="*/ 0 w 4241880"/>
              <a:gd name="textAreaRight" fmla="*/ 4242240 w 4241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730250" h="482600">
                <a:moveTo>
                  <a:pt x="730250" y="0"/>
                </a:moveTo>
                <a:lnTo>
                  <a:pt x="0" y="48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Группа 30"/>
          <p:cNvGrpSpPr/>
          <p:nvPr/>
        </p:nvGrpSpPr>
        <p:grpSpPr>
          <a:xfrm>
            <a:off x="2128680" y="3875040"/>
            <a:ext cx="200160" cy="561960"/>
            <a:chOff x="2128680" y="3875040"/>
            <a:chExt cx="200160" cy="561960"/>
          </a:xfrm>
        </p:grpSpPr>
        <p:sp>
          <p:nvSpPr>
            <p:cNvPr id="1211" name="Полилиния 26"/>
            <p:cNvSpPr/>
            <p:nvPr/>
          </p:nvSpPr>
          <p:spPr>
            <a:xfrm>
              <a:off x="2224800" y="3875040"/>
              <a:ext cx="360" cy="561960"/>
            </a:xfrm>
            <a:custGeom>
              <a:avLst/>
              <a:gdLst/>
              <a:ahLst/>
              <a:rect l="l" t="t" r="r" b="b"/>
              <a:pathLst>
                <a:path w="0" h="561860">
                  <a:moveTo>
                    <a:pt x="0" y="0"/>
                  </a:moveTo>
                  <a:lnTo>
                    <a:pt x="0" y="561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2" name="Группа 29"/>
            <p:cNvGrpSpPr/>
            <p:nvPr/>
          </p:nvGrpSpPr>
          <p:grpSpPr>
            <a:xfrm>
              <a:off x="2128680" y="4021200"/>
              <a:ext cx="200160" cy="200160"/>
              <a:chOff x="2128680" y="4021200"/>
              <a:chExt cx="200160" cy="200160"/>
            </a:xfrm>
          </p:grpSpPr>
          <p:sp>
            <p:nvSpPr>
              <p:cNvPr id="1213" name="Овал 28"/>
              <p:cNvSpPr/>
              <p:nvPr/>
            </p:nvSpPr>
            <p:spPr>
              <a:xfrm>
                <a:off x="2128680" y="4021200"/>
                <a:ext cx="200160" cy="20016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Плюс 27"/>
              <p:cNvSpPr/>
              <p:nvPr/>
            </p:nvSpPr>
            <p:spPr>
              <a:xfrm>
                <a:off x="2133360" y="4025520"/>
                <a:ext cx="190800" cy="190800"/>
              </a:xfrm>
              <a:custGeom>
                <a:avLst/>
                <a:gdLst>
                  <a:gd name="textAreaLeft" fmla="*/ 25200 w 190800"/>
                  <a:gd name="textAreaRight" fmla="*/ 165600 w 190800"/>
                  <a:gd name="textAreaTop" fmla="*/ 84600 h 190800"/>
                  <a:gd name="textAreaBottom" fmla="*/ 106200 h 190800"/>
                </a:gdLst>
                <a:ahLst/>
                <a:rect l="textAreaLeft" t="textAreaTop" r="textAreaRight" b="textAreaBottom"/>
                <a:pathLst>
                  <a:path w="190500" h="190461">
                    <a:moveTo>
                      <a:pt x="25251" y="84358"/>
                    </a:moveTo>
                    <a:lnTo>
                      <a:pt x="84378" y="84358"/>
                    </a:lnTo>
                    <a:lnTo>
                      <a:pt x="84378" y="25246"/>
                    </a:lnTo>
                    <a:lnTo>
                      <a:pt x="106122" y="25246"/>
                    </a:lnTo>
                    <a:lnTo>
                      <a:pt x="106122" y="84358"/>
                    </a:lnTo>
                    <a:lnTo>
                      <a:pt x="165249" y="84358"/>
                    </a:lnTo>
                    <a:lnTo>
                      <a:pt x="165249" y="106103"/>
                    </a:lnTo>
                    <a:lnTo>
                      <a:pt x="106122" y="106103"/>
                    </a:lnTo>
                    <a:lnTo>
                      <a:pt x="106122" y="165215"/>
                    </a:lnTo>
                    <a:lnTo>
                      <a:pt x="84378" y="165215"/>
                    </a:lnTo>
                    <a:lnTo>
                      <a:pt x="84378" y="106103"/>
                    </a:lnTo>
                    <a:lnTo>
                      <a:pt x="25251" y="106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8" dur="indefinite" restart="never" nodeType="tmRoot">
          <p:childTnLst>
            <p:seq>
              <p:cTn id="3479" dur="indefinite" nodeType="mainSeq">
                <p:childTnLst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7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CBE-43C6-4B3A-A919-A64FD1EF80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719280" y="1697040"/>
            <a:ext cx="72864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umma/coun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59"/>
          <p:cNvSpPr/>
          <p:nvPr/>
        </p:nvSpPr>
        <p:spPr>
          <a:xfrm>
            <a:off x="5654520" y="3254400"/>
            <a:ext cx="2900520" cy="1014480"/>
          </a:xfrm>
          <a:prstGeom prst="wedgeRoundRectCallout">
            <a:avLst>
              <a:gd name="adj1" fmla="val -83296"/>
              <a:gd name="adj2" fmla="val 28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9"/>
          <p:cNvSpPr/>
          <p:nvPr/>
        </p:nvSpPr>
        <p:spPr>
          <a:xfrm>
            <a:off x="229680" y="444492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719280" y="4919760"/>
            <a:ext cx="7286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%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/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8"/>
          <p:cNvSpPr/>
          <p:nvPr/>
        </p:nvSpPr>
        <p:spPr>
          <a:xfrm>
            <a:off x="4092480" y="4987800"/>
            <a:ext cx="327240" cy="35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59"/>
          <p:cNvSpPr/>
          <p:nvPr/>
        </p:nvSpPr>
        <p:spPr>
          <a:xfrm>
            <a:off x="5159520" y="4435560"/>
            <a:ext cx="2955960" cy="606240"/>
          </a:xfrm>
          <a:prstGeom prst="wedgeRoundRectCallout">
            <a:avLst>
              <a:gd name="adj1" fmla="val -47638"/>
              <a:gd name="adj2" fmla="val 911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раем ну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55"/>
          <p:cNvGrpSpPr/>
          <p:nvPr/>
        </p:nvGrpSpPr>
        <p:grpSpPr>
          <a:xfrm>
            <a:off x="5114880" y="1609560"/>
            <a:ext cx="3800520" cy="931680"/>
            <a:chOff x="5114880" y="1609560"/>
            <a:chExt cx="3800520" cy="931680"/>
          </a:xfrm>
        </p:grpSpPr>
        <p:sp>
          <p:nvSpPr>
            <p:cNvPr id="1224" name="Text Box 56"/>
            <p:cNvSpPr/>
            <p:nvPr/>
          </p:nvSpPr>
          <p:spPr>
            <a:xfrm>
              <a:off x="5581800" y="1715760"/>
              <a:ext cx="33336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пределить, что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оканчивается на 5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57"/>
            <p:cNvSpPr/>
            <p:nvPr/>
          </p:nvSpPr>
          <p:spPr>
            <a:xfrm>
              <a:off x="5114880" y="1609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Прямоугольник 15"/>
          <p:cNvSpPr/>
          <p:nvPr/>
        </p:nvSpPr>
        <p:spPr>
          <a:xfrm>
            <a:off x="396720" y="84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среднее арифметическое элементов массива, которые оканчиваются на цифру 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1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4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9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4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7" dur="5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0" dur="500"/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5" dur="5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0" fill="hold">
                      <p:stCondLst>
                        <p:cond delay="indefinite"/>
                      </p:stCondLst>
                      <p:childTnLst>
                        <p:par>
                          <p:cTn id="3651" fill="hold">
                            <p:stCondLst>
                              <p:cond delay="0"/>
                            </p:stCondLst>
                            <p:childTnLst>
                              <p:par>
                                <p:cTn id="3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3D4-094E-49F4-82F9-A48B9D8597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из 5 элементов с клавиатуры и найдите среднее арифметическое его знач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 2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еднее арифметическое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69720" y="3081240"/>
            <a:ext cx="8610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100] и подсчитайте отдельно среднее значение всех элементов, которые &lt;50, и среднее значение всех элементов, которые ≥5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 2 52 4 60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50 1 2 60 58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5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: 3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арифм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элементов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0: 56.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DE58-1594-429A-97C6-A16DB4FDEB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5"/>
          <p:cNvSpPr/>
          <p:nvPr/>
        </p:nvSpPr>
        <p:spPr>
          <a:xfrm>
            <a:off x="369720" y="809640"/>
            <a:ext cx="842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размер массив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заполните массив из N элемент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лами Фибоначч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ервые два числа Фибоначчи равны 1, а каждое следующее равно сумме двух предыду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азмер масс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а Фибонач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1 2 3 5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560520" y="4358880"/>
            <a:ext cx="80229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FE47-FABD-401C-A54E-4593A7942CA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4F19-F34E-40D2-B362-B3680167CE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Прямоугольник 5"/>
          <p:cNvSpPr/>
          <p:nvPr/>
        </p:nvSpPr>
        <p:spPr>
          <a:xfrm>
            <a:off x="222840" y="80640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йти элемент, равный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6"/>
          <p:cNvSpPr/>
          <p:nvPr/>
        </p:nvSpPr>
        <p:spPr>
          <a:xfrm>
            <a:off x="719280" y="1303200"/>
            <a:ext cx="7611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55"/>
          <p:cNvGrpSpPr/>
          <p:nvPr/>
        </p:nvGrpSpPr>
        <p:grpSpPr>
          <a:xfrm>
            <a:off x="5521320" y="1577880"/>
            <a:ext cx="2486160" cy="663480"/>
            <a:chOff x="5521320" y="1577880"/>
            <a:chExt cx="2486160" cy="663480"/>
          </a:xfrm>
        </p:grpSpPr>
        <p:sp>
          <p:nvSpPr>
            <p:cNvPr id="1242" name="Text Box 56"/>
            <p:cNvSpPr/>
            <p:nvPr/>
          </p:nvSpPr>
          <p:spPr>
            <a:xfrm>
              <a:off x="5988240" y="1684080"/>
              <a:ext cx="2019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57"/>
            <p:cNvSpPr/>
            <p:nvPr/>
          </p:nvSpPr>
          <p:spPr>
            <a:xfrm>
              <a:off x="5521320" y="1577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Плюс 10"/>
          <p:cNvSpPr/>
          <p:nvPr/>
        </p:nvSpPr>
        <p:spPr>
          <a:xfrm rot="18931800">
            <a:off x="1572840" y="1390320"/>
            <a:ext cx="1481040" cy="1481040"/>
          </a:xfrm>
          <a:custGeom>
            <a:avLst/>
            <a:gdLst>
              <a:gd name="textAreaLeft" fmla="*/ 196200 w 1481040"/>
              <a:gd name="textAreaRight" fmla="*/ 1284840 w 1481040"/>
              <a:gd name="textAreaTop" fmla="*/ 676080 h 1481040"/>
              <a:gd name="textAreaBottom" fmla="*/ 804960 h 1481040"/>
            </a:gdLst>
            <a:ahLst/>
            <a:rect l="textAreaLeft" t="textAreaTop" r="textAreaRight" b="textAreaBottom"/>
            <a:pathLst>
              <a:path w="1481137" h="1481138">
                <a:moveTo>
                  <a:pt x="196325" y="676103"/>
                </a:moveTo>
                <a:lnTo>
                  <a:pt x="676102" y="676103"/>
                </a:lnTo>
                <a:lnTo>
                  <a:pt x="676102" y="196325"/>
                </a:lnTo>
                <a:lnTo>
                  <a:pt x="805035" y="196325"/>
                </a:lnTo>
                <a:lnTo>
                  <a:pt x="805035" y="676103"/>
                </a:lnTo>
                <a:lnTo>
                  <a:pt x="1284812" y="676103"/>
                </a:lnTo>
                <a:lnTo>
                  <a:pt x="1284812" y="805035"/>
                </a:lnTo>
                <a:lnTo>
                  <a:pt x="805035" y="805035"/>
                </a:lnTo>
                <a:lnTo>
                  <a:pt x="805035" y="1284813"/>
                </a:lnTo>
                <a:lnTo>
                  <a:pt x="676102" y="1284813"/>
                </a:lnTo>
                <a:lnTo>
                  <a:pt x="676102" y="805035"/>
                </a:lnTo>
                <a:lnTo>
                  <a:pt x="196325" y="805035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719280" y="3397320"/>
            <a:ext cx="7662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Group 55"/>
          <p:cNvGrpSpPr/>
          <p:nvPr/>
        </p:nvGrpSpPr>
        <p:grpSpPr>
          <a:xfrm>
            <a:off x="4782960" y="4210200"/>
            <a:ext cx="3984840" cy="663480"/>
            <a:chOff x="4782960" y="4210200"/>
            <a:chExt cx="3984840" cy="663480"/>
          </a:xfrm>
        </p:grpSpPr>
        <p:sp>
          <p:nvSpPr>
            <p:cNvPr id="1247" name="Text Box 56"/>
            <p:cNvSpPr/>
            <p:nvPr/>
          </p:nvSpPr>
          <p:spPr>
            <a:xfrm>
              <a:off x="5249880" y="4316400"/>
              <a:ext cx="3517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если такого н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Oval 57"/>
            <p:cNvSpPr/>
            <p:nvPr/>
          </p:nvSpPr>
          <p:spPr>
            <a:xfrm>
              <a:off x="4782960" y="42102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Прямоугольник 16"/>
          <p:cNvSpPr/>
          <p:nvPr/>
        </p:nvSpPr>
        <p:spPr>
          <a:xfrm>
            <a:off x="1874880" y="3751200"/>
            <a:ext cx="904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6" dur="indefinite" restart="never" nodeType="tmRoot">
          <p:childTnLst>
            <p:seq>
              <p:cTn id="3667" dur="indefinite" nodeType="mainSeq">
                <p:childTnLst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1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2" fill="hold">
                      <p:stCondLst>
                        <p:cond delay="indefinite"/>
                      </p:stCondLst>
                      <p:childTnLst>
                        <p:par>
                          <p:cTn id="3713" fill="hold">
                            <p:stCondLst>
                              <p:cond delay="0"/>
                            </p:stCondLst>
                            <p:childTnLst>
                              <p:par>
                                <p:cTn id="3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7" fill="hold">
                      <p:stCondLst>
                        <p:cond delay="indefinite"/>
                      </p:stCondLst>
                      <p:childTnLst>
                        <p:par>
                          <p:cTn id="3718" fill="hold">
                            <p:stCondLst>
                              <p:cond delay="0"/>
                            </p:stCondLst>
                            <p:childTnLst>
                              <p:par>
                                <p:cTn id="3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1" dur="500"/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A2C-4BE9-401A-B2F8-76EA63C59B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719280" y="2211480"/>
            <a:ext cx="77007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5"/>
          <p:cNvSpPr/>
          <p:nvPr/>
        </p:nvSpPr>
        <p:spPr>
          <a:xfrm>
            <a:off x="336240" y="806400"/>
            <a:ext cx="54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с досрочным выхо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6"/>
          <p:cNvSpPr/>
          <p:nvPr/>
        </p:nvSpPr>
        <p:spPr>
          <a:xfrm>
            <a:off x="1534320" y="369576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59"/>
          <p:cNvSpPr/>
          <p:nvPr/>
        </p:nvSpPr>
        <p:spPr>
          <a:xfrm>
            <a:off x="3705120" y="3456000"/>
            <a:ext cx="2670120" cy="722160"/>
          </a:xfrm>
          <a:prstGeom prst="wedgeRoundRectCallout">
            <a:avLst>
              <a:gd name="adj1" fmla="val -91486"/>
              <a:gd name="adj2" fmla="val 1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рочный выход из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9"/>
          <p:cNvSpPr/>
          <p:nvPr/>
        </p:nvSpPr>
        <p:spPr>
          <a:xfrm>
            <a:off x="1546200" y="1398600"/>
            <a:ext cx="3063960" cy="798480"/>
          </a:xfrm>
          <a:prstGeom prst="wedgeRoundRectCallout">
            <a:avLst>
              <a:gd name="adj1" fmla="val -63527"/>
              <a:gd name="adj2" fmla="val 59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найденн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3" dur="indefinite" restart="never" nodeType="tmRoot">
          <p:childTnLst>
            <p:seq>
              <p:cTn id="3734" dur="indefinite" nodeType="mainSeq">
                <p:childTnLst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5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0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6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2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5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0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3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8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1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6"/>
          <p:cNvSpPr/>
          <p:nvPr/>
        </p:nvSpPr>
        <p:spPr>
          <a:xfrm>
            <a:off x="719280" y="1309680"/>
            <a:ext cx="770076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i, 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массив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35B4-B8D9-44CB-AB5A-A86FAC0B9F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оугольник 5"/>
          <p:cNvSpPr/>
          <p:nvPr/>
        </p:nvSpPr>
        <p:spPr>
          <a:xfrm>
            <a:off x="240840" y="8064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Группа 11"/>
          <p:cNvGrpSpPr/>
          <p:nvPr/>
        </p:nvGrpSpPr>
        <p:grpSpPr>
          <a:xfrm>
            <a:off x="250920" y="3035160"/>
            <a:ext cx="6987960" cy="1320840"/>
            <a:chOff x="250920" y="3035160"/>
            <a:chExt cx="6987960" cy="1320840"/>
          </a:xfrm>
        </p:grpSpPr>
        <p:sp>
          <p:nvSpPr>
            <p:cNvPr id="1262" name="Равнобедренный треугольник 10"/>
            <p:cNvSpPr/>
            <p:nvPr/>
          </p:nvSpPr>
          <p:spPr>
            <a:xfrm>
              <a:off x="799920" y="303516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59"/>
            <p:cNvSpPr/>
            <p:nvPr/>
          </p:nvSpPr>
          <p:spPr>
            <a:xfrm>
              <a:off x="250920" y="3735360"/>
              <a:ext cx="6987960" cy="62064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не было досрочного выхода из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Rectangle 6"/>
          <p:cNvSpPr/>
          <p:nvPr/>
        </p:nvSpPr>
        <p:spPr>
          <a:xfrm>
            <a:off x="719280" y="4484520"/>
            <a:ext cx="770076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X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нашли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1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5" dur="500"/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8" dur="500"/>
                                        <p:tgtEl>
                                          <p:spTgt spid="1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1" dur="500"/>
                                        <p:tgtEl>
                                          <p:spTgt spid="1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мена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718F-47C9-4471-BBED-A3E964677C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95280" y="817560"/>
            <a:ext cx="856944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ru-RU" sz="2300" spc="-1" strike="noStrike">
                <a:solidFill>
                  <a:srgbClr val="008000"/>
                </a:solidFill>
                <a:latin typeface="Arial"/>
              </a:rPr>
              <a:t>МОЖНО</a:t>
            </a:r>
            <a:r>
              <a:rPr b="0" lang="ru-RU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атинские буквы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-Z, a-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усские буквы (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</a:rPr>
              <a:t>не рекомендуется!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27144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нак подчеркивания 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403280" y="1609560"/>
            <a:ext cx="7345440" cy="478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главные и строчные букв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различ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Text Box 7" descr=""/>
          <p:cNvPicPr/>
          <p:nvPr/>
        </p:nvPicPr>
        <p:blipFill>
          <a:blip r:embed="rId1"/>
          <a:stretch/>
        </p:blipFill>
        <p:spPr>
          <a:xfrm>
            <a:off x="304920" y="3773520"/>
            <a:ext cx="8667720" cy="1200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403280" y="2828880"/>
            <a:ext cx="7345440" cy="49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не может начинаться с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5280" y="5067360"/>
            <a:ext cx="85694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Xby    R&amp;B    4Wheel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а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“PesBarbos” TU154    [QuQu]     _ABBA    A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949-FD29-4349-80D2-AC1BF631A7B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диапазоне [100,200]. Найдите первое число в  массиве, у которого последняя цифра – 2. Если такого числа нет, вывести ответ «Не нашл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2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шли: A[4]=1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31 180 117 170 163 111 109 155 159 13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CAE-18BB-4E0D-B081-63F6AEA4A41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369720" y="809640"/>
            <a:ext cx="842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Введите число X и найдите все значения, равные 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5]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1 2 4 2 5 1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 ищ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наш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5B7-4CAB-4D06-B929-0B5C1F24AD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5"/>
          <p:cNvSpPr/>
          <p:nvPr/>
        </p:nvSpPr>
        <p:spPr>
          <a:xfrm>
            <a:off x="369720" y="809640"/>
            <a:ext cx="8420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е массив из 10 элементов случайными числами в интервале [0,5]. Найдите пару одинаковых элементов, стоящих ряд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3 4 1 5 1 3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2]=A[3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 4 2 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5 1 2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D8F3-3373-4580-9742-4DA621E87E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369720" y="80964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в массиве максимальный эле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9"/>
          <p:cNvGrpSpPr/>
          <p:nvPr/>
        </p:nvGrpSpPr>
        <p:grpSpPr>
          <a:xfrm>
            <a:off x="245880" y="1784520"/>
            <a:ext cx="1451880" cy="1888560"/>
            <a:chOff x="245880" y="1784520"/>
            <a:chExt cx="1451880" cy="1888560"/>
          </a:xfrm>
        </p:grpSpPr>
        <p:pic>
          <p:nvPicPr>
            <p:cNvPr id="1278" name="Picture 5" descr="Ученица"/>
            <p:cNvPicPr/>
            <p:nvPr/>
          </p:nvPicPr>
          <p:blipFill>
            <a:blip r:embed="rId1"/>
            <a:stretch/>
          </p:blipFill>
          <p:spPr>
            <a:xfrm flipH="1">
              <a:off x="245880" y="1784520"/>
              <a:ext cx="145188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Picture 8" descr=""/>
            <p:cNvPicPr/>
            <p:nvPr/>
          </p:nvPicPr>
          <p:blipFill>
            <a:blip r:embed="rId2"/>
            <a:stretch/>
          </p:blipFill>
          <p:spPr>
            <a:xfrm>
              <a:off x="481320" y="2629800"/>
              <a:ext cx="91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0" name="Group 28"/>
          <p:cNvGrpSpPr/>
          <p:nvPr/>
        </p:nvGrpSpPr>
        <p:grpSpPr>
          <a:xfrm>
            <a:off x="1371600" y="1819440"/>
            <a:ext cx="1452240" cy="1888560"/>
            <a:chOff x="1371600" y="1819440"/>
            <a:chExt cx="1452240" cy="1888560"/>
          </a:xfrm>
        </p:grpSpPr>
        <p:grpSp>
          <p:nvGrpSpPr>
            <p:cNvPr id="1281" name="Group 24"/>
            <p:cNvGrpSpPr/>
            <p:nvPr/>
          </p:nvGrpSpPr>
          <p:grpSpPr>
            <a:xfrm>
              <a:off x="1371600" y="1819440"/>
              <a:ext cx="1452240" cy="1888560"/>
              <a:chOff x="1371600" y="1819440"/>
              <a:chExt cx="1452240" cy="1888560"/>
            </a:xfrm>
          </p:grpSpPr>
          <p:pic>
            <p:nvPicPr>
              <p:cNvPr id="1282" name="Picture 25" descr="Ученица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71600" y="18194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Picture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6680" y="26647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4" name="Picture 27" descr="Ананас"/>
            <p:cNvPicPr/>
            <p:nvPr/>
          </p:nvPicPr>
          <p:blipFill>
            <a:blip r:embed="rId5"/>
            <a:srcRect l="7532" t="3694" r="7109" b="8776"/>
            <a:stretch/>
          </p:blipFill>
          <p:spPr>
            <a:xfrm rot="16200000">
              <a:off x="1829880" y="2454480"/>
              <a:ext cx="385560" cy="52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Group 41"/>
          <p:cNvGrpSpPr/>
          <p:nvPr/>
        </p:nvGrpSpPr>
        <p:grpSpPr>
          <a:xfrm>
            <a:off x="5832360" y="1812960"/>
            <a:ext cx="1452240" cy="1888560"/>
            <a:chOff x="5832360" y="1812960"/>
            <a:chExt cx="1452240" cy="1888560"/>
          </a:xfrm>
        </p:grpSpPr>
        <p:grpSp>
          <p:nvGrpSpPr>
            <p:cNvPr id="1286" name="Group 35"/>
            <p:cNvGrpSpPr/>
            <p:nvPr/>
          </p:nvGrpSpPr>
          <p:grpSpPr>
            <a:xfrm>
              <a:off x="5832360" y="1812960"/>
              <a:ext cx="1452240" cy="1888560"/>
              <a:chOff x="5832360" y="1812960"/>
              <a:chExt cx="1452240" cy="1888560"/>
            </a:xfrm>
          </p:grpSpPr>
          <p:pic>
            <p:nvPicPr>
              <p:cNvPr id="1287" name="Picture 36" descr="Ученица"/>
              <p:cNvPicPr/>
              <p:nvPr/>
            </p:nvPicPr>
            <p:blipFill>
              <a:blip r:embed="rId6"/>
              <a:stretch/>
            </p:blipFill>
            <p:spPr>
              <a:xfrm flipH="1">
                <a:off x="5832360" y="18129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067440" y="26582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9" name="Picture 38" descr="Ананас"/>
            <p:cNvPicPr/>
            <p:nvPr/>
          </p:nvPicPr>
          <p:blipFill>
            <a:blip r:embed="rId8"/>
            <a:srcRect l="7532" t="3694" r="7109" b="8776"/>
            <a:stretch/>
          </p:blipFill>
          <p:spPr>
            <a:xfrm rot="16200000">
              <a:off x="6050520" y="2127600"/>
              <a:ext cx="66672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0" name="Group 43"/>
          <p:cNvGrpSpPr/>
          <p:nvPr/>
        </p:nvGrpSpPr>
        <p:grpSpPr>
          <a:xfrm>
            <a:off x="2820960" y="1798560"/>
            <a:ext cx="1452240" cy="1888560"/>
            <a:chOff x="2820960" y="1798560"/>
            <a:chExt cx="1452240" cy="1888560"/>
          </a:xfrm>
        </p:grpSpPr>
        <p:grpSp>
          <p:nvGrpSpPr>
            <p:cNvPr id="1291" name="Group 29"/>
            <p:cNvGrpSpPr/>
            <p:nvPr/>
          </p:nvGrpSpPr>
          <p:grpSpPr>
            <a:xfrm>
              <a:off x="2820960" y="1798560"/>
              <a:ext cx="1452240" cy="1888560"/>
              <a:chOff x="2820960" y="1798560"/>
              <a:chExt cx="1452240" cy="1888560"/>
            </a:xfrm>
          </p:grpSpPr>
          <p:pic>
            <p:nvPicPr>
              <p:cNvPr id="1292" name="Picture 30" descr="Ученица"/>
              <p:cNvPicPr/>
              <p:nvPr/>
            </p:nvPicPr>
            <p:blipFill>
              <a:blip r:embed="rId9"/>
              <a:stretch/>
            </p:blipFill>
            <p:spPr>
              <a:xfrm flipH="1">
                <a:off x="2820960" y="179856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56040" y="264384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4" name="Picture 39" descr="Ананас"/>
            <p:cNvPicPr/>
            <p:nvPr/>
          </p:nvPicPr>
          <p:blipFill>
            <a:blip r:embed="rId11"/>
            <a:srcRect l="7532" t="3694" r="7109" b="8776"/>
            <a:stretch/>
          </p:blipFill>
          <p:spPr>
            <a:xfrm rot="16200000">
              <a:off x="3166920" y="2334600"/>
              <a:ext cx="460440" cy="62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Group 42"/>
          <p:cNvGrpSpPr/>
          <p:nvPr/>
        </p:nvGrpSpPr>
        <p:grpSpPr>
          <a:xfrm>
            <a:off x="4287960" y="1805040"/>
            <a:ext cx="1452240" cy="1888560"/>
            <a:chOff x="4287960" y="1805040"/>
            <a:chExt cx="1452240" cy="1888560"/>
          </a:xfrm>
        </p:grpSpPr>
        <p:grpSp>
          <p:nvGrpSpPr>
            <p:cNvPr id="1296" name="Group 32"/>
            <p:cNvGrpSpPr/>
            <p:nvPr/>
          </p:nvGrpSpPr>
          <p:grpSpPr>
            <a:xfrm>
              <a:off x="4287960" y="1805040"/>
              <a:ext cx="1452240" cy="1888560"/>
              <a:chOff x="4287960" y="1805040"/>
              <a:chExt cx="1452240" cy="1888560"/>
            </a:xfrm>
          </p:grpSpPr>
          <p:pic>
            <p:nvPicPr>
              <p:cNvPr id="1297" name="Picture 33" descr="Ученица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287960" y="1805040"/>
                <a:ext cx="145224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Picture 34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23040" y="2650320"/>
                <a:ext cx="91440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9" name="Picture 40" descr="Ананас"/>
            <p:cNvPicPr/>
            <p:nvPr/>
          </p:nvPicPr>
          <p:blipFill>
            <a:blip r:embed="rId14"/>
            <a:srcRect l="7532" t="3694" r="7109" b="8776"/>
            <a:stretch/>
          </p:blipFill>
          <p:spPr>
            <a:xfrm rot="16200000">
              <a:off x="4602600" y="2266200"/>
              <a:ext cx="534600" cy="7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44"/>
          <p:cNvGrpSpPr/>
          <p:nvPr/>
        </p:nvGrpSpPr>
        <p:grpSpPr>
          <a:xfrm>
            <a:off x="7375320" y="1798560"/>
            <a:ext cx="1451880" cy="1888560"/>
            <a:chOff x="7375320" y="1798560"/>
            <a:chExt cx="1451880" cy="1888560"/>
          </a:xfrm>
        </p:grpSpPr>
        <p:grpSp>
          <p:nvGrpSpPr>
            <p:cNvPr id="1301" name="Group 45"/>
            <p:cNvGrpSpPr/>
            <p:nvPr/>
          </p:nvGrpSpPr>
          <p:grpSpPr>
            <a:xfrm>
              <a:off x="7375320" y="1798560"/>
              <a:ext cx="1451880" cy="1888560"/>
              <a:chOff x="7375320" y="1798560"/>
              <a:chExt cx="1451880" cy="1888560"/>
            </a:xfrm>
          </p:grpSpPr>
          <p:pic>
            <p:nvPicPr>
              <p:cNvPr id="1302" name="Picture 46" descr="Ученица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375320" y="1798560"/>
                <a:ext cx="1451880" cy="188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10760" y="2643840"/>
                <a:ext cx="914040" cy="38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4" name="Picture 48" descr="Ананас"/>
            <p:cNvPicPr/>
            <p:nvPr/>
          </p:nvPicPr>
          <p:blipFill>
            <a:blip r:embed="rId17"/>
            <a:srcRect l="7532" t="3694" r="7109" b="8776"/>
            <a:stretch/>
          </p:blipFill>
          <p:spPr>
            <a:xfrm rot="16200000">
              <a:off x="7593480" y="2113560"/>
              <a:ext cx="666720" cy="90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5" name="Picture 10" descr="Ананас"/>
          <p:cNvPicPr/>
          <p:nvPr/>
        </p:nvPicPr>
        <p:blipFill>
          <a:blip r:embed="rId18"/>
          <a:srcRect l="7532" t="3694" r="7109" b="8776"/>
          <a:stretch/>
        </p:blipFill>
        <p:spPr>
          <a:xfrm>
            <a:off x="6157800" y="2741760"/>
            <a:ext cx="666720" cy="90324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6" descr="Ананас"/>
          <p:cNvPicPr/>
          <p:nvPr/>
        </p:nvPicPr>
        <p:blipFill>
          <a:blip r:embed="rId19"/>
          <a:srcRect l="7532" t="3694" r="7109" b="8776"/>
          <a:stretch/>
        </p:blipFill>
        <p:spPr>
          <a:xfrm>
            <a:off x="3279600" y="3019320"/>
            <a:ext cx="460440" cy="6256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7" descr="Ананас"/>
          <p:cNvPicPr/>
          <p:nvPr/>
        </p:nvPicPr>
        <p:blipFill>
          <a:blip r:embed="rId20"/>
          <a:srcRect l="7532" t="3694" r="7109" b="8776"/>
          <a:stretch/>
        </p:blipFill>
        <p:spPr>
          <a:xfrm>
            <a:off x="4657680" y="2919240"/>
            <a:ext cx="534960" cy="7257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8" descr="Ананас"/>
          <p:cNvPicPr/>
          <p:nvPr/>
        </p:nvPicPr>
        <p:blipFill>
          <a:blip r:embed="rId21"/>
          <a:srcRect l="7532" t="3694" r="7109" b="8776"/>
          <a:stretch/>
        </p:blipFill>
        <p:spPr>
          <a:xfrm>
            <a:off x="1901880" y="3121200"/>
            <a:ext cx="385560" cy="52380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9" descr="Ананас"/>
          <p:cNvPicPr/>
          <p:nvPr/>
        </p:nvPicPr>
        <p:blipFill>
          <a:blip r:embed="rId22"/>
          <a:srcRect l="7532" t="3694" r="7109" b="8776"/>
          <a:stretch/>
        </p:blipFill>
        <p:spPr>
          <a:xfrm>
            <a:off x="7642080" y="2955960"/>
            <a:ext cx="508320" cy="68904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49" descr="Ананас"/>
          <p:cNvPicPr/>
          <p:nvPr/>
        </p:nvPicPr>
        <p:blipFill>
          <a:blip r:embed="rId23"/>
          <a:srcRect l="3695" t="7111" r="8778" b="7534"/>
          <a:stretch/>
        </p:blipFill>
        <p:spPr>
          <a:xfrm>
            <a:off x="4070520" y="3174840"/>
            <a:ext cx="625320" cy="4604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50" descr="Ананас"/>
          <p:cNvPicPr/>
          <p:nvPr/>
        </p:nvPicPr>
        <p:blipFill>
          <a:blip r:embed="rId24"/>
          <a:srcRect l="3695" t="7111" r="8778" b="7534"/>
          <a:stretch/>
        </p:blipFill>
        <p:spPr>
          <a:xfrm>
            <a:off x="5468760" y="3098880"/>
            <a:ext cx="725760" cy="5349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51" descr="Ананас"/>
          <p:cNvPicPr/>
          <p:nvPr/>
        </p:nvPicPr>
        <p:blipFill>
          <a:blip r:embed="rId25"/>
          <a:srcRect l="3670" t="7154" r="8785" b="7552"/>
          <a:stretch/>
        </p:blipFill>
        <p:spPr>
          <a:xfrm>
            <a:off x="2811600" y="3265560"/>
            <a:ext cx="523800" cy="385560"/>
          </a:xfrm>
          <a:prstGeom prst="rect">
            <a:avLst/>
          </a:prstGeom>
          <a:ln w="0">
            <a:noFill/>
          </a:ln>
        </p:spPr>
      </p:pic>
      <p:sp>
        <p:nvSpPr>
          <p:cNvPr id="1313" name="AutoShape 20"/>
          <p:cNvSpPr/>
          <p:nvPr/>
        </p:nvSpPr>
        <p:spPr>
          <a:xfrm rot="10800000">
            <a:off x="2970360" y="1782000"/>
            <a:ext cx="568152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1"/>
          <p:cNvSpPr/>
          <p:nvPr/>
        </p:nvSpPr>
        <p:spPr>
          <a:xfrm rot="10800000">
            <a:off x="4265640" y="1782000"/>
            <a:ext cx="438480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2"/>
          <p:cNvSpPr/>
          <p:nvPr/>
        </p:nvSpPr>
        <p:spPr>
          <a:xfrm rot="10800000">
            <a:off x="5665320" y="1782000"/>
            <a:ext cx="298476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23"/>
          <p:cNvSpPr/>
          <p:nvPr/>
        </p:nvSpPr>
        <p:spPr>
          <a:xfrm rot="10800000">
            <a:off x="7345080" y="1782360"/>
            <a:ext cx="1306440" cy="185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Прямоугольник 45"/>
          <p:cNvSpPr/>
          <p:nvPr/>
        </p:nvSpPr>
        <p:spPr>
          <a:xfrm>
            <a:off x="406440" y="3797280"/>
            <a:ext cx="85215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читаем, что первый элемент – максималь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мотреть остальные элементы массива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очередной элемен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то записать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вести значе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2" dur="indefinite" restart="never" nodeType="tmRoot">
          <p:childTnLst>
            <p:seq>
              <p:cTn id="3833" dur="indefinite" nodeType="mainSeq">
                <p:childTnLst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3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6" fill="hold">
                      <p:stCondLst>
                        <p:cond delay="indefinite"/>
                      </p:stCondLst>
                      <p:childTnLst>
                        <p:par>
                          <p:cTn id="3867" fill="hold">
                            <p:stCondLst>
                              <p:cond delay="0"/>
                            </p:stCondLst>
                            <p:childTnLst>
                              <p:par>
                                <p:cTn id="3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0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6" dur="500"/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B3B2-3040-48BA-99EE-F9C8A097B9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490680" y="936720"/>
            <a:ext cx="4708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[i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M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490680" y="3433680"/>
            <a:ext cx="4728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55"/>
          <p:cNvGrpSpPr/>
          <p:nvPr/>
        </p:nvGrpSpPr>
        <p:grpSpPr>
          <a:xfrm>
            <a:off x="4516560" y="3983040"/>
            <a:ext cx="4149720" cy="663480"/>
            <a:chOff x="4516560" y="3983040"/>
            <a:chExt cx="4149720" cy="663480"/>
          </a:xfrm>
        </p:grpSpPr>
        <p:sp>
          <p:nvSpPr>
            <p:cNvPr id="1323" name="Text Box 56"/>
            <p:cNvSpPr/>
            <p:nvPr/>
          </p:nvSpPr>
          <p:spPr>
            <a:xfrm>
              <a:off x="4983480" y="4089240"/>
              <a:ext cx="3682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его номер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57"/>
            <p:cNvSpPr/>
            <p:nvPr/>
          </p:nvSpPr>
          <p:spPr>
            <a:xfrm>
              <a:off x="4516560" y="398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5"/>
          <p:cNvSpPr/>
          <p:nvPr/>
        </p:nvSpPr>
        <p:spPr>
          <a:xfrm>
            <a:off x="240840" y="29527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ы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490680" y="5135400"/>
            <a:ext cx="4728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55"/>
          <p:cNvGrpSpPr/>
          <p:nvPr/>
        </p:nvGrpSpPr>
        <p:grpSpPr>
          <a:xfrm>
            <a:off x="3614760" y="1887480"/>
            <a:ext cx="3357720" cy="663480"/>
            <a:chOff x="3614760" y="1887480"/>
            <a:chExt cx="3357720" cy="663480"/>
          </a:xfrm>
        </p:grpSpPr>
        <p:sp>
          <p:nvSpPr>
            <p:cNvPr id="1328" name="Text Box 56"/>
            <p:cNvSpPr/>
            <p:nvPr/>
          </p:nvSpPr>
          <p:spPr>
            <a:xfrm>
              <a:off x="4081680" y="1993680"/>
              <a:ext cx="2890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57"/>
            <p:cNvSpPr/>
            <p:nvPr/>
          </p:nvSpPr>
          <p:spPr>
            <a:xfrm>
              <a:off x="3614760" y="1887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2" dur="indefinite" restart="never" nodeType="tmRoot">
          <p:childTnLst>
            <p:seq>
              <p:cTn id="3973" dur="indefinite" nodeType="mainSeq">
                <p:childTnLst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1" dur="500"/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1" dur="500"/>
                                        <p:tgtEl>
                                          <p:spTgt spid="1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4" dur="500"/>
                                        <p:tgtEl>
                                          <p:spTgt spid="1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9" dur="500"/>
                                        <p:tgtEl>
                                          <p:spTgt spid="1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B805-A5CA-4952-ACEB-22C2D1639D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Группа 8"/>
          <p:cNvGrpSpPr/>
          <p:nvPr/>
        </p:nvGrpSpPr>
        <p:grpSpPr>
          <a:xfrm>
            <a:off x="515880" y="1020600"/>
            <a:ext cx="7980480" cy="2288520"/>
            <a:chOff x="515880" y="1020600"/>
            <a:chExt cx="7980480" cy="2288520"/>
          </a:xfrm>
        </p:grpSpPr>
        <p:sp>
          <p:nvSpPr>
            <p:cNvPr id="1333" name="Rectangle 6"/>
            <p:cNvSpPr/>
            <p:nvPr/>
          </p:nvSpPr>
          <p:spPr>
            <a:xfrm>
              <a:off x="515880" y="1020600"/>
              <a:ext cx="7980480" cy="2288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]; nMax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for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 </a:t>
              </a:r>
              <a:r>
                <a:rPr b="1" lang="ru-RU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n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range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1" lang="ru-RU" sz="2400" spc="-1" strike="noStrike">
                  <a:solidFill>
                    <a:srgbClr val="00b0f0"/>
                  </a:solidFill>
                  <a:latin typeface="Courier New"/>
                  <a:ea typeface="Times New Roman"/>
                </a:rPr>
                <a:t>1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N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99"/>
                  </a:solidFill>
                  <a:latin typeface="Courier New"/>
                  <a:ea typeface="Times New Roman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A[i]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[i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90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Times New Roman"/>
                </a:rPr>
                <a:t>print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A[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nMax,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]=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, M, sep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c00000"/>
                  </a:solidFill>
                  <a:latin typeface="Courier New"/>
                  <a:ea typeface="Times New Roman"/>
                </a:rPr>
                <a:t>""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Прямоугольник 6"/>
            <p:cNvSpPr/>
            <p:nvPr/>
          </p:nvSpPr>
          <p:spPr>
            <a:xfrm>
              <a:off x="2189880" y="1047240"/>
              <a:ext cx="17978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b0f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Прямоугольник 7"/>
            <p:cNvSpPr/>
            <p:nvPr/>
          </p:nvSpPr>
          <p:spPr>
            <a:xfrm>
              <a:off x="1334160" y="2522160"/>
              <a:ext cx="17996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nMa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Group 55"/>
          <p:cNvGrpSpPr/>
          <p:nvPr/>
        </p:nvGrpSpPr>
        <p:grpSpPr>
          <a:xfrm>
            <a:off x="4516560" y="1925640"/>
            <a:ext cx="3976200" cy="663480"/>
            <a:chOff x="4516560" y="1925640"/>
            <a:chExt cx="3976200" cy="663480"/>
          </a:xfrm>
        </p:grpSpPr>
        <p:sp>
          <p:nvSpPr>
            <p:cNvPr id="1337" name="Text Box 56"/>
            <p:cNvSpPr/>
            <p:nvPr/>
          </p:nvSpPr>
          <p:spPr>
            <a:xfrm>
              <a:off x="4983120" y="2031840"/>
              <a:ext cx="3509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ожно улучш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57"/>
            <p:cNvSpPr/>
            <p:nvPr/>
          </p:nvSpPr>
          <p:spPr>
            <a:xfrm>
              <a:off x="4516560" y="19256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Group 55"/>
          <p:cNvGrpSpPr/>
          <p:nvPr/>
        </p:nvGrpSpPr>
        <p:grpSpPr>
          <a:xfrm>
            <a:off x="938160" y="3468600"/>
            <a:ext cx="7267680" cy="663480"/>
            <a:chOff x="938160" y="3468600"/>
            <a:chExt cx="7267680" cy="663480"/>
          </a:xfrm>
        </p:grpSpPr>
        <p:sp>
          <p:nvSpPr>
            <p:cNvPr id="1340" name="Text Box 56"/>
            <p:cNvSpPr/>
            <p:nvPr/>
          </p:nvSpPr>
          <p:spPr>
            <a:xfrm>
              <a:off x="1405080" y="3574800"/>
              <a:ext cx="6800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номеру элемента можно найти значени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57"/>
            <p:cNvSpPr/>
            <p:nvPr/>
          </p:nvSpPr>
          <p:spPr>
            <a:xfrm>
              <a:off x="938160" y="3468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2" name="Группа 7" descr=""/>
          <p:cNvPicPr/>
          <p:nvPr/>
        </p:nvPicPr>
        <p:blipFill>
          <a:blip r:embed="rId1"/>
          <a:stretch/>
        </p:blipFill>
        <p:spPr>
          <a:xfrm>
            <a:off x="517680" y="4237200"/>
            <a:ext cx="8510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1" dur="indefinite" restart="never" nodeType="tmRoot">
          <p:childTnLst>
            <p:seq>
              <p:cTn id="4022" dur="indefinite" nodeType="mainSeq">
                <p:childTnLst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ксимальный элемент и его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551A-7EBF-4532-8C87-5DD13CB8BED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490680" y="1279440"/>
            <a:ext cx="82724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a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de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[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Max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]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, se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Прямоугольник 5"/>
          <p:cNvSpPr/>
          <p:nvPr/>
        </p:nvSpPr>
        <p:spPr>
          <a:xfrm>
            <a:off x="240120" y="831960"/>
            <a:ext cx="42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ариант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Группа 12"/>
          <p:cNvGrpSpPr/>
          <p:nvPr/>
        </p:nvGrpSpPr>
        <p:grpSpPr>
          <a:xfrm>
            <a:off x="2270160" y="1994040"/>
            <a:ext cx="3940200" cy="1485720"/>
            <a:chOff x="2270160" y="1994040"/>
            <a:chExt cx="3940200" cy="1485720"/>
          </a:xfrm>
        </p:grpSpPr>
        <p:sp>
          <p:nvSpPr>
            <p:cNvPr id="1348" name="Равнобедренный треугольник 13"/>
            <p:cNvSpPr/>
            <p:nvPr/>
          </p:nvSpPr>
          <p:spPr>
            <a:xfrm>
              <a:off x="2819160" y="1994040"/>
              <a:ext cx="266400" cy="736560"/>
            </a:xfrm>
            <a:prstGeom prst="triangle">
              <a:avLst>
                <a:gd name="adj" fmla="val 50000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AutoShape 59"/>
            <p:cNvSpPr/>
            <p:nvPr/>
          </p:nvSpPr>
          <p:spPr>
            <a:xfrm>
              <a:off x="2270160" y="2693880"/>
              <a:ext cx="3940200" cy="785880"/>
            </a:xfrm>
            <a:prstGeom prst="wedgeRoundRectCallout">
              <a:avLst>
                <a:gd name="adj1" fmla="val -26625"/>
                <a:gd name="adj2" fmla="val -5097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мер заданного элемента (первого из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3" dur="indefinite" restart="never" nodeType="tmRoot">
          <p:childTnLst>
            <p:seq>
              <p:cTn id="4044" dur="indefinite" nodeType="mainSeq">
                <p:childTnLst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2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7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5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466-D7C1-4F5A-8158-198377D067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элемент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его но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36D-FA63-4738-A5E9-9B21F23341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6]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[9]=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1578-EB24-4434-82F4-F4275BD146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"/>
          <p:cNvSpPr/>
          <p:nvPr/>
        </p:nvSpPr>
        <p:spPr>
          <a:xfrm>
            <a:off x="369720" y="7970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олнить массив из 10 элементов случайными числами в интервал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10,100]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йти минимальный и максимальный элементы и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лементов масс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9 52 84 77 45 32 19 38 49 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инимальный чётный: 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чёт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36EB-F8FE-497C-B4A4-CCC6C00D74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53960" y="8920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569880" y="180792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in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4329000" y="1503360"/>
            <a:ext cx="3395880" cy="646200"/>
          </a:xfrm>
          <a:prstGeom prst="wedgeRoundRectCallout">
            <a:avLst>
              <a:gd name="adj1" fmla="val -74504"/>
              <a:gd name="adj2" fmla="val 36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453960" y="224784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69880" y="317484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340160" y="2847960"/>
            <a:ext cx="3394080" cy="646200"/>
          </a:xfrm>
          <a:prstGeom prst="wedgeRoundRectCallout">
            <a:avLst>
              <a:gd name="adj1" fmla="val -65944"/>
              <a:gd name="adj2" fmla="val 46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53960" y="368928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ася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569880" y="46162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297320" y="4386240"/>
            <a:ext cx="3394080" cy="64620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453960" y="5097600"/>
            <a:ext cx="39466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ype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569880" y="602532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lass 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l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232160" y="5838840"/>
            <a:ext cx="2114640" cy="573120"/>
          </a:xfrm>
          <a:prstGeom prst="wedgeRoundRectCallout">
            <a:avLst>
              <a:gd name="adj1" fmla="val -77037"/>
              <a:gd name="adj2" fmla="val 24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ез функци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E459-7977-49DB-9E30-C605759AEA6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5"/>
          <p:cNvSpPr/>
          <p:nvPr/>
        </p:nvSpPr>
        <p:spPr>
          <a:xfrm>
            <a:off x="369720" y="8254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массив из 5 элементов и найти два максимальных элемента массива и их ном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5 5 3 4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ый элемент: A[1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торой максимум: A[2]=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117-4E9D-461A-B70D-D4B2DDD364B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дите массив с клавиатуры и найдите (за один проход) количество элементов, имеющих максимальное зна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сси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 4 5 5 3 4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ксимальное значение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элементов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2BF-074F-4664-94EC-8B50575969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Прямоугольник 4"/>
          <p:cNvSpPr/>
          <p:nvPr/>
        </p:nvSpPr>
        <p:spPr>
          <a:xfrm>
            <a:off x="162000" y="241308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ен тип перемен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FBD9-7F3E-455D-9C63-89B814949B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392040" y="820800"/>
            <a:ext cx="841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опреде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допустимых 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оп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хране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исать значение в переменну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A1B-1633-45A9-890B-10B1010C4D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39640" y="223344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846000" y="1039680"/>
            <a:ext cx="2332080" cy="946440"/>
          </a:xfrm>
          <a:prstGeom prst="wedgeRoundRectCallout">
            <a:avLst>
              <a:gd name="adj1" fmla="val -33981"/>
              <a:gd name="adj2" fmla="val 798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3583080" y="934920"/>
            <a:ext cx="5195880" cy="931680"/>
            <a:chOff x="3583080" y="934920"/>
            <a:chExt cx="5195880" cy="931680"/>
          </a:xfrm>
        </p:grpSpPr>
        <p:sp>
          <p:nvSpPr>
            <p:cNvPr id="273" name="Text Box 56"/>
            <p:cNvSpPr/>
            <p:nvPr/>
          </p:nvSpPr>
          <p:spPr>
            <a:xfrm>
              <a:off x="4050000" y="1041120"/>
              <a:ext cx="47289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 записи нового значени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старое удаляется из памят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7"/>
            <p:cNvSpPr/>
            <p:nvPr/>
          </p:nvSpPr>
          <p:spPr>
            <a:xfrm>
              <a:off x="3583080" y="934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Овал 10"/>
          <p:cNvSpPr/>
          <p:nvPr/>
        </p:nvSpPr>
        <p:spPr>
          <a:xfrm>
            <a:off x="4334040" y="22604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11"/>
          <p:cNvSpPr/>
          <p:nvPr/>
        </p:nvSpPr>
        <p:spPr>
          <a:xfrm>
            <a:off x="893880" y="2259000"/>
            <a:ext cx="533160" cy="479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96720" y="3716280"/>
            <a:ext cx="8614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анда языка программирования (инстру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ератор присва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команда для присваивания нового значения пере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3056040" y="2181240"/>
            <a:ext cx="52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олилиния 14"/>
          <p:cNvSpPr/>
          <p:nvPr/>
        </p:nvSpPr>
        <p:spPr>
          <a:xfrm>
            <a:off x="3571920" y="253836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9640" y="2911320"/>
            <a:ext cx="1608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6"/>
          <p:cNvSpPr/>
          <p:nvPr/>
        </p:nvSpPr>
        <p:spPr>
          <a:xfrm>
            <a:off x="4334040" y="2906640"/>
            <a:ext cx="46800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олилиния 17"/>
          <p:cNvSpPr/>
          <p:nvPr/>
        </p:nvSpPr>
        <p:spPr>
          <a:xfrm flipV="1">
            <a:off x="3560760" y="2657520"/>
            <a:ext cx="795240" cy="473040"/>
          </a:xfrm>
          <a:custGeom>
            <a:avLst/>
            <a:gdLst>
              <a:gd name="textAreaLeft" fmla="*/ 0 w 795240"/>
              <a:gd name="textAreaRight" fmla="*/ 795600 w 795240"/>
              <a:gd name="textAreaTop" fmla="*/ 360 h 473040"/>
              <a:gd name="textAreaBottom" fmla="*/ 473760 h 473040"/>
            </a:gdLst>
            <a:ahLst/>
            <a:rect l="textAreaLeft" t="textAreaTop" r="textAreaRight" b="textAreaBottom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люс 20"/>
          <p:cNvSpPr/>
          <p:nvPr/>
        </p:nvSpPr>
        <p:spPr>
          <a:xfrm rot="18900000">
            <a:off x="4033800" y="1957320"/>
            <a:ext cx="1076400" cy="1076400"/>
          </a:xfrm>
          <a:custGeom>
            <a:avLst/>
            <a:gdLst>
              <a:gd name="textAreaLeft" fmla="*/ 142560 w 1076400"/>
              <a:gd name="textAreaRight" fmla="*/ 933840 w 1076400"/>
              <a:gd name="textAreaTop" fmla="*/ 497880 h 1076400"/>
              <a:gd name="textAreaBottom" fmla="*/ 578520 h 1076400"/>
            </a:gdLst>
            <a:ahLst/>
            <a:rect l="textAreaLeft" t="textAreaTop" r="textAreaRight" b="textAreaBottom"/>
            <a:pathLst>
              <a:path w="1076325" h="1076325">
                <a:moveTo>
                  <a:pt x="142667" y="497693"/>
                </a:moveTo>
                <a:lnTo>
                  <a:pt x="497693" y="497693"/>
                </a:lnTo>
                <a:lnTo>
                  <a:pt x="497693" y="142667"/>
                </a:lnTo>
                <a:lnTo>
                  <a:pt x="578632" y="142667"/>
                </a:lnTo>
                <a:lnTo>
                  <a:pt x="578632" y="497693"/>
                </a:lnTo>
                <a:lnTo>
                  <a:pt x="933658" y="497693"/>
                </a:lnTo>
                <a:lnTo>
                  <a:pt x="933658" y="578632"/>
                </a:lnTo>
                <a:lnTo>
                  <a:pt x="578632" y="578632"/>
                </a:lnTo>
                <a:lnTo>
                  <a:pt x="578632" y="933658"/>
                </a:lnTo>
                <a:lnTo>
                  <a:pt x="497693" y="933658"/>
                </a:lnTo>
                <a:lnTo>
                  <a:pt x="497693" y="578632"/>
                </a:lnTo>
                <a:lnTo>
                  <a:pt x="142667" y="5786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DB9E-5110-4B72-B247-9FFAFD8D73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55"/>
          <p:cNvGrpSpPr/>
          <p:nvPr/>
        </p:nvGrpSpPr>
        <p:grpSpPr>
          <a:xfrm>
            <a:off x="689040" y="2876400"/>
            <a:ext cx="7560720" cy="1800360"/>
            <a:chOff x="689040" y="2876400"/>
            <a:chExt cx="7560720" cy="1800360"/>
          </a:xfrm>
        </p:grpSpPr>
        <p:sp>
          <p:nvSpPr>
            <p:cNvPr id="287" name="Text Box 56"/>
            <p:cNvSpPr/>
            <p:nvPr/>
          </p:nvSpPr>
          <p:spPr>
            <a:xfrm>
              <a:off x="1155600" y="2982600"/>
              <a:ext cx="7094160" cy="1694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ждет, пока пользователь введет значение и нажме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35892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веденное значение записывается в переменную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связывается с имен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57"/>
            <p:cNvSpPr/>
            <p:nvPr/>
          </p:nvSpPr>
          <p:spPr>
            <a:xfrm>
              <a:off x="689040" y="2876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2" descr=""/>
          <p:cNvPicPr/>
          <p:nvPr/>
        </p:nvPicPr>
        <p:blipFill>
          <a:blip r:embed="rId1"/>
          <a:srcRect l="0" t="17069" r="0" b="16358"/>
          <a:stretch/>
        </p:blipFill>
        <p:spPr>
          <a:xfrm>
            <a:off x="4376880" y="1203480"/>
            <a:ext cx="1914480" cy="1272960"/>
          </a:xfrm>
          <a:prstGeom prst="rect">
            <a:avLst/>
          </a:prstGeom>
          <a:ln w="0">
            <a:noFill/>
          </a:ln>
        </p:spPr>
      </p:pic>
      <p:sp>
        <p:nvSpPr>
          <p:cNvPr id="290" name="Полилиния 11"/>
          <p:cNvSpPr/>
          <p:nvPr/>
        </p:nvSpPr>
        <p:spPr>
          <a:xfrm>
            <a:off x="2577960" y="960480"/>
            <a:ext cx="2513160" cy="704880"/>
          </a:xfrm>
          <a:custGeom>
            <a:avLst/>
            <a:gdLst>
              <a:gd name="textAreaLeft" fmla="*/ 0 w 2513160"/>
              <a:gd name="textAreaRight" fmla="*/ 2513520 w 25131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2513162" h="705971">
                <a:moveTo>
                  <a:pt x="2513162" y="665714"/>
                </a:moveTo>
                <a:cubicBezTo>
                  <a:pt x="1492532" y="0"/>
                  <a:pt x="654811" y="282916"/>
                  <a:pt x="0" y="7059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12"/>
          <p:cNvSpPr/>
          <p:nvPr/>
        </p:nvSpPr>
        <p:spPr>
          <a:xfrm>
            <a:off x="2108160" y="1574640"/>
            <a:ext cx="468360" cy="4683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4"/>
          <p:cNvSpPr/>
          <p:nvPr/>
        </p:nvSpPr>
        <p:spPr>
          <a:xfrm>
            <a:off x="797040" y="1523880"/>
            <a:ext cx="528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5"/>
          <p:cNvSpPr/>
          <p:nvPr/>
        </p:nvSpPr>
        <p:spPr>
          <a:xfrm>
            <a:off x="1312920" y="1851120"/>
            <a:ext cx="752400" cy="360"/>
          </a:xfrm>
          <a:custGeom>
            <a:avLst/>
            <a:gdLst/>
            <a:ahLst/>
            <a:rect l="l" t="t" r="r" b="b"/>
            <a:pathLst>
              <a:path w="753035" h="10757">
                <a:moveTo>
                  <a:pt x="0" y="10757"/>
                </a:moveTo>
                <a:lnTo>
                  <a:pt x="75303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значения с клавиат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6AF-FD48-4513-A780-C99C955CDF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90600" y="91584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459240" y="895320"/>
            <a:ext cx="4329000" cy="80496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 и связать с переменн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90600" y="158256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90600" y="225108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90600" y="2917800"/>
            <a:ext cx="25891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14880" y="1879560"/>
            <a:ext cx="266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2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5"/>
          <p:cNvGrpSpPr/>
          <p:nvPr/>
        </p:nvGrpSpPr>
        <p:grpSpPr>
          <a:xfrm>
            <a:off x="4950000" y="2822400"/>
            <a:ext cx="2204640" cy="663480"/>
            <a:chOff x="4950000" y="2822400"/>
            <a:chExt cx="2204640" cy="663480"/>
          </a:xfrm>
        </p:grpSpPr>
        <p:sp>
          <p:nvSpPr>
            <p:cNvPr id="303" name="Text Box 56"/>
            <p:cNvSpPr/>
            <p:nvPr/>
          </p:nvSpPr>
          <p:spPr>
            <a:xfrm>
              <a:off x="5416560" y="2928600"/>
              <a:ext cx="1738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57"/>
            <p:cNvSpPr/>
            <p:nvPr/>
          </p:nvSpPr>
          <p:spPr>
            <a:xfrm>
              <a:off x="4950000" y="2822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689040" y="3651120"/>
            <a:ext cx="7560720" cy="663480"/>
            <a:chOff x="689040" y="3651120"/>
            <a:chExt cx="7560720" cy="663480"/>
          </a:xfrm>
        </p:grpSpPr>
        <p:sp>
          <p:nvSpPr>
            <p:cNvPr id="306" name="Text Box 56"/>
            <p:cNvSpPr/>
            <p:nvPr/>
          </p:nvSpPr>
          <p:spPr>
            <a:xfrm>
              <a:off x="1155600" y="3757320"/>
              <a:ext cx="7094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зультат функции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p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трока символ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7"/>
            <p:cNvSpPr/>
            <p:nvPr/>
          </p:nvSpPr>
          <p:spPr>
            <a:xfrm>
              <a:off x="689040" y="3651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7"/>
          <p:cNvSpPr/>
          <p:nvPr/>
        </p:nvSpPr>
        <p:spPr>
          <a:xfrm>
            <a:off x="3156120" y="513396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156120" y="5800680"/>
            <a:ext cx="4039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297080" y="4379760"/>
            <a:ext cx="2639880" cy="804960"/>
          </a:xfrm>
          <a:prstGeom prst="wedgeRoundRectCallout">
            <a:avLst>
              <a:gd name="adj1" fmla="val 61342"/>
              <a:gd name="adj2" fmla="val 59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в цел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с подсказ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5D0B-7EFA-4DD0-94BD-ACC975034C6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927000"/>
            <a:ext cx="699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5353200" y="1527120"/>
            <a:ext cx="1919160" cy="484200"/>
          </a:xfrm>
          <a:prstGeom prst="wedgeRoundRectCallout">
            <a:avLst>
              <a:gd name="adj1" fmla="val -44888"/>
              <a:gd name="adj2" fmla="val -891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43"/>
          <p:cNvSpPr/>
          <p:nvPr/>
        </p:nvSpPr>
        <p:spPr>
          <a:xfrm>
            <a:off x="419040" y="148284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ведите чис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44"/>
          <p:cNvSpPr/>
          <p:nvPr/>
        </p:nvSpPr>
        <p:spPr>
          <a:xfrm>
            <a:off x="3592440" y="148284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5"/>
          <p:cNvGrpSpPr/>
          <p:nvPr/>
        </p:nvGrpSpPr>
        <p:grpSpPr>
          <a:xfrm>
            <a:off x="1335240" y="2101680"/>
            <a:ext cx="2538000" cy="663480"/>
            <a:chOff x="1335240" y="2101680"/>
            <a:chExt cx="2538000" cy="663480"/>
          </a:xfrm>
        </p:grpSpPr>
        <p:sp>
          <p:nvSpPr>
            <p:cNvPr id="318" name="Text Box 56"/>
            <p:cNvSpPr/>
            <p:nvPr/>
          </p:nvSpPr>
          <p:spPr>
            <a:xfrm>
              <a:off x="1801800" y="2207880"/>
              <a:ext cx="207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не так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57"/>
            <p:cNvSpPr/>
            <p:nvPr/>
          </p:nvSpPr>
          <p:spPr>
            <a:xfrm>
              <a:off x="1335240" y="210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7"/>
          <p:cNvSpPr/>
          <p:nvPr/>
        </p:nvSpPr>
        <p:spPr>
          <a:xfrm>
            <a:off x="380880" y="2981160"/>
            <a:ext cx="7859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число: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значений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1373-A4B1-4A11-A3CF-365113DC8C7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06440" y="954000"/>
            <a:ext cx="448776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(a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*(b –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 +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163160" y="3884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2278080" y="396720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163160" y="4348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809800" y="444168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5"/>
          <p:cNvSpPr/>
          <p:nvPr/>
        </p:nvSpPr>
        <p:spPr>
          <a:xfrm>
            <a:off x="1550880" y="413712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278080" y="443088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1550880" y="4599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278080" y="35258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2809800" y="3538440"/>
            <a:ext cx="20750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5+2)*(7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1550880" y="371160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люс 35"/>
          <p:cNvSpPr/>
          <p:nvPr/>
        </p:nvSpPr>
        <p:spPr>
          <a:xfrm rot="2700000">
            <a:off x="2182320" y="3827520"/>
            <a:ext cx="638280" cy="638280"/>
          </a:xfrm>
          <a:custGeom>
            <a:avLst/>
            <a:gdLst>
              <a:gd name="textAreaLeft" fmla="*/ 84600 w 638280"/>
              <a:gd name="textAreaRight" fmla="*/ 553680 w 63828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8175" h="638175">
                <a:moveTo>
                  <a:pt x="84590" y="299802"/>
                </a:moveTo>
                <a:lnTo>
                  <a:pt x="299802" y="299802"/>
                </a:lnTo>
                <a:lnTo>
                  <a:pt x="299802" y="84590"/>
                </a:lnTo>
                <a:lnTo>
                  <a:pt x="338373" y="84590"/>
                </a:lnTo>
                <a:lnTo>
                  <a:pt x="338373" y="299802"/>
                </a:lnTo>
                <a:lnTo>
                  <a:pt x="553585" y="299802"/>
                </a:lnTo>
                <a:lnTo>
                  <a:pt x="553585" y="338373"/>
                </a:lnTo>
                <a:lnTo>
                  <a:pt x="338373" y="338373"/>
                </a:lnTo>
                <a:lnTo>
                  <a:pt x="338373" y="553585"/>
                </a:lnTo>
                <a:lnTo>
                  <a:pt x="299802" y="553585"/>
                </a:lnTo>
                <a:lnTo>
                  <a:pt x="299802" y="338373"/>
                </a:lnTo>
                <a:lnTo>
                  <a:pt x="84590" y="3383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809800" y="4883040"/>
            <a:ext cx="8701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2278080" y="4870440"/>
            <a:ext cx="442800" cy="3412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1550880" y="4603680"/>
            <a:ext cx="730440" cy="425520"/>
          </a:xfrm>
          <a:prstGeom prst="line">
            <a:avLst/>
          </a:prstGeom>
          <a:ln w="1260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люс 39"/>
          <p:cNvSpPr/>
          <p:nvPr/>
        </p:nvSpPr>
        <p:spPr>
          <a:xfrm rot="2700000">
            <a:off x="2183040" y="4300920"/>
            <a:ext cx="636840" cy="638280"/>
          </a:xfrm>
          <a:custGeom>
            <a:avLst/>
            <a:gdLst>
              <a:gd name="textAreaLeft" fmla="*/ 84240 w 636840"/>
              <a:gd name="textAreaRight" fmla="*/ 552600 w 636840"/>
              <a:gd name="textAreaTop" fmla="*/ 299880 h 638280"/>
              <a:gd name="textAreaBottom" fmla="*/ 338400 h 638280"/>
            </a:gdLst>
            <a:ahLst/>
            <a:rect l="textAreaLeft" t="textAreaTop" r="textAreaRight" b="textAreaBottom"/>
            <a:pathLst>
              <a:path w="636588" h="638175">
                <a:moveTo>
                  <a:pt x="84380" y="299850"/>
                </a:moveTo>
                <a:lnTo>
                  <a:pt x="299056" y="299850"/>
                </a:lnTo>
                <a:lnTo>
                  <a:pt x="299056" y="84590"/>
                </a:lnTo>
                <a:lnTo>
                  <a:pt x="337532" y="84590"/>
                </a:lnTo>
                <a:lnTo>
                  <a:pt x="337532" y="299850"/>
                </a:lnTo>
                <a:lnTo>
                  <a:pt x="552208" y="299850"/>
                </a:lnTo>
                <a:lnTo>
                  <a:pt x="552208" y="338325"/>
                </a:lnTo>
                <a:lnTo>
                  <a:pt x="337532" y="338325"/>
                </a:lnTo>
                <a:lnTo>
                  <a:pt x="337532" y="553585"/>
                </a:lnTo>
                <a:lnTo>
                  <a:pt x="299056" y="553585"/>
                </a:lnTo>
                <a:lnTo>
                  <a:pt x="299056" y="338325"/>
                </a:lnTo>
                <a:lnTo>
                  <a:pt x="84380" y="3383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2120" y="4358880"/>
            <a:ext cx="761976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 и его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2812-EFA2-441C-A34A-1FA6BFA4D8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2063-BE32-4789-8E2B-5F2FD404BB0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41360" y="927000"/>
            <a:ext cx="374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686480" y="871560"/>
            <a:ext cx="2273040" cy="6984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пе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41360" y="1744560"/>
            <a:ext cx="4991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7"/>
          <p:cNvSpPr/>
          <p:nvPr/>
        </p:nvSpPr>
        <p:spPr>
          <a:xfrm>
            <a:off x="5902200" y="1763640"/>
            <a:ext cx="227340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Группа 16"/>
          <p:cNvGrpSpPr/>
          <p:nvPr/>
        </p:nvGrpSpPr>
        <p:grpSpPr>
          <a:xfrm>
            <a:off x="1381680" y="2308320"/>
            <a:ext cx="4326120" cy="739800"/>
            <a:chOff x="1381680" y="2308320"/>
            <a:chExt cx="4326120" cy="739800"/>
          </a:xfrm>
        </p:grpSpPr>
        <p:sp>
          <p:nvSpPr>
            <p:cNvPr id="346" name="Левая фигурная скобка 11"/>
            <p:cNvSpPr/>
            <p:nvPr/>
          </p:nvSpPr>
          <p:spPr>
            <a:xfrm rot="16200000">
              <a:off x="3388680" y="1248480"/>
              <a:ext cx="311760" cy="2431080"/>
            </a:xfrm>
            <a:custGeom>
              <a:avLst/>
              <a:gdLst>
                <a:gd name="textAreaLeft" fmla="*/ 199080 w 311760"/>
                <a:gd name="textAreaRight" fmla="*/ 312120 w 311760"/>
                <a:gd name="textAreaTop" fmla="*/ 54000 h 2431080"/>
                <a:gd name="textAreaBottom" fmla="*/ 2377080 h 243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71"/>
                    <a:pt x="10800" y="1541"/>
                  </a:cubicBezTo>
                  <a:lnTo>
                    <a:pt x="10800" y="9259"/>
                  </a:lnTo>
                  <a:cubicBezTo>
                    <a:pt x="10800" y="10030"/>
                    <a:pt x="5400" y="10800"/>
                    <a:pt x="0" y="10800"/>
                  </a:cubicBezTo>
                  <a:cubicBezTo>
                    <a:pt x="5400" y="10800"/>
                    <a:pt x="10800" y="11571"/>
                    <a:pt x="10800" y="12341"/>
                  </a:cubicBezTo>
                  <a:lnTo>
                    <a:pt x="10800" y="20059"/>
                  </a:lnTo>
                  <a:cubicBezTo>
                    <a:pt x="10800" y="2083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оугольник 15"/>
            <p:cNvSpPr/>
            <p:nvPr/>
          </p:nvSpPr>
          <p:spPr>
            <a:xfrm>
              <a:off x="1381680" y="2588400"/>
              <a:ext cx="43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еречисление через запят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7"/>
          <p:cNvSpPr/>
          <p:nvPr/>
        </p:nvSpPr>
        <p:spPr>
          <a:xfrm>
            <a:off x="441360" y="3251160"/>
            <a:ext cx="5454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6438960" y="3205080"/>
            <a:ext cx="2274840" cy="700200"/>
          </a:xfrm>
          <a:prstGeom prst="wedgeRoundRectCallout">
            <a:avLst>
              <a:gd name="adj1" fmla="val -82171"/>
              <a:gd name="adj2" fmla="val -11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1360" y="3992400"/>
            <a:ext cx="617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20"/>
          <p:cNvSpPr/>
          <p:nvPr/>
        </p:nvSpPr>
        <p:spPr>
          <a:xfrm>
            <a:off x="2097000" y="4537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 + 3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997520" y="4529160"/>
            <a:ext cx="2608200" cy="504720"/>
          </a:xfrm>
          <a:prstGeom prst="wedgeRoundRectCallout">
            <a:avLst>
              <a:gd name="adj1" fmla="val -82995"/>
              <a:gd name="adj2" fmla="val 365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41360" y="521964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3"/>
          <p:cNvSpPr/>
          <p:nvPr/>
        </p:nvSpPr>
        <p:spPr>
          <a:xfrm>
            <a:off x="2097000" y="581652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5"/>
          <p:cNvSpPr/>
          <p:nvPr/>
        </p:nvSpPr>
        <p:spPr>
          <a:xfrm>
            <a:off x="6185520" y="5214960"/>
            <a:ext cx="1658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/>
          <p:cNvSpPr/>
          <p:nvPr/>
        </p:nvSpPr>
        <p:spPr>
          <a:xfrm>
            <a:off x="4890960" y="5938920"/>
            <a:ext cx="3521160" cy="504720"/>
          </a:xfrm>
          <a:prstGeom prst="wedgeRoundRectCallout">
            <a:avLst>
              <a:gd name="adj1" fmla="val 24518"/>
              <a:gd name="adj2" fmla="val -1197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рать раздел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85E2-0AEB-4B25-A2F2-D6DEA5194C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41360" y="90972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3"/>
          <p:cNvSpPr/>
          <p:nvPr/>
        </p:nvSpPr>
        <p:spPr>
          <a:xfrm>
            <a:off x="2097000" y="15066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2+3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41360" y="2124000"/>
            <a:ext cx="8326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}+{}={}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(a, b, c 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рост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F0A5-7C14-471E-A1C9-58B25F7C8E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495360" y="917640"/>
            <a:ext cx="67341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55"/>
          <p:cNvGrpSpPr/>
          <p:nvPr/>
        </p:nvGrpSpPr>
        <p:grpSpPr>
          <a:xfrm>
            <a:off x="961920" y="3139920"/>
            <a:ext cx="2513160" cy="663480"/>
            <a:chOff x="961920" y="3139920"/>
            <a:chExt cx="2513160" cy="663480"/>
          </a:xfrm>
        </p:grpSpPr>
        <p:sp>
          <p:nvSpPr>
            <p:cNvPr id="366" name="Text Box 56"/>
            <p:cNvSpPr/>
            <p:nvPr/>
          </p:nvSpPr>
          <p:spPr>
            <a:xfrm>
              <a:off x="1428840" y="3246120"/>
              <a:ext cx="2046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3589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57"/>
            <p:cNvSpPr/>
            <p:nvPr/>
          </p:nvSpPr>
          <p:spPr>
            <a:xfrm>
              <a:off x="961920" y="3139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7"/>
          <p:cNvSpPr/>
          <p:nvPr/>
        </p:nvSpPr>
        <p:spPr>
          <a:xfrm>
            <a:off x="495360" y="971640"/>
            <a:ext cx="82296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int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ведите два числа: 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c, sep=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"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: полное ре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7503-0710-47E5-A8D8-941044E3DF7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880" y="34354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4979880" y="3233880"/>
            <a:ext cx="2017800" cy="574560"/>
          </a:xfrm>
          <a:prstGeom prst="wedgeRoundRectCallout">
            <a:avLst>
              <a:gd name="adj1" fmla="val -51810"/>
              <a:gd name="adj2" fmla="val 8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668680" y="4595760"/>
            <a:ext cx="251280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127480" y="1598760"/>
            <a:ext cx="2017800" cy="574560"/>
          </a:xfrm>
          <a:prstGeom prst="wedgeRoundRectCallout">
            <a:avLst>
              <a:gd name="adj1" fmla="val -42745"/>
              <a:gd name="adj2" fmla="val -85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481-93F5-47A1-AE1C-FBD2918659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69720" y="824040"/>
            <a:ext cx="842040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 и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F98-0DD5-404D-A2AD-2CE4C730F8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369720" y="824040"/>
            <a:ext cx="8420400" cy="33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три числа, найти их сумму, произведение и среднее арифме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три чис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+5+7=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*5*7=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4+5+7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5.3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3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B92-4445-4128-96F5-23680CD490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рифметическое выра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415-4273-4863-9B31-F2E44F7E7E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"/>
          <p:cNvSpPr/>
          <p:nvPr/>
        </p:nvSpPr>
        <p:spPr>
          <a:xfrm>
            <a:off x="521280" y="1216080"/>
            <a:ext cx="5470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4"/>
          <p:cNvSpPr/>
          <p:nvPr/>
        </p:nvSpPr>
        <p:spPr>
          <a:xfrm>
            <a:off x="410760" y="1743120"/>
            <a:ext cx="491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орит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арши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едение в степень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ение и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ение и 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24476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6"/>
          <p:cNvSpPr/>
          <p:nvPr/>
        </p:nvSpPr>
        <p:spPr>
          <a:xfrm>
            <a:off x="2977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167616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64320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456624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5184720" y="852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Группа 12"/>
          <p:cNvGrpSpPr/>
          <p:nvPr/>
        </p:nvGrpSpPr>
        <p:grpSpPr>
          <a:xfrm>
            <a:off x="5602320" y="1892160"/>
            <a:ext cx="3300480" cy="1189080"/>
            <a:chOff x="5602320" y="1892160"/>
            <a:chExt cx="3300480" cy="1189080"/>
          </a:xfrm>
        </p:grpSpPr>
        <p:sp>
          <p:nvSpPr>
            <p:cNvPr id="395" name="Блок-схема: процесс 13"/>
            <p:cNvSpPr/>
            <p:nvPr/>
          </p:nvSpPr>
          <p:spPr>
            <a:xfrm>
              <a:off x="5602320" y="1892160"/>
              <a:ext cx="3300480" cy="1176480"/>
            </a:xfrm>
            <a:prstGeom prst="flowChartProcess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12"/>
                <p:cNvSpPr txBox="1"/>
                <p:nvPr/>
              </p:nvSpPr>
              <p:spPr>
                <a:xfrm>
                  <a:off x="5789520" y="1990440"/>
                  <a:ext cx="2943360" cy="10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7" name="Овал 15"/>
          <p:cNvSpPr/>
          <p:nvPr/>
        </p:nvSpPr>
        <p:spPr>
          <a:xfrm>
            <a:off x="8269200" y="2271600"/>
            <a:ext cx="568440" cy="567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24"/>
          <p:cNvGrpSpPr/>
          <p:nvPr/>
        </p:nvGrpSpPr>
        <p:grpSpPr>
          <a:xfrm>
            <a:off x="460800" y="4087800"/>
            <a:ext cx="4444560" cy="969120"/>
            <a:chOff x="460800" y="4087800"/>
            <a:chExt cx="4444560" cy="969120"/>
          </a:xfrm>
        </p:grpSpPr>
        <p:sp>
          <p:nvSpPr>
            <p:cNvPr id="399" name="Прямоугольник 16"/>
            <p:cNvSpPr/>
            <p:nvPr/>
          </p:nvSpPr>
          <p:spPr>
            <a:xfrm>
              <a:off x="460800" y="4109760"/>
              <a:ext cx="4434120" cy="94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c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3</a:t>
              </a:r>
              <a:r>
                <a:rPr b="1" lang="ru-RU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/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b0f0"/>
                  </a:solidFill>
                  <a:latin typeface="Courier New"/>
                  <a:ea typeface="Courier New"/>
                </a:rPr>
                <a:t>2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*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20"/>
            <p:cNvGrpSpPr/>
            <p:nvPr/>
          </p:nvGrpSpPr>
          <p:grpSpPr>
            <a:xfrm>
              <a:off x="4392360" y="4087800"/>
              <a:ext cx="513000" cy="541800"/>
              <a:chOff x="4392360" y="4087800"/>
              <a:chExt cx="513000" cy="541800"/>
            </a:xfrm>
          </p:grpSpPr>
          <p:sp>
            <p:nvSpPr>
              <p:cNvPr id="401" name="Овал 17"/>
              <p:cNvSpPr/>
              <p:nvPr/>
            </p:nvSpPr>
            <p:spPr>
              <a:xfrm>
                <a:off x="4392360" y="4087800"/>
                <a:ext cx="513000" cy="513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оугольник 19"/>
              <p:cNvSpPr/>
              <p:nvPr/>
            </p:nvSpPr>
            <p:spPr>
              <a:xfrm>
                <a:off x="4460040" y="41090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AutoShape 7"/>
          <p:cNvSpPr/>
          <p:nvPr/>
        </p:nvSpPr>
        <p:spPr>
          <a:xfrm>
            <a:off x="5452920" y="3583080"/>
            <a:ext cx="3067200" cy="8064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на следующ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2"/>
          <p:cNvSpPr/>
          <p:nvPr/>
        </p:nvSpPr>
        <p:spPr>
          <a:xfrm>
            <a:off x="446040" y="5346720"/>
            <a:ext cx="45576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       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5452920" y="4937040"/>
            <a:ext cx="3067200" cy="808200"/>
          </a:xfrm>
          <a:prstGeom prst="wedgeRoundRectCallout">
            <a:avLst>
              <a:gd name="adj1" fmla="val -65509"/>
              <a:gd name="adj2" fmla="val 41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нос внутри скобок разреш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71F0-AA99-4863-81A0-5197753F63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392040" y="80964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ое 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579600" y="1265400"/>
            <a:ext cx="5186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.7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6"/>
          <p:cNvSpPr/>
          <p:nvPr/>
        </p:nvSpPr>
        <p:spPr>
          <a:xfrm>
            <a:off x="392040" y="3584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ое 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ление «вниз»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79600" y="4040280"/>
            <a:ext cx="522288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b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-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// b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7AE9-C110-47FB-9ACD-4EA581B091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403200" y="819000"/>
            <a:ext cx="83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4680" indent="-268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941400" y="1357200"/>
            <a:ext cx="5411880" cy="2404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8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d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8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d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5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b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a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3"/>
          <p:cNvSpPr/>
          <p:nvPr/>
        </p:nvSpPr>
        <p:spPr>
          <a:xfrm>
            <a:off x="3795840" y="174132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4"/>
          <p:cNvSpPr/>
          <p:nvPr/>
        </p:nvSpPr>
        <p:spPr>
          <a:xfrm>
            <a:off x="3805200" y="2216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3805200" y="27874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5"/>
          <p:cNvSpPr/>
          <p:nvPr/>
        </p:nvSpPr>
        <p:spPr>
          <a:xfrm>
            <a:off x="3805200" y="323208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941400" y="3948120"/>
            <a:ext cx="5411880" cy="192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b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//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b   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19"/>
          <p:cNvSpPr/>
          <p:nvPr/>
        </p:nvSpPr>
        <p:spPr>
          <a:xfrm>
            <a:off x="3805200" y="487044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0"/>
          <p:cNvSpPr/>
          <p:nvPr/>
        </p:nvSpPr>
        <p:spPr>
          <a:xfrm>
            <a:off x="3805200" y="5353200"/>
            <a:ext cx="143820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B78-402A-4C73-AD8B-F928621C86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7"/>
          <p:cNvGrpSpPr/>
          <p:nvPr/>
        </p:nvGrpSpPr>
        <p:grpSpPr>
          <a:xfrm>
            <a:off x="6442200" y="814320"/>
            <a:ext cx="2819160" cy="3250800"/>
            <a:chOff x="6442200" y="814320"/>
            <a:chExt cx="2819160" cy="3250800"/>
          </a:xfrm>
        </p:grpSpPr>
        <p:pic>
          <p:nvPicPr>
            <p:cNvPr id="185" name="Picture 2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6904080" y="814320"/>
              <a:ext cx="18950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Прямоугольник 6"/>
            <p:cNvSpPr/>
            <p:nvPr/>
          </p:nvSpPr>
          <p:spPr>
            <a:xfrm>
              <a:off x="6442200" y="342252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ухаммед ал-Хоре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к. 783–ок. 850 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8"/>
          <p:cNvSpPr/>
          <p:nvPr/>
        </p:nvSpPr>
        <p:spPr>
          <a:xfrm>
            <a:off x="393840" y="843120"/>
            <a:ext cx="61974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точное описание порядка действий, которые должен выполнить исполнитель для решения задачи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415800" y="2436840"/>
            <a:ext cx="62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стройство или одушёвленное существо (человек), способное понять и выполнить команды, составляющие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415800" y="4025880"/>
            <a:ext cx="82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льные исполнит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е поним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не могут понять) смысл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торы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/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1B22-2B5E-4A8F-AD18-2AD931FD0C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28480" y="920880"/>
            <a:ext cx="6704280" cy="430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700" spc="-1" strike="noStrike">
                <a:solidFill>
                  <a:srgbClr val="00b0f0"/>
                </a:solidFill>
                <a:latin typeface="Courier New"/>
              </a:rPr>
              <a:t>12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d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; print( d 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= a</a:t>
            </a: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ru-RU" sz="27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95ff"/>
                </a:solidFill>
                <a:latin typeface="Courier New"/>
              </a:rPr>
              <a:t>10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0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8"/>
          <p:cNvSpPr/>
          <p:nvPr/>
        </p:nvSpPr>
        <p:spPr>
          <a:xfrm>
            <a:off x="3276720" y="189216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3247920" y="2827440"/>
            <a:ext cx="1438560" cy="49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3243240" y="3763800"/>
            <a:ext cx="143820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06600" y="4713120"/>
            <a:ext cx="1438560" cy="49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0"/>
          <p:cNvSpPr/>
          <p:nvPr/>
        </p:nvSpPr>
        <p:spPr>
          <a:xfrm>
            <a:off x="7357320" y="140184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1"/>
          <p:cNvSpPr/>
          <p:nvPr/>
        </p:nvSpPr>
        <p:spPr>
          <a:xfrm>
            <a:off x="7357320" y="23400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2"/>
          <p:cNvSpPr/>
          <p:nvPr/>
        </p:nvSpPr>
        <p:spPr>
          <a:xfrm>
            <a:off x="7357320" y="329580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3"/>
          <p:cNvSpPr/>
          <p:nvPr/>
        </p:nvSpPr>
        <p:spPr>
          <a:xfrm>
            <a:off x="7357320" y="4246560"/>
            <a:ext cx="3866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кращенная запись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CBDB-0C4C-46D5-8826-A99D94F42DB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58640" y="950760"/>
            <a:ext cx="5411880" cy="2879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+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-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-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*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* b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//= b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//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%= b  </a:t>
            </a:r>
            <a:r>
              <a:rPr b="1" lang="en-US" sz="2700" spc="-1" strike="noStrike">
                <a:solidFill>
                  <a:srgbClr val="008000"/>
                </a:solidFill>
                <a:latin typeface="Courier New"/>
              </a:rPr>
              <a:t># a = a % 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"/>
          <p:cNvSpPr/>
          <p:nvPr/>
        </p:nvSpPr>
        <p:spPr>
          <a:xfrm>
            <a:off x="6334200" y="973080"/>
            <a:ext cx="1776240" cy="5054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a +=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099120" y="1754280"/>
            <a:ext cx="2828880" cy="720720"/>
          </a:xfrm>
          <a:prstGeom prst="wedgeRoundRectCallout">
            <a:avLst>
              <a:gd name="adj1" fmla="val -18375"/>
              <a:gd name="adj2" fmla="val -87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вух значений в одной стро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D1F-0100-4DAA-9077-5F7706C527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380880" y="92700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2"/>
          <p:cNvSpPr/>
          <p:nvPr/>
        </p:nvSpPr>
        <p:spPr>
          <a:xfrm>
            <a:off x="1821960" y="160956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008600" y="1623960"/>
            <a:ext cx="4554360" cy="614520"/>
          </a:xfrm>
          <a:prstGeom prst="wedgeRoundRectCallout">
            <a:avLst>
              <a:gd name="adj1" fmla="val -64962"/>
              <a:gd name="adj2" fmla="val -1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троку с клави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4"/>
          <p:cNvSpPr/>
          <p:nvPr/>
        </p:nvSpPr>
        <p:spPr>
          <a:xfrm>
            <a:off x="406440" y="1609560"/>
            <a:ext cx="131436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1827720" y="246060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406440" y="2460600"/>
            <a:ext cx="65880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16000" y="2460600"/>
            <a:ext cx="62712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7"/>
          <p:cNvSpPr/>
          <p:nvPr/>
        </p:nvSpPr>
        <p:spPr>
          <a:xfrm>
            <a:off x="4373640" y="3002040"/>
            <a:ext cx="3306600" cy="730080"/>
          </a:xfrm>
          <a:prstGeom prst="wedgeRoundRectCallout">
            <a:avLst>
              <a:gd name="adj1" fmla="val -61384"/>
              <a:gd name="adj2" fmla="val -60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строку на части по пробе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1814400" y="377208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1"/>
          <p:cNvSpPr/>
          <p:nvPr/>
        </p:nvSpPr>
        <p:spPr>
          <a:xfrm>
            <a:off x="406440" y="3773520"/>
            <a:ext cx="6588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2"/>
          <p:cNvSpPr/>
          <p:nvPr/>
        </p:nvSpPr>
        <p:spPr>
          <a:xfrm>
            <a:off x="1116000" y="3773520"/>
            <a:ext cx="6271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382680" y="3141720"/>
            <a:ext cx="1317600" cy="396720"/>
          </a:xfrm>
          <a:prstGeom prst="wedgeRoundRectCallout">
            <a:avLst>
              <a:gd name="adj1" fmla="val 18657"/>
              <a:gd name="adj2" fmla="val 104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2114640" y="3205080"/>
            <a:ext cx="1919160" cy="398520"/>
          </a:xfrm>
          <a:prstGeom prst="wedgeRoundRectCallout">
            <a:avLst>
              <a:gd name="adj1" fmla="val -40745"/>
              <a:gd name="adj2" fmla="val 12359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1846440" y="4335480"/>
            <a:ext cx="1842840" cy="709560"/>
          </a:xfrm>
          <a:prstGeom prst="wedgeRoundRectCallout">
            <a:avLst>
              <a:gd name="adj1" fmla="val 32166"/>
              <a:gd name="adj2" fmla="val -67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у опер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44"/>
          <p:cNvGrpSpPr/>
          <p:nvPr/>
        </p:nvGrpSpPr>
        <p:grpSpPr>
          <a:xfrm>
            <a:off x="4184640" y="4249800"/>
            <a:ext cx="3238560" cy="774720"/>
            <a:chOff x="4184640" y="4249800"/>
            <a:chExt cx="3238560" cy="774720"/>
          </a:xfrm>
        </p:grpSpPr>
        <p:sp>
          <p:nvSpPr>
            <p:cNvPr id="456" name="AutoShape 7"/>
            <p:cNvSpPr/>
            <p:nvPr/>
          </p:nvSpPr>
          <p:spPr>
            <a:xfrm>
              <a:off x="4308480" y="4626000"/>
              <a:ext cx="2705400" cy="398520"/>
            </a:xfrm>
            <a:prstGeom prst="wedgeRoundRectCallout">
              <a:avLst>
                <a:gd name="adj1" fmla="val 5388"/>
                <a:gd name="adj2" fmla="val -108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 каждой ч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37"/>
            <p:cNvSpPr/>
            <p:nvPr/>
          </p:nvSpPr>
          <p:spPr>
            <a:xfrm rot="16200000">
              <a:off x="5734080" y="2700360"/>
              <a:ext cx="139680" cy="323856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3760 h 3238560"/>
                <a:gd name="textAreaBottom" fmla="*/ 3214800 h 323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57"/>
                    <a:pt x="10800" y="513"/>
                  </a:cubicBezTo>
                  <a:lnTo>
                    <a:pt x="10800" y="10287"/>
                  </a:lnTo>
                  <a:cubicBezTo>
                    <a:pt x="10800" y="10544"/>
                    <a:pt x="5400" y="10800"/>
                    <a:pt x="0" y="10800"/>
                  </a:cubicBezTo>
                  <a:cubicBezTo>
                    <a:pt x="5400" y="10800"/>
                    <a:pt x="10800" y="11057"/>
                    <a:pt x="10800" y="11313"/>
                  </a:cubicBezTo>
                  <a:lnTo>
                    <a:pt x="10800" y="21087"/>
                  </a:lnTo>
                  <a:cubicBezTo>
                    <a:pt x="10800" y="21344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380880" y="5402160"/>
            <a:ext cx="799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 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олилиния 39"/>
          <p:cNvSpPr/>
          <p:nvPr/>
        </p:nvSpPr>
        <p:spPr>
          <a:xfrm>
            <a:off x="55872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40"/>
          <p:cNvSpPr/>
          <p:nvPr/>
        </p:nvSpPr>
        <p:spPr>
          <a:xfrm>
            <a:off x="1247760" y="4303800"/>
            <a:ext cx="287280" cy="1204920"/>
          </a:xfrm>
          <a:custGeom>
            <a:avLst/>
            <a:gdLst>
              <a:gd name="textAreaLeft" fmla="*/ 0 w 287280"/>
              <a:gd name="textAreaRight" fmla="*/ 287640 w 28728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86871" h="1204856">
                <a:moveTo>
                  <a:pt x="139849" y="0"/>
                </a:moveTo>
                <a:cubicBezTo>
                  <a:pt x="286871" y="584499"/>
                  <a:pt x="46616" y="803237"/>
                  <a:pt x="0" y="120485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Группа 43"/>
          <p:cNvGrpSpPr/>
          <p:nvPr/>
        </p:nvGrpSpPr>
        <p:grpSpPr>
          <a:xfrm>
            <a:off x="720720" y="2141640"/>
            <a:ext cx="795240" cy="322200"/>
            <a:chOff x="720720" y="2141640"/>
            <a:chExt cx="795240" cy="322200"/>
          </a:xfrm>
        </p:grpSpPr>
        <p:sp>
          <p:nvSpPr>
            <p:cNvPr id="462" name="Полилиния 41"/>
            <p:cNvSpPr/>
            <p:nvPr/>
          </p:nvSpPr>
          <p:spPr>
            <a:xfrm>
              <a:off x="720720" y="2141640"/>
              <a:ext cx="391680" cy="32220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олилиния 42"/>
            <p:cNvSpPr/>
            <p:nvPr/>
          </p:nvSpPr>
          <p:spPr>
            <a:xfrm flipH="1">
              <a:off x="1124280" y="2141640"/>
              <a:ext cx="391680" cy="322200"/>
            </a:xfrm>
            <a:custGeom>
              <a:avLst/>
              <a:gdLst>
                <a:gd name="textAreaLeft" fmla="*/ 360 w 391680"/>
                <a:gd name="textAreaRight" fmla="*/ 392400 w 3916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65760" h="623943">
                  <a:moveTo>
                    <a:pt x="365760" y="0"/>
                  </a:moveTo>
                  <a:lnTo>
                    <a:pt x="0" y="62394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C597-4157-4CEA-9D0F-880FB28A79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69720" y="814320"/>
            <a:ext cx="8420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три числа: цену пирожка (два числа: рубли, потом – копейки) и количество пирожков. Найти сумму, которую нужно заплатить (рубли и копей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тоимость пирож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2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колько пирожков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К оплате: 62 руб. 50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сти число, обозначающее количество секунд. Вывести то же самое время в часах, минутах и секун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Число секун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urier New"/>
              </a:rPr>
              <a:t>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2 ч. 18 мин. 45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CEF8-ED8B-4583-81C3-1B4763B7E6B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69720" y="824040"/>
            <a:ext cx="8420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ятия в школе начинаются в 8-30. Урок длится 45 минут, перерывы между уроками – 10 минут. Ввести номер урока и вывести время его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9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ведите номер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3-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6439-75DC-4979-8534-306256E7F9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136-3FF8-44BF-80CA-A77F2F03BE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485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486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496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D896-12E5-4D23-A2D2-8B9F597D89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+b) </a:t>
            </a:r>
            <a:r>
              <a:rPr b="1" lang="ru-RU" sz="2200" spc="-1" strike="noStrike">
                <a:solidFill>
                  <a:srgbClr val="3333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3333ff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Courier New"/>
              </a:rPr>
              <a:t>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7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61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2050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304308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378144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45306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28948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Скругленная прямоугольная выноска 18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522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Прямоугольник 28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C95-00FC-4C7E-9C18-7F96EF4CF9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388800" y="4981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 b] (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вещественные числа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806400" y="548964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unifor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b0f0"/>
                </a:solidFill>
                <a:latin typeface="Courier New"/>
              </a:rPr>
              <a:t>1.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3.5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C2C0-6318-43E2-8761-D83743EED1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596880" y="1778040"/>
            <a:ext cx="442764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7"/>
          <p:cNvSpPr/>
          <p:nvPr/>
        </p:nvSpPr>
        <p:spPr>
          <a:xfrm>
            <a:off x="4716360" y="1054080"/>
            <a:ext cx="276408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371520" y="824040"/>
            <a:ext cx="8510400" cy="2815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5CBD-35A3-418C-A016-6D67FF34C9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388800" y="800280"/>
            <a:ext cx="84837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с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стоит из отдельных команд, каждая из которых выполняется за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ермин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ри каждом запуске алгоритма с одними и теми же исходными данными получается один и тот же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содержит только команды, входящие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е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езультативность) — для корректного на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х алгоритм должен завершаться через конеч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рек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я допустимых исходных данных алгоритм должен приводить к правильн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лгоритм можно использовать для разн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4790-B8F7-43B0-A60A-785B12D9ADF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Сколько очков в среднем выпало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 3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5+3+1)/3=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69720" y="293040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гральный кубик бросается три раза (выпадает три случайных значения). Из этих чисел составляется целое число, программа должна найти его квадр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пало оч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исло 1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го квадрат 1512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E539-6A81-4795-87B2-25E2B46795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ть случайное трёхзначное число и вывести через запятую его отдельные циф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лучено число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отни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десятки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ы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886040" y="4358880"/>
            <a:ext cx="53719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D542-56C0-445F-8AF9-04F9FA87FCC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6595-7F0E-44D8-A628-E71819DF08C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ить порядок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зависимости от выполнения некоторого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534960" y="1927080"/>
            <a:ext cx="5324400" cy="3593880"/>
            <a:chOff x="534960" y="1927080"/>
            <a:chExt cx="5324400" cy="3593880"/>
          </a:xfrm>
        </p:grpSpPr>
        <p:sp>
          <p:nvSpPr>
            <p:cNvPr id="558" name="Rectangle 8"/>
            <p:cNvSpPr/>
            <p:nvPr/>
          </p:nvSpPr>
          <p:spPr>
            <a:xfrm>
              <a:off x="534960" y="32191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6"/>
            <p:cNvSpPr/>
            <p:nvPr/>
          </p:nvSpPr>
          <p:spPr>
            <a:xfrm>
              <a:off x="2289240" y="224280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 &gt; b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3171960" y="192708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4275000" y="323172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20"/>
            <p:cNvSpPr/>
            <p:nvPr/>
          </p:nvSpPr>
          <p:spPr>
            <a:xfrm>
              <a:off x="3162240" y="520056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404496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 flipH="1">
              <a:off x="1301040" y="265896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1311120" y="3804840"/>
              <a:ext cx="3748320" cy="544680"/>
            </a:xfrm>
            <a:custGeom>
              <a:avLst/>
              <a:gdLst>
                <a:gd name="textAreaLeft" fmla="*/ 0 w 3748320"/>
                <a:gd name="textAreaRight" fmla="*/ 3748680 w 37483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1309680" y="398448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5057640" y="40082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3143160" y="436068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27"/>
            <p:cNvSpPr/>
            <p:nvPr/>
          </p:nvSpPr>
          <p:spPr>
            <a:xfrm>
              <a:off x="3116160" y="432576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8"/>
            <p:cNvSpPr/>
            <p:nvPr/>
          </p:nvSpPr>
          <p:spPr>
            <a:xfrm>
              <a:off x="1311120" y="221580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29"/>
            <p:cNvSpPr/>
            <p:nvPr/>
          </p:nvSpPr>
          <p:spPr>
            <a:xfrm>
              <a:off x="4359240" y="22348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2098800" y="467172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31"/>
          <p:cNvSpPr/>
          <p:nvPr/>
        </p:nvSpPr>
        <p:spPr>
          <a:xfrm>
            <a:off x="404640" y="2101680"/>
            <a:ext cx="5597640" cy="2401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3"/>
          <p:cNvSpPr/>
          <p:nvPr/>
        </p:nvSpPr>
        <p:spPr>
          <a:xfrm>
            <a:off x="6459480" y="1411200"/>
            <a:ext cx="1935360" cy="135900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55"/>
          <p:cNvGrpSpPr/>
          <p:nvPr/>
        </p:nvGrpSpPr>
        <p:grpSpPr>
          <a:xfrm>
            <a:off x="6165720" y="3141720"/>
            <a:ext cx="2584440" cy="663480"/>
            <a:chOff x="6165720" y="3141720"/>
            <a:chExt cx="2584440" cy="663480"/>
          </a:xfrm>
        </p:grpSpPr>
        <p:sp>
          <p:nvSpPr>
            <p:cNvPr id="576" name="Text Box 56"/>
            <p:cNvSpPr/>
            <p:nvPr/>
          </p:nvSpPr>
          <p:spPr>
            <a:xfrm>
              <a:off x="6632640" y="3247920"/>
              <a:ext cx="2117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= b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57"/>
            <p:cNvSpPr/>
            <p:nvPr/>
          </p:nvSpPr>
          <p:spPr>
            <a:xfrm>
              <a:off x="6165720" y="314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Прямоугольник 28"/>
          <p:cNvSpPr/>
          <p:nvPr/>
        </p:nvSpPr>
        <p:spPr>
          <a:xfrm>
            <a:off x="6296040" y="4267080"/>
            <a:ext cx="234792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5"/>
          <p:cNvGrpSpPr/>
          <p:nvPr/>
        </p:nvGrpSpPr>
        <p:grpSpPr>
          <a:xfrm>
            <a:off x="4336920" y="4735440"/>
            <a:ext cx="2411640" cy="1567080"/>
            <a:chOff x="4336920" y="4735440"/>
            <a:chExt cx="2411640" cy="1567080"/>
          </a:xfrm>
        </p:grpSpPr>
        <p:sp>
          <p:nvSpPr>
            <p:cNvPr id="580" name="Полилиния 29"/>
            <p:cNvSpPr/>
            <p:nvPr/>
          </p:nvSpPr>
          <p:spPr>
            <a:xfrm>
              <a:off x="6280560" y="473544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олилиния 31"/>
            <p:cNvSpPr/>
            <p:nvPr/>
          </p:nvSpPr>
          <p:spPr>
            <a:xfrm>
              <a:off x="6280560" y="5725800"/>
              <a:ext cx="468000" cy="57672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413657" h="544285">
                  <a:moveTo>
                    <a:pt x="0" y="0"/>
                  </a:moveTo>
                  <a:lnTo>
                    <a:pt x="402772" y="0"/>
                  </a:lnTo>
                  <a:lnTo>
                    <a:pt x="413657" y="544285"/>
                  </a:lnTo>
                  <a:lnTo>
                    <a:pt x="0" y="544285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Группа 34"/>
            <p:cNvGrpSpPr/>
            <p:nvPr/>
          </p:nvGrpSpPr>
          <p:grpSpPr>
            <a:xfrm>
              <a:off x="4336920" y="5203440"/>
              <a:ext cx="2006280" cy="847800"/>
              <a:chOff x="4336920" y="5203440"/>
              <a:chExt cx="2006280" cy="847800"/>
            </a:xfrm>
          </p:grpSpPr>
          <p:sp>
            <p:nvSpPr>
              <p:cNvPr id="583" name="AutoShape 53"/>
              <p:cNvSpPr/>
              <p:nvPr/>
            </p:nvSpPr>
            <p:spPr>
              <a:xfrm>
                <a:off x="4336920" y="5203440"/>
                <a:ext cx="1671480" cy="668520"/>
              </a:xfrm>
              <a:prstGeom prst="wedgeRoundRectCallout">
                <a:avLst>
                  <a:gd name="adj1" fmla="val 74138"/>
                  <a:gd name="adj2" fmla="val -72481"/>
                  <a:gd name="adj3" fmla="val 16667"/>
                </a:avLst>
              </a:pr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отступ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Полилиния 33"/>
              <p:cNvSpPr/>
              <p:nvPr/>
            </p:nvSpPr>
            <p:spPr>
              <a:xfrm>
                <a:off x="6006960" y="5625720"/>
                <a:ext cx="336240" cy="425520"/>
              </a:xfrm>
              <a:custGeom>
                <a:avLst/>
                <a:gdLst/>
                <a:ahLst/>
                <a:rect l="l" t="t" r="r" b="b"/>
                <a:pathLst>
                  <a:path w="336550" h="425450">
                    <a:moveTo>
                      <a:pt x="0" y="142875"/>
                    </a:moveTo>
                    <a:lnTo>
                      <a:pt x="336550" y="425450"/>
                    </a:lnTo>
                    <a:lnTo>
                      <a:pt x="0" y="0"/>
                    </a:lnTo>
                    <a:cubicBezTo>
                      <a:pt x="1058" y="47625"/>
                      <a:pt x="2117" y="95250"/>
                      <a:pt x="0" y="142875"/>
                    </a:cubicBez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: неполная фор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EA2-74D1-449B-977D-570526E738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30"/>
          <p:cNvGrpSpPr/>
          <p:nvPr/>
        </p:nvGrpSpPr>
        <p:grpSpPr>
          <a:xfrm>
            <a:off x="534960" y="896760"/>
            <a:ext cx="4127400" cy="4500360"/>
            <a:chOff x="534960" y="896760"/>
            <a:chExt cx="4127400" cy="4500360"/>
          </a:xfrm>
        </p:grpSpPr>
        <p:sp>
          <p:nvSpPr>
            <p:cNvPr id="588" name="Rectangle 8"/>
            <p:cNvSpPr/>
            <p:nvPr/>
          </p:nvSpPr>
          <p:spPr>
            <a:xfrm>
              <a:off x="534960" y="3095280"/>
              <a:ext cx="158436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6"/>
            <p:cNvSpPr/>
            <p:nvPr/>
          </p:nvSpPr>
          <p:spPr>
            <a:xfrm>
              <a:off x="2289240" y="2118960"/>
              <a:ext cx="1765080" cy="84132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b &gt; a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"/>
            <p:cNvSpPr/>
            <p:nvPr/>
          </p:nvSpPr>
          <p:spPr>
            <a:xfrm>
              <a:off x="3181320" y="180324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162240" y="507672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4044960" y="2535120"/>
              <a:ext cx="390600" cy="1495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 flipH="1">
              <a:off x="1301040" y="2535120"/>
              <a:ext cx="988920" cy="57276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623" h="524">
                  <a:moveTo>
                    <a:pt x="0" y="0"/>
                  </a:moveTo>
                  <a:lnTo>
                    <a:pt x="623" y="0"/>
                  </a:lnTo>
                  <a:lnTo>
                    <a:pt x="623" y="52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1311120" y="3681000"/>
              <a:ext cx="3124440" cy="54468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409" h="343">
                  <a:moveTo>
                    <a:pt x="0" y="0"/>
                  </a:moveTo>
                  <a:lnTo>
                    <a:pt x="0" y="343"/>
                  </a:lnTo>
                  <a:lnTo>
                    <a:pt x="2409" y="343"/>
                  </a:lnTo>
                  <a:lnTo>
                    <a:pt x="2409" y="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1309680" y="3860640"/>
              <a:ext cx="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6"/>
            <p:cNvSpPr/>
            <p:nvPr/>
          </p:nvSpPr>
          <p:spPr>
            <a:xfrm>
              <a:off x="3143160" y="4236840"/>
              <a:ext cx="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7"/>
            <p:cNvSpPr/>
            <p:nvPr/>
          </p:nvSpPr>
          <p:spPr>
            <a:xfrm>
              <a:off x="3116160" y="4201920"/>
              <a:ext cx="54000" cy="54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8"/>
            <p:cNvSpPr/>
            <p:nvPr/>
          </p:nvSpPr>
          <p:spPr>
            <a:xfrm>
              <a:off x="1311120" y="209196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9"/>
            <p:cNvSpPr/>
            <p:nvPr/>
          </p:nvSpPr>
          <p:spPr>
            <a:xfrm>
              <a:off x="3978360" y="211104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9"/>
            <p:cNvSpPr/>
            <p:nvPr/>
          </p:nvSpPr>
          <p:spPr>
            <a:xfrm>
              <a:off x="2098800" y="4547880"/>
              <a:ext cx="2095200" cy="533520"/>
            </a:xfrm>
            <a:prstGeom prst="flowChartInputOutpu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вывод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2389320" y="1212480"/>
              <a:ext cx="1584000" cy="5875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7"/>
            <p:cNvSpPr/>
            <p:nvPr/>
          </p:nvSpPr>
          <p:spPr>
            <a:xfrm>
              <a:off x="3181320" y="896760"/>
              <a:ext cx="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31"/>
          <p:cNvSpPr/>
          <p:nvPr/>
        </p:nvSpPr>
        <p:spPr>
          <a:xfrm>
            <a:off x="404640" y="1978200"/>
            <a:ext cx="4616640" cy="240156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53"/>
          <p:cNvSpPr/>
          <p:nvPr/>
        </p:nvSpPr>
        <p:spPr>
          <a:xfrm>
            <a:off x="5519880" y="3384720"/>
            <a:ext cx="1935000" cy="1358640"/>
          </a:xfrm>
          <a:prstGeom prst="wedgeRoundRectCallout">
            <a:avLst>
              <a:gd name="adj1" fmla="val -89916"/>
              <a:gd name="adj2" fmla="val 169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лная форма вет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27"/>
          <p:cNvSpPr/>
          <p:nvPr/>
        </p:nvSpPr>
        <p:spPr>
          <a:xfrm>
            <a:off x="5424480" y="1038240"/>
            <a:ext cx="2720880" cy="130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 &gt;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22"/>
          <p:cNvSpPr/>
          <p:nvPr/>
        </p:nvSpPr>
        <p:spPr>
          <a:xfrm>
            <a:off x="831960" y="591192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23"/>
          <p:cNvSpPr/>
          <p:nvPr/>
        </p:nvSpPr>
        <p:spPr>
          <a:xfrm>
            <a:off x="347040" y="535932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4197240" y="5911920"/>
            <a:ext cx="462924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4BA-9AA7-40E7-83CB-D5E63EFADCD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488880" y="971640"/>
            <a:ext cx="3368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 &lt; 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55"/>
          <p:cNvGrpSpPr/>
          <p:nvPr/>
        </p:nvGrpSpPr>
        <p:grpSpPr>
          <a:xfrm>
            <a:off x="4159080" y="998640"/>
            <a:ext cx="2711520" cy="663480"/>
            <a:chOff x="4159080" y="998640"/>
            <a:chExt cx="2711520" cy="663480"/>
          </a:xfrm>
        </p:grpSpPr>
        <p:sp>
          <p:nvSpPr>
            <p:cNvPr id="613" name="Text Box 56"/>
            <p:cNvSpPr/>
            <p:nvPr/>
          </p:nvSpPr>
          <p:spPr>
            <a:xfrm>
              <a:off x="4626000" y="1104840"/>
              <a:ext cx="2244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7"/>
            <p:cNvSpPr/>
            <p:nvPr/>
          </p:nvSpPr>
          <p:spPr>
            <a:xfrm>
              <a:off x="4159080" y="998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27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5716440" y="40593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4373640" y="2484360"/>
            <a:ext cx="860400" cy="5778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6726240" y="2471760"/>
            <a:ext cx="860400" cy="577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4518000" y="1949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6824520" y="191628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9"/>
          <p:cNvSpPr/>
          <p:nvPr/>
        </p:nvSpPr>
        <p:spPr>
          <a:xfrm flipH="1" rot="7473600">
            <a:off x="6369480" y="3231360"/>
            <a:ext cx="979560" cy="668520"/>
          </a:xfrm>
          <a:prstGeom prst="rightArrow">
            <a:avLst>
              <a:gd name="adj1" fmla="val 50000"/>
              <a:gd name="adj2" fmla="val 3663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0"/>
          <p:cNvSpPr/>
          <p:nvPr/>
        </p:nvSpPr>
        <p:spPr>
          <a:xfrm rot="10800000">
            <a:off x="5500800" y="2444760"/>
            <a:ext cx="979200" cy="668160"/>
          </a:xfrm>
          <a:prstGeom prst="rightArrow">
            <a:avLst>
              <a:gd name="adj1" fmla="val 50000"/>
              <a:gd name="adj2" fmla="val 3663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1"/>
          <p:cNvSpPr/>
          <p:nvPr/>
        </p:nvSpPr>
        <p:spPr>
          <a:xfrm flipH="1" rot="13718400">
            <a:off x="4875480" y="3312720"/>
            <a:ext cx="979560" cy="668160"/>
          </a:xfrm>
          <a:prstGeom prst="rightArrow">
            <a:avLst>
              <a:gd name="adj1" fmla="val 50000"/>
              <a:gd name="adj2" fmla="val 36651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45"/>
          <p:cNvGrpSpPr/>
          <p:nvPr/>
        </p:nvGrpSpPr>
        <p:grpSpPr>
          <a:xfrm>
            <a:off x="501480" y="3349800"/>
            <a:ext cx="3765600" cy="964080"/>
            <a:chOff x="501480" y="3349800"/>
            <a:chExt cx="3765600" cy="964080"/>
          </a:xfrm>
        </p:grpSpPr>
        <p:sp>
          <p:nvSpPr>
            <p:cNvPr id="627" name="Text Box 43"/>
            <p:cNvSpPr/>
            <p:nvPr/>
          </p:nvSpPr>
          <p:spPr>
            <a:xfrm>
              <a:off x="968040" y="3427560"/>
              <a:ext cx="3299040" cy="8863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обойт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без переменной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4"/>
            <p:cNvSpPr/>
            <p:nvPr/>
          </p:nvSpPr>
          <p:spPr>
            <a:xfrm>
              <a:off x="501480" y="3349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34"/>
          <p:cNvSpPr/>
          <p:nvPr/>
        </p:nvSpPr>
        <p:spPr>
          <a:xfrm>
            <a:off x="5919840" y="4640400"/>
            <a:ext cx="4795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22"/>
          <p:cNvSpPr/>
          <p:nvPr/>
        </p:nvSpPr>
        <p:spPr>
          <a:xfrm>
            <a:off x="1073160" y="5149800"/>
            <a:ext cx="3079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23"/>
          <p:cNvSpPr/>
          <p:nvPr/>
        </p:nvSpPr>
        <p:spPr>
          <a:xfrm>
            <a:off x="588240" y="4597560"/>
            <a:ext cx="39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наки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941E-6697-452D-8874-D289C507E27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97452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оугольник 4"/>
          <p:cNvSpPr/>
          <p:nvPr/>
        </p:nvSpPr>
        <p:spPr>
          <a:xfrm>
            <a:off x="1485000" y="901800"/>
            <a:ext cx="394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1270080" y="164448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1270080" y="238752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7"/>
          <p:cNvSpPr/>
          <p:nvPr/>
        </p:nvSpPr>
        <p:spPr>
          <a:xfrm>
            <a:off x="1270080" y="3130560"/>
            <a:ext cx="607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8"/>
          <p:cNvSpPr/>
          <p:nvPr/>
        </p:nvSpPr>
        <p:spPr>
          <a:xfrm>
            <a:off x="1270440" y="3873600"/>
            <a:ext cx="607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9"/>
          <p:cNvSpPr/>
          <p:nvPr/>
        </p:nvSpPr>
        <p:spPr>
          <a:xfrm>
            <a:off x="2083320" y="95256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, ме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10"/>
          <p:cNvSpPr/>
          <p:nvPr/>
        </p:nvSpPr>
        <p:spPr>
          <a:xfrm>
            <a:off x="2084040" y="168588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11"/>
          <p:cNvSpPr/>
          <p:nvPr/>
        </p:nvSpPr>
        <p:spPr>
          <a:xfrm>
            <a:off x="2088000" y="24289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12"/>
          <p:cNvSpPr/>
          <p:nvPr/>
        </p:nvSpPr>
        <p:spPr>
          <a:xfrm>
            <a:off x="2080440" y="31719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3"/>
          <p:cNvSpPr/>
          <p:nvPr/>
        </p:nvSpPr>
        <p:spPr>
          <a:xfrm>
            <a:off x="208296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ложенные условные операто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E97D-651B-45A3-907E-FD90962873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"/>
          <p:cNvSpPr/>
          <p:nvPr/>
        </p:nvSpPr>
        <p:spPr>
          <a:xfrm>
            <a:off x="485640" y="1733400"/>
            <a:ext cx="64994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838080" y="2800440"/>
            <a:ext cx="57657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53"/>
          <p:cNvSpPr/>
          <p:nvPr/>
        </p:nvSpPr>
        <p:spPr>
          <a:xfrm>
            <a:off x="5392800" y="4514760"/>
            <a:ext cx="3157560" cy="863640"/>
          </a:xfrm>
          <a:prstGeom prst="wedgeRoundRectCallout">
            <a:avLst>
              <a:gd name="adj1" fmla="val -45583"/>
              <a:gd name="adj2" fmla="val -93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оженный условный оп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51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нужен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Прямоугольник 6"/>
          <p:cNvSpPr/>
          <p:nvPr/>
        </p:nvSpPr>
        <p:spPr>
          <a:xfrm>
            <a:off x="382680" y="8064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переменных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ы Андрея и Бориса. Кто из них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55"/>
          <p:cNvGrpSpPr/>
          <p:nvPr/>
        </p:nvGrpSpPr>
        <p:grpSpPr>
          <a:xfrm>
            <a:off x="4924440" y="1244520"/>
            <a:ext cx="3841200" cy="663480"/>
            <a:chOff x="4924440" y="1244520"/>
            <a:chExt cx="3841200" cy="663480"/>
          </a:xfrm>
        </p:grpSpPr>
        <p:sp>
          <p:nvSpPr>
            <p:cNvPr id="655" name="Text Box 56"/>
            <p:cNvSpPr/>
            <p:nvPr/>
          </p:nvSpPr>
          <p:spPr>
            <a:xfrm>
              <a:off x="5391000" y="1350720"/>
              <a:ext cx="337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варианто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57"/>
            <p:cNvSpPr/>
            <p:nvPr/>
          </p:nvSpPr>
          <p:spPr>
            <a:xfrm>
              <a:off x="4924440" y="1244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772A-4CCB-48E2-9F70-030F176B4A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3"/>
          <p:cNvSpPr/>
          <p:nvPr/>
        </p:nvSpPr>
        <p:spPr>
          <a:xfrm>
            <a:off x="485640" y="971640"/>
            <a:ext cx="53438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Андрей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Одного возраст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Борис старше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55"/>
          <p:cNvGrpSpPr/>
          <p:nvPr/>
        </p:nvGrpSpPr>
        <p:grpSpPr>
          <a:xfrm>
            <a:off x="596880" y="3618000"/>
            <a:ext cx="3250800" cy="663480"/>
            <a:chOff x="596880" y="3618000"/>
            <a:chExt cx="3250800" cy="663480"/>
          </a:xfrm>
        </p:grpSpPr>
        <p:sp>
          <p:nvSpPr>
            <p:cNvPr id="661" name="Text Box 56"/>
            <p:cNvSpPr/>
            <p:nvPr/>
          </p:nvSpPr>
          <p:spPr>
            <a:xfrm>
              <a:off x="1063440" y="3724200"/>
              <a:ext cx="278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i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else 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7"/>
            <p:cNvSpPr/>
            <p:nvPr/>
          </p:nvSpPr>
          <p:spPr>
            <a:xfrm>
              <a:off x="596880" y="3618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скадное вет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BFB-76C5-47B6-880C-D3B95EC336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3"/>
          <p:cNvSpPr/>
          <p:nvPr/>
        </p:nvSpPr>
        <p:spPr>
          <a:xfrm>
            <a:off x="485640" y="971640"/>
            <a:ext cx="53438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t 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0</a:t>
            </a:r>
            <a:r>
              <a:rPr b="0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ок н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2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5%.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0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Скидка 10%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5"/>
          <p:cNvGrpSpPr/>
          <p:nvPr/>
        </p:nvGrpSpPr>
        <p:grpSpPr>
          <a:xfrm>
            <a:off x="609480" y="4633920"/>
            <a:ext cx="2917800" cy="663480"/>
            <a:chOff x="609480" y="4633920"/>
            <a:chExt cx="2917800" cy="663480"/>
          </a:xfrm>
        </p:grpSpPr>
        <p:sp>
          <p:nvSpPr>
            <p:cNvPr id="667" name="Text Box 56"/>
            <p:cNvSpPr/>
            <p:nvPr/>
          </p:nvSpPr>
          <p:spPr>
            <a:xfrm>
              <a:off x="1076400" y="474012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7"/>
            <p:cNvSpPr/>
            <p:nvPr/>
          </p:nvSpPr>
          <p:spPr>
            <a:xfrm>
              <a:off x="609480" y="4633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AutoShape 53"/>
          <p:cNvSpPr/>
          <p:nvPr/>
        </p:nvSpPr>
        <p:spPr>
          <a:xfrm>
            <a:off x="4986360" y="2063880"/>
            <a:ext cx="3510000" cy="844560"/>
          </a:xfrm>
          <a:prstGeom prst="wedgeRoundRectCallout">
            <a:avLst>
              <a:gd name="adj1" fmla="val -93046"/>
              <a:gd name="adj2" fmla="val -2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сработавше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11"/>
          <p:cNvSpPr/>
          <p:nvPr/>
        </p:nvSpPr>
        <p:spPr>
          <a:xfrm>
            <a:off x="3770280" y="4762440"/>
            <a:ext cx="20095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кидк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8640" y="4358880"/>
            <a:ext cx="7686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ейши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F9A-21FC-468F-80D2-0DAE0AA170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 (без функций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max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83F-52E9-4359-8197-0D896B8625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69720" y="809640"/>
            <a:ext cx="842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два целых числа, найти наибольшее и наимен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меньшее число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369720" y="3525840"/>
            <a:ext cx="842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четыре целых числа, найти наибольшее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етыре целых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 5 4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ибольшее число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B837-42F3-4102-9E57-C2E2CE09F5F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69720" y="942840"/>
            <a:ext cx="84204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'5'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пять чисел и найти наибольше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ведите пять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4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15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</a:rPr>
              <a:t> 9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56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Наибольшее число 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149C-B174-4156-A4F8-1F0D994043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последовательно возраст Антона, Бориса и Виктора. Определить, кто из них старш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Борис стар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Антон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Борис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озраст Виктора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Антон и Борис старше Ви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3DCC-D49D-4CEB-85F8-1C5332F1972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5"/>
          <p:cNvSpPr/>
          <p:nvPr/>
        </p:nvSpPr>
        <p:spPr>
          <a:xfrm>
            <a:off x="765360" y="3838680"/>
            <a:ext cx="9122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9"/>
          <p:cNvSpPr/>
          <p:nvPr/>
        </p:nvSpPr>
        <p:spPr>
          <a:xfrm>
            <a:off x="1287360" y="1895400"/>
            <a:ext cx="38433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g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lt;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1"/>
          <p:cNvSpPr/>
          <p:nvPr/>
        </p:nvSpPr>
        <p:spPr>
          <a:xfrm>
            <a:off x="1714320" y="3870360"/>
            <a:ext cx="606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»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времен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полн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все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00"/>
                            </p:stCondLst>
                            <p:childTnLst>
                              <p:par>
                                <p:cTn id="1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9454-D32B-4CE1-8486-1FC488689F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3"/>
          <p:cNvSpPr/>
          <p:nvPr/>
        </p:nvSpPr>
        <p:spPr>
          <a:xfrm>
            <a:off x="387360" y="809640"/>
            <a:ext cx="84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бор сотрудников в возраст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-40 л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итель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725400" y="1919520"/>
            <a:ext cx="538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 подходит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дходи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9"/>
          <p:cNvSpPr/>
          <p:nvPr/>
        </p:nvSpPr>
        <p:spPr>
          <a:xfrm>
            <a:off x="1287360" y="1895400"/>
            <a:ext cx="33354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53"/>
          <p:cNvSpPr/>
          <p:nvPr/>
        </p:nvSpPr>
        <p:spPr>
          <a:xfrm>
            <a:off x="3362400" y="1355760"/>
            <a:ext cx="2712960" cy="465120"/>
          </a:xfrm>
          <a:prstGeom prst="wedgeRoundRectCallout">
            <a:avLst>
              <a:gd name="adj1" fmla="val -34347"/>
              <a:gd name="adj2" fmla="val 761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4"/>
          <p:cNvSpPr/>
          <p:nvPr/>
        </p:nvSpPr>
        <p:spPr>
          <a:xfrm>
            <a:off x="763560" y="3838680"/>
            <a:ext cx="668520" cy="5814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5"/>
          <p:cNvSpPr/>
          <p:nvPr/>
        </p:nvSpPr>
        <p:spPr>
          <a:xfrm>
            <a:off x="1511280" y="3870360"/>
            <a:ext cx="65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: выполн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я бы од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из двух услови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ые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B415-1B68-4EEA-BD5B-672B0B1D8A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"/>
          <p:cNvSpPr/>
          <p:nvPr/>
        </p:nvSpPr>
        <p:spPr>
          <a:xfrm>
            <a:off x="725400" y="95148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 &lt; b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7"/>
          <p:cNvSpPr/>
          <p:nvPr/>
        </p:nvSpPr>
        <p:spPr>
          <a:xfrm>
            <a:off x="457920" y="1908000"/>
            <a:ext cx="820800" cy="5205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8"/>
          <p:cNvSpPr/>
          <p:nvPr/>
        </p:nvSpPr>
        <p:spPr>
          <a:xfrm>
            <a:off x="387360" y="3876840"/>
            <a:ext cx="60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!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Н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«ИЛ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3"/>
          <p:cNvSpPr/>
          <p:nvPr/>
        </p:nvSpPr>
        <p:spPr>
          <a:xfrm>
            <a:off x="1299240" y="1927080"/>
            <a:ext cx="63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: если выполняется обратное 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725400" y="2615400"/>
            <a:ext cx="6323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&gt;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C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тар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55"/>
          <p:cNvGrpSpPr/>
          <p:nvPr/>
        </p:nvGrpSpPr>
        <p:grpSpPr>
          <a:xfrm>
            <a:off x="5562720" y="1039680"/>
            <a:ext cx="2917800" cy="663480"/>
            <a:chOff x="5562720" y="1039680"/>
            <a:chExt cx="2917800" cy="663480"/>
          </a:xfrm>
        </p:grpSpPr>
        <p:sp>
          <p:nvSpPr>
            <p:cNvPr id="705" name="Text Box 56"/>
            <p:cNvSpPr/>
            <p:nvPr/>
          </p:nvSpPr>
          <p:spPr>
            <a:xfrm>
              <a:off x="6029640" y="1145880"/>
              <a:ext cx="2450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без «НЕ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57"/>
            <p:cNvSpPr/>
            <p:nvPr/>
          </p:nvSpPr>
          <p:spPr>
            <a:xfrm>
              <a:off x="5562720" y="1039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8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529-632A-4B65-962F-1E42C238C8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три числа  - рост трёх спортсменов, и выводит сообщение «По росту.», если они стоят по возрастанию роста, или сообщение «Не по росту!», если они стоят не 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6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По ро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рост трёх спортс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75 170 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 по ро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9A47-1977-4AD2-8310-70D1F0EC61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номер месяца и выводит соответствующее ему время года или сообщение об ошиб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омер меся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верный номер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985C-C23F-4412-B37F-D87773F291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369720" y="809640"/>
            <a:ext cx="8420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лучает возраст человека (целое число, не превышающее 120) и выводит этот возраст со словом «год», «года» или «лет». Например, «21 год», «22 года», «25 лет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1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возраст: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м 2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079640" y="4358880"/>
            <a:ext cx="69847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2136-E3E5-4111-8AAE-F7AD3435EA6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C0BE-CBCC-4F8F-B20A-5BF98ECC7F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31640" y="958680"/>
            <a:ext cx="79930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55"/>
          <p:cNvGrpSpPr/>
          <p:nvPr/>
        </p:nvGrpSpPr>
        <p:grpSpPr>
          <a:xfrm>
            <a:off x="388800" y="1633680"/>
            <a:ext cx="4735800" cy="931680"/>
            <a:chOff x="388800" y="1633680"/>
            <a:chExt cx="4735800" cy="931680"/>
          </a:xfrm>
        </p:grpSpPr>
        <p:sp>
          <p:nvSpPr>
            <p:cNvPr id="201" name="Text Box 56"/>
            <p:cNvSpPr/>
            <p:nvPr/>
          </p:nvSpPr>
          <p:spPr>
            <a:xfrm>
              <a:off x="855720" y="1739880"/>
              <a:ext cx="42688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делает эта программ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7"/>
            <p:cNvSpPr/>
            <p:nvPr/>
          </p:nvSpPr>
          <p:spPr>
            <a:xfrm>
              <a:off x="388800" y="1633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9"/>
          <p:cNvSpPr/>
          <p:nvPr/>
        </p:nvSpPr>
        <p:spPr>
          <a:xfrm>
            <a:off x="5348160" y="1514520"/>
            <a:ext cx="3564000" cy="752400"/>
          </a:xfrm>
          <a:prstGeom prst="wedgeRoundRectCallout">
            <a:avLst>
              <a:gd name="adj1" fmla="val -42222"/>
              <a:gd name="adj2" fmla="val -71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нтарии после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рабат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31640" y="3240000"/>
            <a:ext cx="7993080" cy="107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urier New"/>
              </a:rPr>
              <a:t># coding: utf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# Это пуст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857760" y="2381400"/>
            <a:ext cx="2724120" cy="723600"/>
          </a:xfrm>
          <a:prstGeom prst="wedgeRoundRectCallout">
            <a:avLst>
              <a:gd name="adj1" fmla="val -37592"/>
              <a:gd name="adj2" fmla="val 754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умолч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431640" y="4608360"/>
            <a:ext cx="7993080" cy="146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Это тоже комментар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000"/>
                </a:solidFill>
                <a:latin typeface="Courier New"/>
              </a:rPr>
              <a:t>""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4976-06AD-4C52-8BEA-5D76F87CE3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4"/>
          <p:cNvSpPr/>
          <p:nvPr/>
        </p:nvSpPr>
        <p:spPr>
          <a:xfrm>
            <a:off x="380880" y="801720"/>
            <a:ext cx="35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чальное знач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6"/>
          <p:cNvSpPr/>
          <p:nvPr/>
        </p:nvSpPr>
        <p:spPr>
          <a:xfrm>
            <a:off x="380880" y="29606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849240" y="1307520"/>
            <a:ext cx="518004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Привет!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71"/>
          <p:cNvGrpSpPr/>
          <p:nvPr/>
        </p:nvGrpSpPr>
        <p:grpSpPr>
          <a:xfrm>
            <a:off x="4367160" y="1090440"/>
            <a:ext cx="4403520" cy="1452960"/>
            <a:chOff x="4367160" y="1090440"/>
            <a:chExt cx="4403520" cy="1452960"/>
          </a:xfrm>
        </p:grpSpPr>
        <p:sp>
          <p:nvSpPr>
            <p:cNvPr id="725" name="Text Box 69"/>
            <p:cNvSpPr/>
            <p:nvPr/>
          </p:nvSpPr>
          <p:spPr>
            <a:xfrm>
              <a:off x="4856040" y="1169640"/>
              <a:ext cx="391464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следовательно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имволов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70"/>
            <p:cNvSpPr/>
            <p:nvPr/>
          </p:nvSpPr>
          <p:spPr>
            <a:xfrm>
              <a:off x="4367160" y="1090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Прямоугольник 18"/>
          <p:cNvSpPr/>
          <p:nvPr/>
        </p:nvSpPr>
        <p:spPr>
          <a:xfrm>
            <a:off x="380880" y="180504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"/>
          <p:cNvSpPr/>
          <p:nvPr/>
        </p:nvSpPr>
        <p:spPr>
          <a:xfrm>
            <a:off x="849240" y="2281320"/>
            <a:ext cx="3116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оугольник 21"/>
          <p:cNvSpPr/>
          <p:nvPr/>
        </p:nvSpPr>
        <p:spPr>
          <a:xfrm>
            <a:off x="380880" y="48531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"/>
          <p:cNvSpPr/>
          <p:nvPr/>
        </p:nvSpPr>
        <p:spPr>
          <a:xfrm>
            <a:off x="849240" y="5356440"/>
            <a:ext cx="39258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АУ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5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*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оугольник 27"/>
          <p:cNvSpPr/>
          <p:nvPr/>
        </p:nvSpPr>
        <p:spPr>
          <a:xfrm>
            <a:off x="4952880" y="5773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АУАУАУАУ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71"/>
          <p:cNvGrpSpPr/>
          <p:nvPr/>
        </p:nvGrpSpPr>
        <p:grpSpPr>
          <a:xfrm>
            <a:off x="3795840" y="6018120"/>
            <a:ext cx="3315960" cy="663480"/>
            <a:chOff x="3795840" y="6018120"/>
            <a:chExt cx="3315960" cy="663480"/>
          </a:xfrm>
        </p:grpSpPr>
        <p:sp>
          <p:nvSpPr>
            <p:cNvPr id="733" name="Text Box 69"/>
            <p:cNvSpPr/>
            <p:nvPr/>
          </p:nvSpPr>
          <p:spPr>
            <a:xfrm>
              <a:off x="4284720" y="6097320"/>
              <a:ext cx="282708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Что получим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0"/>
            <p:cNvSpPr/>
            <p:nvPr/>
          </p:nvSpPr>
          <p:spPr>
            <a:xfrm>
              <a:off x="3795840" y="6018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AutoShape 17"/>
          <p:cNvSpPr/>
          <p:nvPr/>
        </p:nvSpPr>
        <p:spPr>
          <a:xfrm>
            <a:off x="3166920" y="5003640"/>
            <a:ext cx="5126040" cy="642960"/>
          </a:xfrm>
          <a:prstGeom prst="wedgeRoundRectCallout">
            <a:avLst>
              <a:gd name="adj1" fmla="val -62013"/>
              <a:gd name="adj2" fmla="val 9582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5 = s + s + s + s +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"/>
          <p:cNvSpPr/>
          <p:nvPr/>
        </p:nvSpPr>
        <p:spPr>
          <a:xfrm>
            <a:off x="849240" y="3427920"/>
            <a:ext cx="5711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ася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, 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!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Скругленная прямоугольная выноска 36"/>
          <p:cNvSpPr/>
          <p:nvPr/>
        </p:nvSpPr>
        <p:spPr>
          <a:xfrm>
            <a:off x="4890960" y="3449520"/>
            <a:ext cx="3465720" cy="528840"/>
          </a:xfrm>
          <a:prstGeom prst="wedgeRoundRectCallout">
            <a:avLst>
              <a:gd name="adj1" fmla="val -47550"/>
              <a:gd name="adj2" fmla="val 12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Привет, Вася!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1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621-6243-4734-BA7B-AA8704C1A0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380880" y="8269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символа на экр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4"/>
          <p:cNvSpPr/>
          <p:nvPr/>
        </p:nvSpPr>
        <p:spPr>
          <a:xfrm>
            <a:off x="380880" y="34369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ина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849240" y="3938400"/>
            <a:ext cx="2745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"/>
          <p:cNvSpPr/>
          <p:nvPr/>
        </p:nvSpPr>
        <p:spPr>
          <a:xfrm>
            <a:off x="849240" y="1333440"/>
            <a:ext cx="3106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885960" y="2071800"/>
          <a:ext cx="5216400" cy="1285920"/>
        </p:xfrm>
        <a:graphic>
          <a:graphicData uri="http://schemas.openxmlformats.org/drawingml/2006/table">
            <a:tbl>
              <a:tblPr/>
              <a:tblGrid>
                <a:gridCol w="744480"/>
                <a:gridCol w="745920"/>
                <a:gridCol w="744840"/>
                <a:gridCol w="745920"/>
                <a:gridCol w="744480"/>
                <a:gridCol w="746280"/>
                <a:gridCol w="74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1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4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36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[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Полилиния 24"/>
          <p:cNvSpPr/>
          <p:nvPr/>
        </p:nvSpPr>
        <p:spPr>
          <a:xfrm>
            <a:off x="3381480" y="1738440"/>
            <a:ext cx="1349280" cy="7761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"/>
          <p:cNvSpPr/>
          <p:nvPr/>
        </p:nvSpPr>
        <p:spPr>
          <a:xfrm>
            <a:off x="4995720" y="1333440"/>
            <a:ext cx="3489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29"/>
          <p:cNvSpPr/>
          <p:nvPr/>
        </p:nvSpPr>
        <p:spPr>
          <a:xfrm>
            <a:off x="6179040" y="1903320"/>
            <a:ext cx="25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олилиния 30"/>
          <p:cNvSpPr/>
          <p:nvPr/>
        </p:nvSpPr>
        <p:spPr>
          <a:xfrm flipH="1">
            <a:off x="5156280" y="1770120"/>
            <a:ext cx="1744560" cy="744480"/>
          </a:xfrm>
          <a:custGeom>
            <a:avLst/>
            <a:gdLst>
              <a:gd name="textAreaLeft" fmla="*/ 360 w 1744560"/>
              <a:gd name="textAreaRight" fmla="*/ 1745280 w 17445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723014" h="797442">
                <a:moveTo>
                  <a:pt x="723014" y="797442"/>
                </a:moveTo>
                <a:cubicBezTo>
                  <a:pt x="652130" y="180753"/>
                  <a:pt x="241005" y="265814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ьные стро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56BE-22FF-47B5-B7BF-D6F2C3110C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6"/>
          <p:cNvSpPr/>
          <p:nvPr/>
        </p:nvSpPr>
        <p:spPr>
          <a:xfrm>
            <a:off x="380880" y="8287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с клавиату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"/>
          <p:cNvSpPr/>
          <p:nvPr/>
        </p:nvSpPr>
        <p:spPr>
          <a:xfrm>
            <a:off x="700200" y="1276200"/>
            <a:ext cx="60195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Введите имя: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13"/>
          <p:cNvSpPr/>
          <p:nvPr/>
        </p:nvSpPr>
        <p:spPr>
          <a:xfrm>
            <a:off x="380880" y="1876320"/>
            <a:ext cx="31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е стро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700200" y="2360160"/>
            <a:ext cx="2212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71"/>
          <p:cNvGrpSpPr/>
          <p:nvPr/>
        </p:nvGrpSpPr>
        <p:grpSpPr>
          <a:xfrm>
            <a:off x="1189080" y="3174840"/>
            <a:ext cx="7071840" cy="663480"/>
            <a:chOff x="1189080" y="3174840"/>
            <a:chExt cx="7071840" cy="663480"/>
          </a:xfrm>
        </p:grpSpPr>
        <p:sp>
          <p:nvSpPr>
            <p:cNvPr id="756" name="Text Box 69"/>
            <p:cNvSpPr/>
            <p:nvPr/>
          </p:nvSpPr>
          <p:spPr>
            <a:xfrm>
              <a:off x="1677960" y="3254040"/>
              <a:ext cx="658296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Строка – это неизменяемый объек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70"/>
            <p:cNvSpPr/>
            <p:nvPr/>
          </p:nvSpPr>
          <p:spPr>
            <a:xfrm>
              <a:off x="1189080" y="317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Плюс 26"/>
          <p:cNvSpPr/>
          <p:nvPr/>
        </p:nvSpPr>
        <p:spPr>
          <a:xfrm rot="2700000">
            <a:off x="1423800" y="2200320"/>
            <a:ext cx="819000" cy="819000"/>
          </a:xfrm>
          <a:custGeom>
            <a:avLst/>
            <a:gdLst>
              <a:gd name="textAreaLeft" fmla="*/ 108360 w 819000"/>
              <a:gd name="textAreaRight" fmla="*/ 710640 w 819000"/>
              <a:gd name="textAreaTop" fmla="*/ 376920 h 819000"/>
              <a:gd name="textAreaBottom" fmla="*/ 442080 h 819000"/>
            </a:gdLst>
            <a:ahLst/>
            <a:rect l="textAreaLeft" t="textAreaTop" r="textAreaRight" b="textAreaBottom"/>
            <a:pathLst>
              <a:path w="819150" h="819150">
                <a:moveTo>
                  <a:pt x="108578" y="377071"/>
                </a:moveTo>
                <a:lnTo>
                  <a:pt x="377071" y="377071"/>
                </a:lnTo>
                <a:lnTo>
                  <a:pt x="377071" y="108578"/>
                </a:lnTo>
                <a:lnTo>
                  <a:pt x="442079" y="108578"/>
                </a:lnTo>
                <a:lnTo>
                  <a:pt x="442079" y="377071"/>
                </a:lnTo>
                <a:lnTo>
                  <a:pt x="710572" y="377071"/>
                </a:lnTo>
                <a:lnTo>
                  <a:pt x="710572" y="442079"/>
                </a:lnTo>
                <a:lnTo>
                  <a:pt x="442079" y="442079"/>
                </a:lnTo>
                <a:lnTo>
                  <a:pt x="442079" y="710572"/>
                </a:lnTo>
                <a:lnTo>
                  <a:pt x="377071" y="710572"/>
                </a:lnTo>
                <a:lnTo>
                  <a:pt x="377071" y="442079"/>
                </a:lnTo>
                <a:lnTo>
                  <a:pt x="108578" y="442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27"/>
          <p:cNvSpPr/>
          <p:nvPr/>
        </p:nvSpPr>
        <p:spPr>
          <a:xfrm>
            <a:off x="380880" y="4033800"/>
            <a:ext cx="59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можно составить новую строк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743040" y="4539600"/>
            <a:ext cx="3031920" cy="48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s + 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a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оугольник 15"/>
          <p:cNvSpPr/>
          <p:nvPr/>
        </p:nvSpPr>
        <p:spPr>
          <a:xfrm>
            <a:off x="380880" y="1876320"/>
            <a:ext cx="52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менение строки запреще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"/>
          <p:cNvSpPr/>
          <p:nvPr/>
        </p:nvSpPr>
        <p:spPr>
          <a:xfrm>
            <a:off x="743040" y="5246640"/>
            <a:ext cx="5019480" cy="88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ru-RU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информатика</a:t>
            </a:r>
            <a:r>
              <a:rPr b="1" lang="en-US" sz="26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  <a:ea typeface="Courier New"/>
              </a:rPr>
              <a:t>print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(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+s[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  <a:ea typeface="Courier New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кругленная прямоугольная выноска 17"/>
          <p:cNvSpPr/>
          <p:nvPr/>
        </p:nvSpPr>
        <p:spPr>
          <a:xfrm>
            <a:off x="4857840" y="4724280"/>
            <a:ext cx="3133800" cy="628920"/>
          </a:xfrm>
          <a:prstGeom prst="wedgeRoundRectCallout">
            <a:avLst>
              <a:gd name="adj1" fmla="val -68273"/>
              <a:gd name="adj2" fmla="val 594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«к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3ABF-6F1F-4656-B7A6-FD39DCFB75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519120" y="1000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887480" y="2081160"/>
          <a:ext cx="6095880" cy="828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768" name="Овал 35"/>
          <p:cNvSpPr/>
          <p:nvPr/>
        </p:nvSpPr>
        <p:spPr>
          <a:xfrm>
            <a:off x="352440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9"/>
          <p:cNvSpPr/>
          <p:nvPr/>
        </p:nvSpPr>
        <p:spPr>
          <a:xfrm>
            <a:off x="274680" y="2600280"/>
            <a:ext cx="1409760" cy="439920"/>
          </a:xfrm>
          <a:prstGeom prst="wedgeRoundRectCallout">
            <a:avLst>
              <a:gd name="adj1" fmla="val 60662"/>
              <a:gd name="adj2" fmla="val 5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1600200" y="2941560"/>
          <a:ext cx="6095880" cy="371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8040"/>
                <a:gridCol w="61128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Courier New"/>
                          <a:ea typeface="Courier New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Овал 40"/>
          <p:cNvSpPr/>
          <p:nvPr/>
        </p:nvSpPr>
        <p:spPr>
          <a:xfrm>
            <a:off x="6586560" y="2930400"/>
            <a:ext cx="388800" cy="390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зы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511-13A8-49B0-8AE4-982B3DD614E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"/>
          <p:cNvSpPr/>
          <p:nvPr/>
        </p:nvSpPr>
        <p:spPr>
          <a:xfrm>
            <a:off x="519120" y="96228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59"/>
          <p:cNvSpPr/>
          <p:nvPr/>
        </p:nvSpPr>
        <p:spPr>
          <a:xfrm>
            <a:off x="2016000" y="2023920"/>
            <a:ext cx="2748240" cy="509760"/>
          </a:xfrm>
          <a:prstGeom prst="wedgeRoundRectCallout">
            <a:avLst>
              <a:gd name="adj1" fmla="val -54078"/>
              <a:gd name="adj2" fmla="val -888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чал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"/>
          <p:cNvSpPr/>
          <p:nvPr/>
        </p:nvSpPr>
        <p:spPr>
          <a:xfrm>
            <a:off x="519120" y="268452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34567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59"/>
          <p:cNvSpPr/>
          <p:nvPr/>
        </p:nvSpPr>
        <p:spPr>
          <a:xfrm>
            <a:off x="2016000" y="37465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онца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"/>
          <p:cNvSpPr/>
          <p:nvPr/>
        </p:nvSpPr>
        <p:spPr>
          <a:xfrm>
            <a:off x="519120" y="4394160"/>
            <a:ext cx="731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9876543210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9"/>
          <p:cNvSpPr/>
          <p:nvPr/>
        </p:nvSpPr>
        <p:spPr>
          <a:xfrm>
            <a:off x="2016000" y="5118120"/>
            <a:ext cx="2748240" cy="509400"/>
          </a:xfrm>
          <a:prstGeom prst="wedgeRoundRectCallout">
            <a:avLst>
              <a:gd name="adj1" fmla="val -40532"/>
              <a:gd name="adj2" fmla="val -951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7C5-5DF2-4400-B4C4-25729556FC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6"/>
          <p:cNvSpPr/>
          <p:nvPr/>
        </p:nvSpPr>
        <p:spPr>
          <a:xfrm>
            <a:off x="380880" y="808200"/>
            <a:ext cx="79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резы с отрицательными индекс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"/>
          <p:cNvSpPr/>
          <p:nvPr/>
        </p:nvSpPr>
        <p:spPr>
          <a:xfrm>
            <a:off x="519120" y="12668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3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59"/>
          <p:cNvSpPr/>
          <p:nvPr/>
        </p:nvSpPr>
        <p:spPr>
          <a:xfrm>
            <a:off x="1751040" y="2392200"/>
            <a:ext cx="1881000" cy="414360"/>
          </a:xfrm>
          <a:prstGeom prst="wedgeRoundRectCallout">
            <a:avLst>
              <a:gd name="adj1" fmla="val -28314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"/>
          <p:cNvSpPr/>
          <p:nvPr/>
        </p:nvSpPr>
        <p:spPr>
          <a:xfrm>
            <a:off x="519120" y="2989440"/>
            <a:ext cx="7311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6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       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4567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59"/>
          <p:cNvSpPr/>
          <p:nvPr/>
        </p:nvSpPr>
        <p:spPr>
          <a:xfrm>
            <a:off x="2973240" y="4071960"/>
            <a:ext cx="1751040" cy="414360"/>
          </a:xfrm>
          <a:prstGeom prst="wedgeRoundRectCallout">
            <a:avLst>
              <a:gd name="adj1" fmla="val -54425"/>
              <a:gd name="adj2" fmla="val -108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59"/>
          <p:cNvSpPr/>
          <p:nvPr/>
        </p:nvSpPr>
        <p:spPr>
          <a:xfrm>
            <a:off x="863640" y="4071960"/>
            <a:ext cx="1790640" cy="414360"/>
          </a:xfrm>
          <a:prstGeom prst="wedgeRoundRectCallout">
            <a:avLst>
              <a:gd name="adj1" fmla="val 23648"/>
              <a:gd name="adj2" fmla="val -117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s)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ции со стро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E9A6-ACFF-49CF-B247-23849799FC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3"/>
          <p:cNvSpPr/>
          <p:nvPr/>
        </p:nvSpPr>
        <p:spPr>
          <a:xfrm>
            <a:off x="380880" y="27813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тав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"/>
          <p:cNvSpPr/>
          <p:nvPr/>
        </p:nvSpPr>
        <p:spPr>
          <a:xfrm>
            <a:off x="519120" y="3251520"/>
            <a:ext cx="68072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BC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оугольник 8"/>
          <p:cNvSpPr/>
          <p:nvPr/>
        </p:nvSpPr>
        <p:spPr>
          <a:xfrm>
            <a:off x="380880" y="817560"/>
            <a:ext cx="49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да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"/>
          <p:cNvSpPr/>
          <p:nvPr/>
        </p:nvSpPr>
        <p:spPr>
          <a:xfrm>
            <a:off x="519120" y="128772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345678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: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012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оугольник 12"/>
          <p:cNvSpPr/>
          <p:nvPr/>
        </p:nvSpPr>
        <p:spPr>
          <a:xfrm>
            <a:off x="1446120" y="22446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12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13"/>
          <p:cNvSpPr/>
          <p:nvPr/>
        </p:nvSpPr>
        <p:spPr>
          <a:xfrm>
            <a:off x="3051000" y="2244600"/>
            <a:ext cx="8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9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14"/>
          <p:cNvSpPr/>
          <p:nvPr/>
        </p:nvSpPr>
        <p:spPr>
          <a:xfrm>
            <a:off x="1955880" y="420228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012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ABC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3456789</a:t>
            </a:r>
            <a:r>
              <a:rPr b="1" lang="en-US" sz="2600" spc="-1" strike="noStrike">
                <a:solidFill>
                  <a:srgbClr val="008000"/>
                </a:solidFill>
                <a:latin typeface="Courier New"/>
                <a:ea typeface="Courier New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F9AA-BEDE-427F-8FB3-FD0C46158E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,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, иначе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лишком коротки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67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FA9D-98A8-4A59-9A61-ABEEC8F483D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369720" y="809640"/>
            <a:ext cx="842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пароль (символьную строку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сли его длина меньше, че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мволов, вывести сообщение «Слишком короткий пароль!». Если пароль начинается с букв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wert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вывести сообщение «Ненадёжный пароль!». Если ошибок не было, вывести сообщение «О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qwerty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надёжный паро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паро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sdUTY7sak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04B-135F-451D-867C-5DA384B96EB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имя файла. Если расширение имени файла –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h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ть сообщение «Это веб-страница!», иначе выдать сообщение «Что-то друго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DOC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йт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Это веб-страниц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имя фай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C: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Документы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\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Приказ.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то-то друг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на эк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BE2-03DA-4578-BC43-F92EB88A1B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58800" y="1225440"/>
            <a:ext cx="47847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=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вет: 4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2520" y="2332080"/>
            <a:ext cx="82803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+2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Ответ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6"/>
          <p:cNvSpPr/>
          <p:nvPr/>
        </p:nvSpPr>
        <p:spPr>
          <a:xfrm rot="5400000">
            <a:off x="282600" y="144468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Равнобедренный треугольник 7"/>
          <p:cNvSpPr/>
          <p:nvPr/>
        </p:nvSpPr>
        <p:spPr>
          <a:xfrm rot="5400000">
            <a:off x="282600" y="1892520"/>
            <a:ext cx="239760" cy="1411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5497560" y="927000"/>
            <a:ext cx="2957400" cy="1063800"/>
          </a:xfrm>
          <a:prstGeom prst="wedgeRoundRectCallout">
            <a:avLst>
              <a:gd name="adj1" fmla="val -85606"/>
              <a:gd name="adj2" fmla="val 24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й переход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508200" y="2741760"/>
            <a:ext cx="47865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2+2=?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'Ответ: 4'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84280" y="4358880"/>
            <a:ext cx="797544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75C1-9E8D-43B1-8792-A1D8622DE2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7F24-C625-4E9B-AD2E-D99C909E59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9"/>
          <p:cNvSpPr/>
          <p:nvPr/>
        </p:nvSpPr>
        <p:spPr>
          <a:xfrm>
            <a:off x="393840" y="836640"/>
            <a:ext cx="8442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ногократное выполнение одинак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6"/>
          <p:cNvSpPr/>
          <p:nvPr/>
        </p:nvSpPr>
        <p:spPr>
          <a:xfrm>
            <a:off x="393840" y="1785960"/>
            <a:ext cx="844236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1440" indent="-268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ида цик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ть 10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извест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ом шагов (делать, пока не надо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7"/>
          <p:cNvSpPr/>
          <p:nvPr/>
        </p:nvSpPr>
        <p:spPr>
          <a:xfrm>
            <a:off x="393840" y="36957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на экран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слово «Прив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7"/>
          <p:cNvGrpSpPr/>
          <p:nvPr/>
        </p:nvGrpSpPr>
        <p:grpSpPr>
          <a:xfrm>
            <a:off x="961920" y="4299120"/>
            <a:ext cx="6977160" cy="663480"/>
            <a:chOff x="961920" y="4299120"/>
            <a:chExt cx="6977160" cy="663480"/>
          </a:xfrm>
        </p:grpSpPr>
        <p:sp>
          <p:nvSpPr>
            <p:cNvPr id="815" name="Text Box 8"/>
            <p:cNvSpPr/>
            <p:nvPr/>
          </p:nvSpPr>
          <p:spPr>
            <a:xfrm>
              <a:off x="1428840" y="4405680"/>
              <a:ext cx="6510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9"/>
            <p:cNvSpPr/>
            <p:nvPr/>
          </p:nvSpPr>
          <p:spPr>
            <a:xfrm>
              <a:off x="961920" y="42991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вторения в програм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16CD-4091-46D3-9E85-86F262F3E3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"/>
          <p:cNvSpPr/>
          <p:nvPr/>
        </p:nvSpPr>
        <p:spPr>
          <a:xfrm>
            <a:off x="477720" y="949320"/>
            <a:ext cx="4592880" cy="200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</a:rPr>
              <a:t>Привет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7"/>
          <p:cNvGrpSpPr/>
          <p:nvPr/>
        </p:nvGrpSpPr>
        <p:grpSpPr>
          <a:xfrm>
            <a:off x="2360520" y="3325680"/>
            <a:ext cx="2525760" cy="663480"/>
            <a:chOff x="2360520" y="3325680"/>
            <a:chExt cx="2525760" cy="663480"/>
          </a:xfrm>
        </p:grpSpPr>
        <p:sp>
          <p:nvSpPr>
            <p:cNvPr id="821" name="Text Box 8"/>
            <p:cNvSpPr/>
            <p:nvPr/>
          </p:nvSpPr>
          <p:spPr>
            <a:xfrm>
              <a:off x="2827440" y="3432240"/>
              <a:ext cx="205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9"/>
            <p:cNvSpPr/>
            <p:nvPr/>
          </p:nvSpPr>
          <p:spPr>
            <a:xfrm>
              <a:off x="2360520" y="3325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ок-схема ци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8C1-1DD5-4A77-8939-93481C2B70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Блок-схема: процесс 3"/>
          <p:cNvSpPr/>
          <p:nvPr/>
        </p:nvSpPr>
        <p:spPr>
          <a:xfrm>
            <a:off x="2333520" y="3325680"/>
            <a:ext cx="3895920" cy="897120"/>
          </a:xfrm>
          <a:prstGeom prst="flowChartProcess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Блок-схема: знак завершения 17"/>
          <p:cNvSpPr/>
          <p:nvPr/>
        </p:nvSpPr>
        <p:spPr>
          <a:xfrm>
            <a:off x="3559320" y="1251000"/>
            <a:ext cx="139356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Блок-схема: знак завершения 18"/>
          <p:cNvSpPr/>
          <p:nvPr/>
        </p:nvSpPr>
        <p:spPr>
          <a:xfrm>
            <a:off x="6435720" y="2367000"/>
            <a:ext cx="1393920" cy="390600"/>
          </a:xfrm>
          <a:prstGeom prst="flowChartTerminator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Прямая со стрелкой 28"/>
          <p:cNvCxnSpPr/>
          <p:nvPr/>
        </p:nvCxnSpPr>
        <p:spPr>
          <a:xfrm flipV="1" rot="16200000">
            <a:off x="2887920" y="2652840"/>
            <a:ext cx="1480320" cy="1297800"/>
          </a:xfrm>
          <a:prstGeom prst="bentConnector4">
            <a:avLst>
              <a:gd name="adj1" fmla="val -44393"/>
              <a:gd name="adj2" fmla="val 170366"/>
            </a:avLst>
          </a:prstGeom>
          <a:ln w="9360">
            <a:solidFill>
              <a:srgbClr val="000000"/>
            </a:solidFill>
            <a:round/>
            <a:tailEnd len="lg" type="triangle" w="med"/>
          </a:ln>
        </p:spPr>
      </p:cxnSp>
      <p:cxnSp>
        <p:nvCxnSpPr>
          <p:cNvPr id="829" name="Прямая со стрелкой 31"/>
          <p:cNvCxnSpPr>
            <a:stCxn id="826" idx="2"/>
          </p:cNvCxnSpPr>
          <p:nvPr/>
        </p:nvCxnSpPr>
        <p:spPr>
          <a:xfrm flipH="1">
            <a:off x="4255200" y="16412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0" name="Прямая со стрелкой 52"/>
          <p:cNvCxnSpPr>
            <a:endCxn id="827" idx="1"/>
          </p:cNvCxnSpPr>
          <p:nvPr/>
        </p:nvCxnSpPr>
        <p:spPr>
          <a:xfrm>
            <a:off x="5532120" y="2561760"/>
            <a:ext cx="903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1" name="Прямая со стрелкой 53"/>
          <p:cNvCxnSpPr/>
          <p:nvPr/>
        </p:nvCxnSpPr>
        <p:spPr>
          <a:xfrm flipH="1">
            <a:off x="4254120" y="3014280"/>
            <a:ext cx="216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32" name="Блок-схема: процесс 63"/>
          <p:cNvSpPr/>
          <p:nvPr/>
        </p:nvSpPr>
        <p:spPr>
          <a:xfrm>
            <a:off x="5667480" y="2160720"/>
            <a:ext cx="5014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Блок-схема: процесс 64"/>
          <p:cNvSpPr/>
          <p:nvPr/>
        </p:nvSpPr>
        <p:spPr>
          <a:xfrm>
            <a:off x="3614760" y="3019320"/>
            <a:ext cx="623880" cy="406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Скругленная прямоугольная выноска 13"/>
          <p:cNvSpPr/>
          <p:nvPr/>
        </p:nvSpPr>
        <p:spPr>
          <a:xfrm>
            <a:off x="6035760" y="4649760"/>
            <a:ext cx="1971720" cy="569880"/>
          </a:xfrm>
          <a:prstGeom prst="wedgeRoundRectCallout">
            <a:avLst>
              <a:gd name="adj1" fmla="val -60750"/>
              <a:gd name="adj2" fmla="val -135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Группа 29" descr=""/>
          <p:cNvPicPr/>
          <p:nvPr/>
        </p:nvPicPr>
        <p:blipFill>
          <a:blip r:embed="rId1"/>
          <a:stretch/>
        </p:blipFill>
        <p:spPr>
          <a:xfrm>
            <a:off x="2944800" y="2073240"/>
            <a:ext cx="2674800" cy="1023840"/>
          </a:xfrm>
          <a:prstGeom prst="rect">
            <a:avLst/>
          </a:prstGeom>
          <a:ln w="0">
            <a:noFill/>
          </a:ln>
        </p:spPr>
      </p:pic>
      <p:pic>
        <p:nvPicPr>
          <p:cNvPr id="836" name="Группа 39" descr=""/>
          <p:cNvPicPr/>
          <p:nvPr/>
        </p:nvPicPr>
        <p:blipFill>
          <a:blip r:embed="rId2"/>
          <a:stretch/>
        </p:blipFill>
        <p:spPr>
          <a:xfrm>
            <a:off x="2548080" y="3444840"/>
            <a:ext cx="35049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08C1-90F6-40F2-8B1E-2D786DE96F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93680" y="911520"/>
            <a:ext cx="47592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"/>
          <p:cNvSpPr/>
          <p:nvPr/>
        </p:nvSpPr>
        <p:spPr>
          <a:xfrm>
            <a:off x="193680" y="3492720"/>
            <a:ext cx="4746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счётчик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меньшить счётчик на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"/>
          <p:cNvSpPr/>
          <p:nvPr/>
        </p:nvSpPr>
        <p:spPr>
          <a:xfrm>
            <a:off x="4970520" y="91440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4970520" y="3492720"/>
            <a:ext cx="4046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3333ff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ивет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-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7"/>
          <p:cNvGrpSpPr/>
          <p:nvPr/>
        </p:nvGrpSpPr>
        <p:grpSpPr>
          <a:xfrm>
            <a:off x="3224160" y="2614680"/>
            <a:ext cx="3443400" cy="663480"/>
            <a:chOff x="3224160" y="2614680"/>
            <a:chExt cx="3443400" cy="663480"/>
          </a:xfrm>
        </p:grpSpPr>
        <p:sp>
          <p:nvSpPr>
            <p:cNvPr id="844" name="Text Box 8"/>
            <p:cNvSpPr/>
            <p:nvPr/>
          </p:nvSpPr>
          <p:spPr>
            <a:xfrm>
              <a:off x="3691080" y="2721240"/>
              <a:ext cx="29764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по-другом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9"/>
            <p:cNvSpPr/>
            <p:nvPr/>
          </p:nvSpPr>
          <p:spPr>
            <a:xfrm>
              <a:off x="3224160" y="26146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8" dur="indefinite" restart="never" nodeType="tmRoot">
          <p:childTnLst>
            <p:seq>
              <p:cTn id="2199" dur="indefinite" nodeType="mainSeq">
                <p:childTnLst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EDB-2F69-44DF-9358-05E8FA420E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525600" y="97164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7"/>
          <p:cNvSpPr/>
          <p:nvPr/>
        </p:nvSpPr>
        <p:spPr>
          <a:xfrm>
            <a:off x="6672240" y="955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8"/>
          <p:cNvSpPr/>
          <p:nvPr/>
        </p:nvSpPr>
        <p:spPr>
          <a:xfrm>
            <a:off x="542880" y="200664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9"/>
          <p:cNvSpPr/>
          <p:nvPr/>
        </p:nvSpPr>
        <p:spPr>
          <a:xfrm>
            <a:off x="6689880" y="1990800"/>
            <a:ext cx="1511280" cy="78876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"/>
          <p:cNvSpPr/>
          <p:nvPr/>
        </p:nvSpPr>
        <p:spPr>
          <a:xfrm>
            <a:off x="542880" y="309708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1"/>
          <p:cNvSpPr/>
          <p:nvPr/>
        </p:nvSpPr>
        <p:spPr>
          <a:xfrm>
            <a:off x="6689880" y="308124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552600" y="4151160"/>
            <a:ext cx="513684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3"/>
          <p:cNvSpPr/>
          <p:nvPr/>
        </p:nvSpPr>
        <p:spPr>
          <a:xfrm>
            <a:off x="6699240" y="4135320"/>
            <a:ext cx="1511280" cy="789120"/>
          </a:xfrm>
          <a:prstGeom prst="wedgeRoundRectCallout">
            <a:avLst>
              <a:gd name="adj1" fmla="val -130041"/>
              <a:gd name="adj2" fmla="val 443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4"/>
          <p:cNvSpPr/>
          <p:nvPr/>
        </p:nvSpPr>
        <p:spPr>
          <a:xfrm>
            <a:off x="534960" y="5240160"/>
            <a:ext cx="5137200" cy="8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15"/>
          <p:cNvSpPr/>
          <p:nvPr/>
        </p:nvSpPr>
        <p:spPr>
          <a:xfrm>
            <a:off x="6305400" y="5214960"/>
            <a:ext cx="2657520" cy="644400"/>
          </a:xfrm>
          <a:prstGeom prst="wedgeRoundRectCallout">
            <a:avLst>
              <a:gd name="adj1" fmla="val -94203"/>
              <a:gd name="adj2" fmla="val 39291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F95-B9D9-4E77-B0B7-5523B71501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384120" y="8161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личество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ой записи целого положительного числа, записанного в переменную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"/>
          <p:cNvSpPr/>
          <p:nvPr/>
        </p:nvSpPr>
        <p:spPr>
          <a:xfrm>
            <a:off x="506520" y="2052720"/>
            <a:ext cx="4970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тсечь последнюю цифру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увеличить счётчик на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965920" y="1986120"/>
          <a:ext cx="2789280" cy="2743200"/>
        </p:xfrm>
        <a:graphic>
          <a:graphicData uri="http://schemas.openxmlformats.org/drawingml/2006/table">
            <a:tbl>
              <a:tblPr/>
              <a:tblGrid>
                <a:gridCol w="1158840"/>
                <a:gridCol w="16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чёт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cd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3" name="Group 7"/>
          <p:cNvGrpSpPr/>
          <p:nvPr/>
        </p:nvGrpSpPr>
        <p:grpSpPr>
          <a:xfrm>
            <a:off x="512640" y="3747960"/>
            <a:ext cx="5335560" cy="663480"/>
            <a:chOff x="512640" y="3747960"/>
            <a:chExt cx="5335560" cy="663480"/>
          </a:xfrm>
        </p:grpSpPr>
        <p:sp>
          <p:nvSpPr>
            <p:cNvPr id="864" name="Text Box 8"/>
            <p:cNvSpPr/>
            <p:nvPr/>
          </p:nvSpPr>
          <p:spPr>
            <a:xfrm>
              <a:off x="979560" y="3854520"/>
              <a:ext cx="4868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тсечь последнюю цифру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512640" y="3747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Прямоугольник 21"/>
          <p:cNvSpPr/>
          <p:nvPr/>
        </p:nvSpPr>
        <p:spPr>
          <a:xfrm>
            <a:off x="1195920" y="4525920"/>
            <a:ext cx="2192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7"/>
          <p:cNvGrpSpPr/>
          <p:nvPr/>
        </p:nvGrpSpPr>
        <p:grpSpPr>
          <a:xfrm>
            <a:off x="512640" y="5079960"/>
            <a:ext cx="4992840" cy="663480"/>
            <a:chOff x="512640" y="5079960"/>
            <a:chExt cx="4992840" cy="663480"/>
          </a:xfrm>
        </p:grpSpPr>
        <p:sp>
          <p:nvSpPr>
            <p:cNvPr id="868" name="Text Box 8"/>
            <p:cNvSpPr/>
            <p:nvPr/>
          </p:nvSpPr>
          <p:spPr>
            <a:xfrm>
              <a:off x="979560" y="5186520"/>
              <a:ext cx="4525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увеличить счётчик на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512640" y="5079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Прямоугольник 25"/>
          <p:cNvSpPr/>
          <p:nvPr/>
        </p:nvSpPr>
        <p:spPr>
          <a:xfrm>
            <a:off x="1185840" y="5797440"/>
            <a:ext cx="4397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Блок-схема: процесс 26"/>
          <p:cNvSpPr/>
          <p:nvPr/>
        </p:nvSpPr>
        <p:spPr>
          <a:xfrm>
            <a:off x="6032520" y="3384720"/>
            <a:ext cx="2670120" cy="3776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Блок-схема: процесс 27"/>
          <p:cNvSpPr/>
          <p:nvPr/>
        </p:nvSpPr>
        <p:spPr>
          <a:xfrm>
            <a:off x="6032520" y="4308480"/>
            <a:ext cx="2670120" cy="37944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Блок-схема: процесс 28"/>
          <p:cNvSpPr/>
          <p:nvPr/>
        </p:nvSpPr>
        <p:spPr>
          <a:xfrm>
            <a:off x="6032520" y="3867120"/>
            <a:ext cx="2670120" cy="37944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Блок-схема: процесс 29"/>
          <p:cNvSpPr/>
          <p:nvPr/>
        </p:nvSpPr>
        <p:spPr>
          <a:xfrm>
            <a:off x="6032520" y="2922480"/>
            <a:ext cx="2670120" cy="378000"/>
          </a:xfrm>
          <a:prstGeom prst="flowChartProcess">
            <a:avLst/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18"/>
          <p:cNvSpPr/>
          <p:nvPr/>
        </p:nvSpPr>
        <p:spPr>
          <a:xfrm>
            <a:off x="5951520" y="5797440"/>
            <a:ext cx="26211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2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услов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C100-345C-47CB-A5CD-909F3AE253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"/>
          <p:cNvSpPr/>
          <p:nvPr/>
        </p:nvSpPr>
        <p:spPr>
          <a:xfrm>
            <a:off x="2471760" y="1962720"/>
            <a:ext cx="4200480" cy="1678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Блок-схема: процесс 4"/>
          <p:cNvSpPr/>
          <p:nvPr/>
        </p:nvSpPr>
        <p:spPr>
          <a:xfrm>
            <a:off x="2822400" y="2768760"/>
            <a:ext cx="2330640" cy="7556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//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5"/>
          <p:cNvSpPr/>
          <p:nvPr/>
        </p:nvSpPr>
        <p:spPr>
          <a:xfrm>
            <a:off x="5684760" y="2924280"/>
            <a:ext cx="1971720" cy="569880"/>
          </a:xfrm>
          <a:prstGeom prst="wedgeRoundRectCallout">
            <a:avLst>
              <a:gd name="adj1" fmla="val -80629"/>
              <a:gd name="adj2" fmla="val -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6"/>
          <p:cNvSpPr/>
          <p:nvPr/>
        </p:nvSpPr>
        <p:spPr>
          <a:xfrm>
            <a:off x="649440" y="1055520"/>
            <a:ext cx="3171600" cy="709920"/>
          </a:xfrm>
          <a:prstGeom prst="wedgeRoundRectCallout">
            <a:avLst>
              <a:gd name="adj1" fmla="val 32875"/>
              <a:gd name="adj2" fmla="val 976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ое значение счё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7"/>
          <p:cNvSpPr/>
          <p:nvPr/>
        </p:nvSpPr>
        <p:spPr>
          <a:xfrm>
            <a:off x="3594960" y="2362320"/>
            <a:ext cx="10951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&g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Скругленная прямоугольная выноска 8"/>
          <p:cNvSpPr/>
          <p:nvPr/>
        </p:nvSpPr>
        <p:spPr>
          <a:xfrm>
            <a:off x="4297320" y="1055520"/>
            <a:ext cx="2211480" cy="709920"/>
          </a:xfrm>
          <a:prstGeom prst="wedgeRoundRectCallout">
            <a:avLst>
              <a:gd name="adj1" fmla="val -44481"/>
              <a:gd name="adj2" fmla="val 12956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дол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Скругленная прямоугольная выноска 9"/>
          <p:cNvSpPr/>
          <p:nvPr/>
        </p:nvSpPr>
        <p:spPr>
          <a:xfrm>
            <a:off x="449280" y="2114640"/>
            <a:ext cx="1724040" cy="765000"/>
          </a:xfrm>
          <a:prstGeom prst="wedgeRoundRectCallout">
            <a:avLst>
              <a:gd name="adj1" fmla="val 69023"/>
              <a:gd name="adj2" fmla="val 12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7"/>
          <p:cNvGrpSpPr/>
          <p:nvPr/>
        </p:nvGrpSpPr>
        <p:grpSpPr>
          <a:xfrm>
            <a:off x="512640" y="3876840"/>
            <a:ext cx="8051760" cy="663480"/>
            <a:chOff x="512640" y="3876840"/>
            <a:chExt cx="8051760" cy="663480"/>
          </a:xfrm>
        </p:grpSpPr>
        <p:sp>
          <p:nvSpPr>
            <p:cNvPr id="886" name="Text Box 8"/>
            <p:cNvSpPr/>
            <p:nvPr/>
          </p:nvSpPr>
          <p:spPr>
            <a:xfrm>
              <a:off x="979560" y="3983400"/>
              <a:ext cx="758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 с предусловием – проверка на входе в цик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512640" y="3876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1" dur="5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7236-74C9-4808-9F07-DAC8AEBFCD0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повторений и вывести столько же раз какое-нибудь сообщ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колько ра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DD3E-D63A-496E-99EC-68ADA9AA024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определить, сколько  раз в его записи встречается цифра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12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369720" y="291780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натуральное число и найти сумму значений его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умма цифр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2B6-5948-4BF0-9D2E-A13BF504469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9720" y="809640"/>
            <a:ext cx="842040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текст «лесенк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Ва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ш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spcBef>
                <a:spcPts val="150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на экран рисунок из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ЖЖЖЖЖЖ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H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80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ZZZ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D03-8D26-43C1-8BFD-F94D363415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369720" y="811080"/>
            <a:ext cx="864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атуральное число и определить, верно ли, что в его записи есть две одинаковые цифры, стоящие рядом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3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натурально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DEB-CA7B-4119-8DAD-FC89998E5BA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тобы найти НОД двух натуральных чисел, нужно вычитать из большего числа меньшее до тех пор, пока они не станут равны. Это число и есть НОД исход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4"/>
          <p:cNvSpPr/>
          <p:nvPr/>
        </p:nvSpPr>
        <p:spPr>
          <a:xfrm>
            <a:off x="672840" y="2546280"/>
            <a:ext cx="59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"/>
          <p:cNvSpPr/>
          <p:nvPr/>
        </p:nvSpPr>
        <p:spPr>
          <a:xfrm>
            <a:off x="506520" y="3146040"/>
            <a:ext cx="458604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a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b = b -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"/>
          <p:cNvSpPr/>
          <p:nvPr/>
        </p:nvSpPr>
        <p:spPr>
          <a:xfrm>
            <a:off x="5396040" y="3146040"/>
            <a:ext cx="32144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-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-= a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18"/>
          <p:cNvSpPr/>
          <p:nvPr/>
        </p:nvSpPr>
        <p:spPr>
          <a:xfrm>
            <a:off x="662400" y="522432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20"/>
          <p:cNvSpPr/>
          <p:nvPr/>
        </p:nvSpPr>
        <p:spPr>
          <a:xfrm>
            <a:off x="2778480" y="522432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6,2) = … = НОД(2, 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лгоритм Евкл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6A9-8138-48E3-BBCD-35B512D92CD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9"/>
          <p:cNvSpPr/>
          <p:nvPr/>
        </p:nvSpPr>
        <p:spPr>
          <a:xfrm>
            <a:off x="376200" y="849240"/>
            <a:ext cx="8450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ифицированный алгоритм Евкл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аменять большее число на остаток от деления большего на меньшее до тех пор, пока меньшее не станет равно нулю. Другое (ненулевое) число и есть НОД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8"/>
          <p:cNvSpPr/>
          <p:nvPr/>
        </p:nvSpPr>
        <p:spPr>
          <a:xfrm>
            <a:off x="654480" y="244332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Д(1998,2) = НОД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2)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077840" y="2930400"/>
            <a:ext cx="3938760" cy="19227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???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&gt;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b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7"/>
          <p:cNvGrpSpPr/>
          <p:nvPr/>
        </p:nvGrpSpPr>
        <p:grpSpPr>
          <a:xfrm>
            <a:off x="5275440" y="2973240"/>
            <a:ext cx="3245760" cy="663480"/>
            <a:chOff x="5275440" y="2973240"/>
            <a:chExt cx="3245760" cy="663480"/>
          </a:xfrm>
        </p:grpSpPr>
        <p:sp>
          <p:nvSpPr>
            <p:cNvPr id="912" name="Text Box 8"/>
            <p:cNvSpPr/>
            <p:nvPr/>
          </p:nvSpPr>
          <p:spPr>
            <a:xfrm>
              <a:off x="5742000" y="3079800"/>
              <a:ext cx="277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ое услов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5275440" y="29732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Прямоугольник 18"/>
          <p:cNvSpPr/>
          <p:nvPr/>
        </p:nvSpPr>
        <p:spPr>
          <a:xfrm>
            <a:off x="1986840" y="2908440"/>
            <a:ext cx="274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!=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7"/>
          <p:cNvGrpSpPr/>
          <p:nvPr/>
        </p:nvGrpSpPr>
        <p:grpSpPr>
          <a:xfrm>
            <a:off x="5554800" y="4255920"/>
            <a:ext cx="2662200" cy="932040"/>
            <a:chOff x="5554800" y="4255920"/>
            <a:chExt cx="2662200" cy="932040"/>
          </a:xfrm>
        </p:grpSpPr>
        <p:sp>
          <p:nvSpPr>
            <p:cNvPr id="916" name="Text Box 8"/>
            <p:cNvSpPr/>
            <p:nvPr/>
          </p:nvSpPr>
          <p:spPr>
            <a:xfrm>
              <a:off x="6021720" y="4362480"/>
              <a:ext cx="21952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вести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результа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9"/>
            <p:cNvSpPr/>
            <p:nvPr/>
          </p:nvSpPr>
          <p:spPr>
            <a:xfrm>
              <a:off x="5554800" y="42559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Rectangle 1"/>
          <p:cNvSpPr/>
          <p:nvPr/>
        </p:nvSpPr>
        <p:spPr>
          <a:xfrm>
            <a:off x="1077840" y="4961160"/>
            <a:ext cx="39387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!=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инач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ывест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8" dur="indefinite" restart="never" nodeType="tmRoot">
          <p:childTnLst>
            <p:seq>
              <p:cTn id="2419" dur="indefinite" nodeType="mainSeq">
                <p:childTnLst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C5D8-3830-40FA-A0BE-B01840EDCA2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алгоритма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1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21,14)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369720" y="3083040"/>
            <a:ext cx="842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найти их НОД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ифицированног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а Евклида. Заполните таблиц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5360" y="4479840"/>
          <a:ext cx="8315280" cy="111456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  <a:gridCol w="13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5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05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868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4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88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294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ОД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CCFB-B092-4049-87F5-3CA2973D49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два натуральных числа и сравнить количество шагов цикла для вычисления их НОД с помощью обычного и модифицированного алгоритмов Евкли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ва чис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998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(1998,2)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Обычный алгоритм: 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одифицированный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 в цик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DF1-A819-4C53-846B-A48B9E9BBC1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вести строку и определить, сколько в ней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"/>
          <p:cNvSpPr/>
          <p:nvPr/>
        </p:nvSpPr>
        <p:spPr>
          <a:xfrm>
            <a:off x="619200" y="1328760"/>
            <a:ext cx="54514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ля каждого символа стр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символ – циф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чётчик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"/>
          <p:cNvSpPr/>
          <p:nvPr/>
        </p:nvSpPr>
        <p:spPr>
          <a:xfrm>
            <a:off x="619200" y="3298680"/>
            <a:ext cx="54514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c in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=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Прямоугольник 21"/>
          <p:cNvSpPr/>
          <p:nvPr/>
        </p:nvSpPr>
        <p:spPr>
          <a:xfrm>
            <a:off x="668880" y="4025880"/>
            <a:ext cx="219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22"/>
          <p:cNvSpPr/>
          <p:nvPr/>
        </p:nvSpPr>
        <p:spPr>
          <a:xfrm>
            <a:off x="3294000" y="3227400"/>
            <a:ext cx="3487680" cy="785880"/>
          </a:xfrm>
          <a:prstGeom prst="wedgeRoundRectCallout">
            <a:avLst>
              <a:gd name="adj1" fmla="val -72046"/>
              <a:gd name="adj2" fmla="val 70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имволов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23"/>
          <p:cNvSpPr/>
          <p:nvPr/>
        </p:nvSpPr>
        <p:spPr>
          <a:xfrm>
            <a:off x="4030560" y="4789440"/>
            <a:ext cx="3487680" cy="468360"/>
          </a:xfrm>
          <a:prstGeom prst="wedgeRoundRectCallout">
            <a:avLst>
              <a:gd name="adj1" fmla="val -69134"/>
              <a:gd name="adj2" fmla="val -56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циф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2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3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E50B-4022-41C5-805A-8A21539F40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519120" y="201636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alph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"/>
          <p:cNvSpPr/>
          <p:nvPr/>
        </p:nvSpPr>
        <p:spPr>
          <a:xfrm>
            <a:off x="519120" y="307368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low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Строч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"/>
          <p:cNvSpPr/>
          <p:nvPr/>
        </p:nvSpPr>
        <p:spPr>
          <a:xfrm>
            <a:off x="519120" y="41324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upp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Заглавная букв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519120" y="9572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.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sdig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Цифр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"/>
          <p:cNvSpPr/>
          <p:nvPr/>
        </p:nvSpPr>
        <p:spPr>
          <a:xfrm>
            <a:off x="519120" y="5288040"/>
            <a:ext cx="673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Это а или б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0B0-F1F1-4B4B-B34E-0F85E40415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369720" y="809640"/>
            <a:ext cx="842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число в двоичной системе счисления. Определить, сколько в его записи единиц и сколько ну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улей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Единиц: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369720" y="361620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. Если это правильная запись двоичного числа, вывести сообщение «Да», иначе вывести сообщение «Нет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Введите число: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101010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abcd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Да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C63-4630-40BB-8E5F-621808DBD48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с клавиатуры символьную строку и составить новую строку, удалив из исходной все пробе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стро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Вася пошел 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сяпошелгул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F9D4-1481-419C-ABF3-731169379D9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10 раз слово «Привет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7"/>
          <p:cNvGrpSpPr/>
          <p:nvPr/>
        </p:nvGrpSpPr>
        <p:grpSpPr>
          <a:xfrm>
            <a:off x="1471680" y="1359000"/>
            <a:ext cx="6200280" cy="663480"/>
            <a:chOff x="1471680" y="1359000"/>
            <a:chExt cx="6200280" cy="663480"/>
          </a:xfrm>
        </p:grpSpPr>
        <p:sp>
          <p:nvSpPr>
            <p:cNvPr id="953" name="Text Box 8"/>
            <p:cNvSpPr/>
            <p:nvPr/>
          </p:nvSpPr>
          <p:spPr>
            <a:xfrm>
              <a:off x="1938240" y="1465560"/>
              <a:ext cx="57337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Прямоугольник 12"/>
          <p:cNvSpPr/>
          <p:nvPr/>
        </p:nvSpPr>
        <p:spPr>
          <a:xfrm>
            <a:off x="3728880" y="247176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ривет!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6"/>
          <p:cNvSpPr/>
          <p:nvPr/>
        </p:nvSpPr>
        <p:spPr>
          <a:xfrm>
            <a:off x="1569600" y="4438800"/>
            <a:ext cx="27410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Скругленная прямоугольная выноска 16"/>
          <p:cNvSpPr/>
          <p:nvPr/>
        </p:nvSpPr>
        <p:spPr>
          <a:xfrm>
            <a:off x="4857840" y="3948120"/>
            <a:ext cx="2442960" cy="781200"/>
          </a:xfrm>
          <a:prstGeom prst="wedgeRoundRectCallout">
            <a:avLst>
              <a:gd name="adj1" fmla="val -77300"/>
              <a:gd name="adj2" fmla="val 2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64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Прямоугольник 20"/>
          <p:cNvSpPr/>
          <p:nvPr/>
        </p:nvSpPr>
        <p:spPr>
          <a:xfrm>
            <a:off x="608760" y="573552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ение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FE1-6DC3-4B7F-8748-ADF9186692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68280" y="81288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1720" indent="-801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два числа и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68280" y="1376280"/>
            <a:ext cx="828036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8480" indent="-31384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токо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два цел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8480" indent="-313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5+30=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6234120" y="1535040"/>
            <a:ext cx="2017800" cy="574920"/>
          </a:xfrm>
          <a:prstGeom prst="wedgeRoundRectCallout">
            <a:avLst>
              <a:gd name="adj1" fmla="val -74199"/>
              <a:gd name="adj2" fmla="val 45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2462040" y="2460600"/>
            <a:ext cx="2513160" cy="642960"/>
          </a:xfrm>
          <a:prstGeom prst="wedgeRoundRectCallout">
            <a:avLst>
              <a:gd name="adj1" fmla="val -91060"/>
              <a:gd name="adj2" fmla="val -2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3768840" y="3425760"/>
            <a:ext cx="4375080" cy="574920"/>
          </a:xfrm>
          <a:prstGeom prst="wedgeRoundRectCallout">
            <a:avLst>
              <a:gd name="adj1" fmla="val -73291"/>
              <a:gd name="adj2" fmla="val -10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читает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5"/>
          <p:cNvGrpSpPr/>
          <p:nvPr/>
        </p:nvGrpSpPr>
        <p:grpSpPr>
          <a:xfrm>
            <a:off x="1374840" y="4314960"/>
            <a:ext cx="6071760" cy="1892160"/>
            <a:chOff x="1374840" y="4314960"/>
            <a:chExt cx="6071760" cy="1892160"/>
          </a:xfrm>
        </p:grpSpPr>
        <p:sp>
          <p:nvSpPr>
            <p:cNvPr id="226" name="Text Box 56"/>
            <p:cNvSpPr/>
            <p:nvPr/>
          </p:nvSpPr>
          <p:spPr>
            <a:xfrm>
              <a:off x="1841400" y="4421160"/>
              <a:ext cx="5605200" cy="17859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числа в памя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де хранить введенные числ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числи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31800" indent="-360360">
                <a:spcBef>
                  <a:spcPts val="6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ывести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374840" y="431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A9F-5ED5-46BB-B915-7A5681865A6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3"/>
          <p:cNvSpPr/>
          <p:nvPr/>
        </p:nvSpPr>
        <p:spPr>
          <a:xfrm>
            <a:off x="384120" y="803160"/>
            <a:ext cx="84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вести все степени двойки от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7"/>
          <p:cNvGrpSpPr/>
          <p:nvPr/>
        </p:nvGrpSpPr>
        <p:grpSpPr>
          <a:xfrm>
            <a:off x="1471680" y="1359000"/>
            <a:ext cx="5309640" cy="663480"/>
            <a:chOff x="1471680" y="1359000"/>
            <a:chExt cx="5309640" cy="663480"/>
          </a:xfrm>
        </p:grpSpPr>
        <p:sp>
          <p:nvSpPr>
            <p:cNvPr id="971" name="Text Box 8"/>
            <p:cNvSpPr/>
            <p:nvPr/>
          </p:nvSpPr>
          <p:spPr>
            <a:xfrm>
              <a:off x="1938240" y="1465560"/>
              <a:ext cx="4843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сделать 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циклом «пока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"/>
            <p:cNvSpPr/>
            <p:nvPr/>
          </p:nvSpPr>
          <p:spPr>
            <a:xfrm>
              <a:off x="1471680" y="13590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Rectangle 1"/>
          <p:cNvSpPr/>
          <p:nvPr/>
        </p:nvSpPr>
        <p:spPr>
          <a:xfrm>
            <a:off x="2441520" y="2100240"/>
            <a:ext cx="403560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11"/>
          <p:cNvSpPr/>
          <p:nvPr/>
        </p:nvSpPr>
        <p:spPr>
          <a:xfrm>
            <a:off x="2505960" y="2106720"/>
            <a:ext cx="9000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Прямоугольник 12"/>
          <p:cNvSpPr/>
          <p:nvPr/>
        </p:nvSpPr>
        <p:spPr>
          <a:xfrm>
            <a:off x="3729600" y="2462040"/>
            <a:ext cx="12657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Прямоугольник 14"/>
          <p:cNvSpPr/>
          <p:nvPr/>
        </p:nvSpPr>
        <p:spPr>
          <a:xfrm>
            <a:off x="2889000" y="3219480"/>
            <a:ext cx="108288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"/>
          <p:cNvSpPr/>
          <p:nvPr/>
        </p:nvSpPr>
        <p:spPr>
          <a:xfrm>
            <a:off x="708120" y="4437000"/>
            <a:ext cx="4333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16"/>
          <p:cNvSpPr/>
          <p:nvPr/>
        </p:nvSpPr>
        <p:spPr>
          <a:xfrm>
            <a:off x="1570680" y="4438800"/>
            <a:ext cx="310680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Скругленная прямоугольная выноска 22"/>
          <p:cNvSpPr/>
          <p:nvPr/>
        </p:nvSpPr>
        <p:spPr>
          <a:xfrm>
            <a:off x="5086440" y="3816360"/>
            <a:ext cx="244296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6"/>
          <p:cNvSpPr/>
          <p:nvPr/>
        </p:nvSpPr>
        <p:spPr>
          <a:xfrm>
            <a:off x="406440" y="376884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икл с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7"/>
          <p:cNvGrpSpPr/>
          <p:nvPr/>
        </p:nvGrpSpPr>
        <p:grpSpPr>
          <a:xfrm>
            <a:off x="5226120" y="4856040"/>
            <a:ext cx="3155400" cy="663480"/>
            <a:chOff x="5226120" y="4856040"/>
            <a:chExt cx="3155400" cy="663480"/>
          </a:xfrm>
        </p:grpSpPr>
        <p:sp>
          <p:nvSpPr>
            <p:cNvPr id="982" name="Text Box 8"/>
            <p:cNvSpPr/>
            <p:nvPr/>
          </p:nvSpPr>
          <p:spPr>
            <a:xfrm>
              <a:off x="5692680" y="4962600"/>
              <a:ext cx="2688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включая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9"/>
            <p:cNvSpPr/>
            <p:nvPr/>
          </p:nvSpPr>
          <p:spPr>
            <a:xfrm>
              <a:off x="5226120" y="4856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Прямоугольник 27"/>
          <p:cNvSpPr/>
          <p:nvPr/>
        </p:nvSpPr>
        <p:spPr>
          <a:xfrm>
            <a:off x="660600" y="57355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Скругленная прямоугольная выноска 24"/>
          <p:cNvSpPr/>
          <p:nvPr/>
        </p:nvSpPr>
        <p:spPr>
          <a:xfrm>
            <a:off x="5518080" y="2139840"/>
            <a:ext cx="2127240" cy="781200"/>
          </a:xfrm>
          <a:prstGeom prst="wedgeRoundRectCallout">
            <a:avLst>
              <a:gd name="adj1" fmla="val -71064"/>
              <a:gd name="adj2" fmla="val 43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еде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икл с переменной: другой ша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DBAD-D611-4894-92E8-527B1B1EA1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9"/>
          <p:cNvSpPr/>
          <p:nvPr/>
        </p:nvSpPr>
        <p:spPr>
          <a:xfrm>
            <a:off x="6736320" y="1039680"/>
            <a:ext cx="729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7"/>
          <p:cNvGrpSpPr/>
          <p:nvPr/>
        </p:nvGrpSpPr>
        <p:grpSpPr>
          <a:xfrm>
            <a:off x="1344600" y="2681280"/>
            <a:ext cx="3247920" cy="663480"/>
            <a:chOff x="1344600" y="2681280"/>
            <a:chExt cx="3247920" cy="663480"/>
          </a:xfrm>
        </p:grpSpPr>
        <p:sp>
          <p:nvSpPr>
            <p:cNvPr id="990" name="Text Box 8"/>
            <p:cNvSpPr/>
            <p:nvPr/>
          </p:nvSpPr>
          <p:spPr>
            <a:xfrm>
              <a:off x="1811520" y="2787840"/>
              <a:ext cx="2781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олучи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9"/>
            <p:cNvSpPr/>
            <p:nvPr/>
          </p:nvSpPr>
          <p:spPr>
            <a:xfrm>
              <a:off x="1344600" y="2681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Прямоугольник 14"/>
          <p:cNvSpPr/>
          <p:nvPr/>
        </p:nvSpPr>
        <p:spPr>
          <a:xfrm>
            <a:off x="5589360" y="3801960"/>
            <a:ext cx="54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468360" y="4099680"/>
            <a:ext cx="493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Прямоугольник 16"/>
          <p:cNvSpPr/>
          <p:nvPr/>
        </p:nvSpPr>
        <p:spPr>
          <a:xfrm>
            <a:off x="1332360" y="4102200"/>
            <a:ext cx="347256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"/>
          <p:cNvSpPr/>
          <p:nvPr/>
        </p:nvSpPr>
        <p:spPr>
          <a:xfrm>
            <a:off x="468360" y="1519920"/>
            <a:ext cx="5235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k**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16"/>
          <p:cNvSpPr/>
          <p:nvPr/>
        </p:nvSpPr>
        <p:spPr>
          <a:xfrm>
            <a:off x="1332720" y="1512720"/>
            <a:ext cx="365544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Скругленная прямоугольная выноска 17"/>
          <p:cNvSpPr/>
          <p:nvPr/>
        </p:nvSpPr>
        <p:spPr>
          <a:xfrm>
            <a:off x="4584600" y="942840"/>
            <a:ext cx="1163880" cy="406440"/>
          </a:xfrm>
          <a:prstGeom prst="wedgeRoundRectCallout">
            <a:avLst>
              <a:gd name="adj1" fmla="val -57953"/>
              <a:gd name="adj2" fmla="val 11084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Прямоугольник 18"/>
          <p:cNvSpPr/>
          <p:nvPr/>
        </p:nvSpPr>
        <p:spPr>
          <a:xfrm>
            <a:off x="491400" y="93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8,7,6,5,4,3,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Прямоугольник 19"/>
          <p:cNvSpPr/>
          <p:nvPr/>
        </p:nvSpPr>
        <p:spPr>
          <a:xfrm>
            <a:off x="3106080" y="358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,3,5,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олько раз выполняется цик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A537-9AE6-47C0-AFEE-682634907C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509760" y="950760"/>
            <a:ext cx="771984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6"/>
          <p:cNvSpPr/>
          <p:nvPr/>
        </p:nvSpPr>
        <p:spPr>
          <a:xfrm>
            <a:off x="7526160" y="1117440"/>
            <a:ext cx="1310040" cy="53676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509760" y="2341440"/>
            <a:ext cx="774540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8"/>
          <p:cNvSpPr/>
          <p:nvPr/>
        </p:nvSpPr>
        <p:spPr>
          <a:xfrm>
            <a:off x="7526160" y="2533680"/>
            <a:ext cx="1310040" cy="536400"/>
          </a:xfrm>
          <a:prstGeom prst="wedgeRoundRectCallout">
            <a:avLst>
              <a:gd name="adj1" fmla="val -107453"/>
              <a:gd name="adj2" fmla="val -769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509760" y="3732120"/>
            <a:ext cx="81057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0"/>
          <p:cNvSpPr/>
          <p:nvPr/>
        </p:nvSpPr>
        <p:spPr>
          <a:xfrm>
            <a:off x="7526160" y="3621240"/>
            <a:ext cx="1310040" cy="536400"/>
          </a:xfrm>
          <a:prstGeom prst="wedgeRoundRectCallout">
            <a:avLst>
              <a:gd name="adj1" fmla="val -84740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1"/>
          <p:cNvSpPr/>
          <p:nvPr/>
        </p:nvSpPr>
        <p:spPr>
          <a:xfrm>
            <a:off x="509760" y="5122800"/>
            <a:ext cx="8116560" cy="101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a-DK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12"/>
          <p:cNvSpPr/>
          <p:nvPr/>
        </p:nvSpPr>
        <p:spPr>
          <a:xfrm>
            <a:off x="7526160" y="5014800"/>
            <a:ext cx="1310040" cy="536760"/>
          </a:xfrm>
          <a:prstGeom prst="wedgeRoundRectCallout">
            <a:avLst>
              <a:gd name="adj1" fmla="val -80537"/>
              <a:gd name="adj2" fmla="val 7443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4" dur="indefinite" restart="never" nodeType="tmRoot">
          <p:childTnLst>
            <p:seq>
              <p:cTn id="2645" dur="indefinite" nodeType="mainSeq">
                <p:childTnLst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601A-3E45-41C0-B10F-01EBCDE7AAE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69720" y="809640"/>
            <a:ext cx="842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олит задумал трёхзначное число, которое при делении на 15 даёт в остатке 11, а при делении на 11 даёт в остатке 9. Найдите все таки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ится натура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должна най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и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ается к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изведение всех натуральных чисел 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! = 1 · 2 · 3 · 4 · 5 = 1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!=12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2796-21C2-47B6-A512-ECAFBD5222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369720" y="809640"/>
            <a:ext cx="842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ое число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м Армстро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сумма цифр числа, возведенных в N-ную степень (где N – количество цифр в числе) равна самому числу. Наприме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53 = 1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5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+ 3</a:t>
            </a:r>
            <a:r>
              <a:rPr b="0" lang="ru-RU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все трёхзначные числа Армстро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сивы (спис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C8A0-1415-4024-83A8-25F949056C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D021-B140-471C-AC21-5B507DCE8B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Прямоугольник 7"/>
          <p:cNvSpPr/>
          <p:nvPr/>
        </p:nvSpPr>
        <p:spPr>
          <a:xfrm>
            <a:off x="384120" y="1778040"/>
            <a:ext cx="842328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переменных одного типа, расположенных в памяти рядом (в соседних ячейках) и имеющих общее имя. Каждая ячейка в массиве имеет уникальный 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"/>
          <p:cNvSpPr/>
          <p:nvPr/>
        </p:nvSpPr>
        <p:spPr>
          <a:xfrm>
            <a:off x="441360" y="335592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д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55"/>
          <p:cNvGrpSpPr/>
          <p:nvPr/>
        </p:nvGrpSpPr>
        <p:grpSpPr>
          <a:xfrm>
            <a:off x="1836720" y="900000"/>
            <a:ext cx="5470200" cy="663480"/>
            <a:chOff x="1836720" y="900000"/>
            <a:chExt cx="5470200" cy="663480"/>
          </a:xfrm>
        </p:grpSpPr>
        <p:sp>
          <p:nvSpPr>
            <p:cNvPr id="1024" name="Text Box 56"/>
            <p:cNvSpPr/>
            <p:nvPr/>
          </p:nvSpPr>
          <p:spPr>
            <a:xfrm>
              <a:off x="2303640" y="1006200"/>
              <a:ext cx="5003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ввести 10000 переменны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57"/>
            <p:cNvSpPr/>
            <p:nvPr/>
          </p:nvSpPr>
          <p:spPr>
            <a:xfrm>
              <a:off x="18367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Прямоугольник 9"/>
          <p:cNvSpPr/>
          <p:nvPr/>
        </p:nvSpPr>
        <p:spPr>
          <a:xfrm>
            <a:off x="647640" y="3778200"/>
            <a:ext cx="719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ть данные в нужную яч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данные из яч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масси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94A8-7DD7-4C3B-B596-A7C3B6CF7B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"/>
          <p:cNvSpPr/>
          <p:nvPr/>
        </p:nvSpPr>
        <p:spPr>
          <a:xfrm>
            <a:off x="6118200" y="14000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228680" y="2567160"/>
          <a:ext cx="6095880" cy="5205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1249200" y="2160720"/>
          <a:ext cx="6096240" cy="5061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Oval 53"/>
          <p:cNvSpPr/>
          <p:nvPr/>
        </p:nvSpPr>
        <p:spPr>
          <a:xfrm>
            <a:off x="825480" y="2028960"/>
            <a:ext cx="6880320" cy="1566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4"/>
          <p:cNvSpPr/>
          <p:nvPr/>
        </p:nvSpPr>
        <p:spPr>
          <a:xfrm>
            <a:off x="693720" y="1701720"/>
            <a:ext cx="522360" cy="48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5"/>
          <p:cNvSpPr/>
          <p:nvPr/>
        </p:nvSpPr>
        <p:spPr>
          <a:xfrm>
            <a:off x="1418040" y="1705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8"/>
          <p:cNvSpPr/>
          <p:nvPr/>
        </p:nvSpPr>
        <p:spPr>
          <a:xfrm>
            <a:off x="3774960" y="1982880"/>
            <a:ext cx="892440" cy="533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6"/>
          <p:cNvSpPr/>
          <p:nvPr/>
        </p:nvSpPr>
        <p:spPr>
          <a:xfrm>
            <a:off x="3557520" y="2441520"/>
            <a:ext cx="1405080" cy="773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9"/>
          <p:cNvSpPr/>
          <p:nvPr/>
        </p:nvSpPr>
        <p:spPr>
          <a:xfrm>
            <a:off x="6426360" y="1047600"/>
            <a:ext cx="2458800" cy="998640"/>
          </a:xfrm>
          <a:prstGeom prst="wedgeRoundRectCallout">
            <a:avLst>
              <a:gd name="adj1" fmla="val -121402"/>
              <a:gd name="adj2" fmla="val 458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0"/>
          <p:cNvSpPr/>
          <p:nvPr/>
        </p:nvSpPr>
        <p:spPr>
          <a:xfrm>
            <a:off x="1279440" y="3714840"/>
            <a:ext cx="1036800" cy="476280"/>
          </a:xfrm>
          <a:prstGeom prst="wedgeRoundRectCallout">
            <a:avLst>
              <a:gd name="adj1" fmla="val 4212"/>
              <a:gd name="adj2" fmla="val -171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61"/>
          <p:cNvSpPr/>
          <p:nvPr/>
        </p:nvSpPr>
        <p:spPr>
          <a:xfrm>
            <a:off x="2495520" y="3714840"/>
            <a:ext cx="1036800" cy="476280"/>
          </a:xfrm>
          <a:prstGeom prst="wedgeRoundRectCallout">
            <a:avLst>
              <a:gd name="adj1" fmla="val 3597"/>
              <a:gd name="adj2" fmla="val -185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62"/>
          <p:cNvSpPr/>
          <p:nvPr/>
        </p:nvSpPr>
        <p:spPr>
          <a:xfrm>
            <a:off x="3711600" y="3714840"/>
            <a:ext cx="1036440" cy="476280"/>
          </a:xfrm>
          <a:prstGeom prst="wedgeRoundRectCallout">
            <a:avLst>
              <a:gd name="adj1" fmla="val 7731"/>
              <a:gd name="adj2" fmla="val -178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63"/>
          <p:cNvSpPr/>
          <p:nvPr/>
        </p:nvSpPr>
        <p:spPr>
          <a:xfrm>
            <a:off x="4927680" y="3714840"/>
            <a:ext cx="1036440" cy="476280"/>
          </a:xfrm>
          <a:prstGeom prst="wedgeRoundRectCallout">
            <a:avLst>
              <a:gd name="adj1" fmla="val 1453"/>
              <a:gd name="adj2" fmla="val -18266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64"/>
          <p:cNvSpPr/>
          <p:nvPr/>
        </p:nvSpPr>
        <p:spPr>
          <a:xfrm>
            <a:off x="6145200" y="3714840"/>
            <a:ext cx="1036800" cy="476280"/>
          </a:xfrm>
          <a:prstGeom prst="wedgeRoundRectCallout">
            <a:avLst>
              <a:gd name="adj1" fmla="val 1453"/>
              <a:gd name="adj2" fmla="val -185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57"/>
          <p:cNvSpPr/>
          <p:nvPr/>
        </p:nvSpPr>
        <p:spPr>
          <a:xfrm>
            <a:off x="3335400" y="3629160"/>
            <a:ext cx="2352600" cy="714240"/>
          </a:xfrm>
          <a:prstGeom prst="wedgeRoundRectCallout">
            <a:avLst>
              <a:gd name="adj1" fmla="val -18217"/>
              <a:gd name="adj2" fmla="val -1248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мента масс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66"/>
          <p:cNvSpPr/>
          <p:nvPr/>
        </p:nvSpPr>
        <p:spPr>
          <a:xfrm>
            <a:off x="1822320" y="5197320"/>
            <a:ext cx="16876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67"/>
          <p:cNvSpPr/>
          <p:nvPr/>
        </p:nvSpPr>
        <p:spPr>
          <a:xfrm>
            <a:off x="4765680" y="4579920"/>
            <a:ext cx="2840040" cy="801720"/>
          </a:xfrm>
          <a:prstGeom prst="wedgeRoundRectCallout">
            <a:avLst>
              <a:gd name="adj1" fmla="val -116351"/>
              <a:gd name="adj2" fmla="val 89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(ИНДЕКС)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68"/>
          <p:cNvSpPr/>
          <p:nvPr/>
        </p:nvSpPr>
        <p:spPr>
          <a:xfrm>
            <a:off x="4781520" y="5656320"/>
            <a:ext cx="2941560" cy="714240"/>
          </a:xfrm>
          <a:prstGeom prst="wedgeRoundRectCallout">
            <a:avLst>
              <a:gd name="adj1" fmla="val -95768"/>
              <a:gd name="adj2" fmla="val -128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мента масс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69"/>
          <p:cNvSpPr/>
          <p:nvPr/>
        </p:nvSpPr>
        <p:spPr>
          <a:xfrm>
            <a:off x="1838160" y="5186520"/>
            <a:ext cx="1654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70"/>
          <p:cNvSpPr/>
          <p:nvPr/>
        </p:nvSpPr>
        <p:spPr>
          <a:xfrm>
            <a:off x="2546280" y="5459400"/>
            <a:ext cx="511200" cy="611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55"/>
          <p:cNvGrpSpPr/>
          <p:nvPr/>
        </p:nvGrpSpPr>
        <p:grpSpPr>
          <a:xfrm>
            <a:off x="358920" y="900000"/>
            <a:ext cx="3676680" cy="663480"/>
            <a:chOff x="358920" y="900000"/>
            <a:chExt cx="3676680" cy="663480"/>
          </a:xfrm>
        </p:grpSpPr>
        <p:sp>
          <p:nvSpPr>
            <p:cNvPr id="1050" name="Text Box 56"/>
            <p:cNvSpPr/>
            <p:nvPr/>
          </p:nvSpPr>
          <p:spPr>
            <a:xfrm>
              <a:off x="825840" y="1006200"/>
              <a:ext cx="3209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блица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57"/>
            <p:cNvSpPr/>
            <p:nvPr/>
          </p:nvSpPr>
          <p:spPr>
            <a:xfrm>
              <a:off x="358920" y="900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ы в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спис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9DA-F407-44BA-A655-7B39F42AE3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"/>
          <p:cNvSpPr/>
          <p:nvPr/>
        </p:nvSpPr>
        <p:spPr>
          <a:xfrm>
            <a:off x="471600" y="96912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5"/>
          <p:cNvGrpSpPr/>
          <p:nvPr/>
        </p:nvGrpSpPr>
        <p:grpSpPr>
          <a:xfrm>
            <a:off x="5575320" y="2674800"/>
            <a:ext cx="2577600" cy="663480"/>
            <a:chOff x="5575320" y="2674800"/>
            <a:chExt cx="2577600" cy="663480"/>
          </a:xfrm>
        </p:grpSpPr>
        <p:sp>
          <p:nvSpPr>
            <p:cNvPr id="1056" name="Text Box 56"/>
            <p:cNvSpPr/>
            <p:nvPr/>
          </p:nvSpPr>
          <p:spPr>
            <a:xfrm>
              <a:off x="6041880" y="2781000"/>
              <a:ext cx="2111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бу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57"/>
            <p:cNvSpPr/>
            <p:nvPr/>
          </p:nvSpPr>
          <p:spPr>
            <a:xfrm>
              <a:off x="5575320" y="2674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1"/>
          <p:cNvSpPr/>
          <p:nvPr/>
        </p:nvSpPr>
        <p:spPr>
          <a:xfrm>
            <a:off x="471600" y="1647000"/>
            <a:ext cx="4971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рямоугольник 19"/>
          <p:cNvSpPr/>
          <p:nvPr/>
        </p:nvSpPr>
        <p:spPr>
          <a:xfrm>
            <a:off x="1117440" y="2201760"/>
            <a:ext cx="32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3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"/>
          <p:cNvSpPr/>
          <p:nvPr/>
        </p:nvSpPr>
        <p:spPr>
          <a:xfrm>
            <a:off x="471600" y="2765520"/>
            <a:ext cx="4949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Прямоугольник 21"/>
          <p:cNvSpPr/>
          <p:nvPr/>
        </p:nvSpPr>
        <p:spPr>
          <a:xfrm>
            <a:off x="1117440" y="3330720"/>
            <a:ext cx="57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345960" y="3932280"/>
            <a:ext cx="733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здание массива из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элем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5"/>
          <p:cNvSpPr/>
          <p:nvPr/>
        </p:nvSpPr>
        <p:spPr>
          <a:xfrm>
            <a:off x="847800" y="4460760"/>
            <a:ext cx="3511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5ff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*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2" dur="indefinite" restart="never" nodeType="tmRoot">
          <p:childTnLst>
            <p:seq>
              <p:cTn id="2823" dur="indefinite" nodeType="mainSeq">
                <p:childTnLst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олнение масс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59B2-E7E2-410F-A371-D45C3664663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"/>
          <p:cNvSpPr/>
          <p:nvPr/>
        </p:nvSpPr>
        <p:spPr>
          <a:xfrm>
            <a:off x="471600" y="1317600"/>
            <a:ext cx="6994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*N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делить 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 = 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6"/>
          <p:cNvSpPr/>
          <p:nvPr/>
        </p:nvSpPr>
        <p:spPr>
          <a:xfrm>
            <a:off x="398520" y="32227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ратк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"/>
          <p:cNvSpPr/>
          <p:nvPr/>
        </p:nvSpPr>
        <p:spPr>
          <a:xfrm>
            <a:off x="471600" y="3764160"/>
            <a:ext cx="6994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 = </a:t>
            </a:r>
            <a:r>
              <a:rPr b="1" lang="en-US" sz="2800" spc="-1" strike="noStrike">
                <a:solidFill>
                  <a:srgbClr val="0095ff"/>
                </a:solidFill>
                <a:latin typeface="Courier New"/>
                <a:ea typeface="Times New Roman"/>
              </a:rPr>
              <a:t>10 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мер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[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6"/>
          <p:cNvSpPr/>
          <p:nvPr/>
        </p:nvSpPr>
        <p:spPr>
          <a:xfrm>
            <a:off x="399240" y="8222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ыми числами (начиная с 0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7"/>
          <p:cNvSpPr/>
          <p:nvPr/>
        </p:nvSpPr>
        <p:spPr>
          <a:xfrm>
            <a:off x="2457000" y="25970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"/>
          <p:cNvSpPr/>
          <p:nvPr/>
        </p:nvSpPr>
        <p:spPr>
          <a:xfrm>
            <a:off x="1822320" y="4184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лилиния 9"/>
          <p:cNvSpPr/>
          <p:nvPr/>
        </p:nvSpPr>
        <p:spPr>
          <a:xfrm>
            <a:off x="2222640" y="2857680"/>
            <a:ext cx="1436400" cy="1434960"/>
          </a:xfrm>
          <a:custGeom>
            <a:avLst/>
            <a:gdLst>
              <a:gd name="textAreaLeft" fmla="*/ 0 w 1436400"/>
              <a:gd name="textAreaRight" fmla="*/ 1436760 w 1436400"/>
              <a:gd name="textAreaTop" fmla="*/ 0 h 1434960"/>
              <a:gd name="textAreaBottom" fmla="*/ 1434960 h 1434960"/>
            </a:gdLst>
            <a:ahLst/>
            <a:rect l="textAreaLeft" t="textAreaTop" r="textAreaRight" b="textAreaBottom"/>
            <a:pathLst>
              <a:path w="1437217" h="1866900">
                <a:moveTo>
                  <a:pt x="622300" y="0"/>
                </a:moveTo>
                <a:cubicBezTo>
                  <a:pt x="1029758" y="17991"/>
                  <a:pt x="1437217" y="247650"/>
                  <a:pt x="1333500" y="558800"/>
                </a:cubicBezTo>
                <a:cubicBezTo>
                  <a:pt x="1229783" y="869950"/>
                  <a:pt x="614891" y="1347258"/>
                  <a:pt x="0" y="18669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55"/>
          <p:cNvGrpSpPr/>
          <p:nvPr/>
        </p:nvGrpSpPr>
        <p:grpSpPr>
          <a:xfrm>
            <a:off x="495360" y="4834080"/>
            <a:ext cx="4952520" cy="663480"/>
            <a:chOff x="495360" y="4834080"/>
            <a:chExt cx="4952520" cy="663480"/>
          </a:xfrm>
        </p:grpSpPr>
        <p:sp>
          <p:nvSpPr>
            <p:cNvPr id="1074" name="Text Box 56"/>
            <p:cNvSpPr/>
            <p:nvPr/>
          </p:nvSpPr>
          <p:spPr>
            <a:xfrm>
              <a:off x="961920" y="4940280"/>
              <a:ext cx="44859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, начиная с 1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57"/>
            <p:cNvSpPr/>
            <p:nvPr/>
          </p:nvSpPr>
          <p:spPr>
            <a:xfrm>
              <a:off x="495360" y="4834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55"/>
          <p:cNvGrpSpPr/>
          <p:nvPr/>
        </p:nvGrpSpPr>
        <p:grpSpPr>
          <a:xfrm>
            <a:off x="2362320" y="5608800"/>
            <a:ext cx="5778000" cy="663480"/>
            <a:chOff x="2362320" y="5608800"/>
            <a:chExt cx="5778000" cy="663480"/>
          </a:xfrm>
        </p:grpSpPr>
        <p:sp>
          <p:nvSpPr>
            <p:cNvPr id="1077" name="Text Box 56"/>
            <p:cNvSpPr/>
            <p:nvPr/>
          </p:nvSpPr>
          <p:spPr>
            <a:xfrm>
              <a:off x="2828880" y="5715000"/>
              <a:ext cx="531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заполнить квадратами чисел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57"/>
            <p:cNvSpPr/>
            <p:nvPr/>
          </p:nvSpPr>
          <p:spPr>
            <a:xfrm>
              <a:off x="2362320" y="56088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6" dur="indefinite" restart="never" nodeType="tmRoot">
          <p:childTnLst>
            <p:seq>
              <p:cTn id="2867" dur="indefinite" nodeType="mainSeq">
                <p:childTnLst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8" dur="500"/>
                                        <p:tgtEl>
                                          <p:spTgt spid="1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500"/>
                            </p:stCondLst>
                            <p:childTnLst>
                              <p:par>
                                <p:cTn id="2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500"/>
                            </p:stCondLst>
                            <p:childTnLst>
                              <p:par>
                                <p:cTn id="2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kp</cp:lastModifiedBy>
  <dcterms:modified xsi:type="dcterms:W3CDTF">2019-04-01T10:54:25Z</dcterms:modified>
  <cp:revision>1998</cp:revision>
  <dc:subject/>
  <dc:title>Программное обеспечение (ПО)</dc:title>
</cp:coreProperties>
</file>