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EC7-F642-475D-9312-8EB3A9F08D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CF3E-9A23-4D6C-93F8-65D4E99AD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0AB-F10B-4A09-9C83-5A0DE75E5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7973-16F0-4D0C-9768-1EC9857A3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0DBB-0216-44D7-AAEC-774C15C9C1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55B-7242-43AB-8FC0-C154C102E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6E8-FF9A-4FEC-A15B-A5A2CB19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C38-4A4D-4D6E-8C30-4A935E78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566-9DFE-4F25-B48F-B02F64AF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D3F-094A-434A-BA20-D5DCE710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DE9C-EC24-48AF-A72D-7CF6846C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790E-D913-4881-BF39-EA1CCC15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2896-33BB-424D-AD31-AE112D9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29AD-5E8B-47F2-B5AE-BB6BA22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3E5-E307-4C8B-A225-A55370DC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1624-B714-42FD-B460-9BE9BF11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3F65-C37A-4F81-A994-98FEF8E2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603-BCAA-4347-8696-86B7D221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E34D-C1D0-4165-AA72-F06353D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88F4-FD3D-44F5-B434-7EDDA4E5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F4E1-C4AD-4F0C-A02C-61A48C2E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EBB5-AAE0-47A5-8752-77BD034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6FD0-0510-4650-9240-0462BDED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EDDF-53BD-4A7A-9305-2CABD3B9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5BC0-3CAF-459E-9197-6663AAF0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FBD4-04B8-4AC9-96E2-FAC7CCF4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7C1A-E5A2-4CF9-8052-D7C8993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6491-677D-44D1-B9B8-4B89F8A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D56-7EA3-4C68-B73A-F614ECCF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C088-386A-4733-9B9A-BCACDF97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BF25-D30F-46C6-A35E-D346565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BFE8-9CDE-44FB-9F29-53739FB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958E-8B8F-4767-B63F-1305DC02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9A2A-9811-4F15-99E1-656D43CD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3C1A-B4A4-4A0B-A53A-B86CE4D4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94BC-B4F4-4EDA-A6B7-93D305DD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B131-D88F-418A-97BE-23CAAFCE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5354-FF15-4B08-97CC-CC249D0B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A9DB-1FF6-4C13-A15B-16DA9E57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B32-D7B1-44FB-9339-B2A8AB99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0FE1-111D-403B-9BB6-96316F0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C7C3-A050-474C-B87C-41D00596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4D28-1C24-4C98-BD48-28AAB225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DE06-D1DA-41B0-9187-D6282CE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DC51-E9E3-4EC5-A720-033CB04B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FF87-F424-492B-8D4C-41DA28F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D852-A1BA-41DC-A3D4-1415166B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8F7C-62C4-42C8-AB46-0BD8639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A10B-8450-4BF7-8035-FBFAF8E9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BF1-7923-4F4F-B035-40590D2C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D76-7C03-459D-A2A9-7DA9C9F9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116-E1DB-4524-B05D-F93CBC6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161-00CD-4463-A284-DD48136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2E2-A764-42EC-87F9-8760932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9AF7-C4A7-4034-9091-644CA83962F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-2018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E2F-7EA3-490B-933B-D14E156C95B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C6F-3475-433D-BADD-0CE479864BF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Графика в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7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-2018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75B-DC80-426A-8C87-09FDC0EDD6E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0.xml"/><Relationship Id="rId4" Type="http://schemas.openxmlformats.org/officeDocument/2006/relationships/slide" Target="slide38.xml"/><Relationship Id="rId5" Type="http://schemas.openxmlformats.org/officeDocument/2006/relationships/slide" Target="slide42.xml"/><Relationship Id="rId6" Type="http://schemas.openxmlformats.org/officeDocument/2006/relationships/slide" Target="slide51.xml"/><Relationship Id="rId7" Type="http://schemas.openxmlformats.org/officeDocument/2006/relationships/slide" Target="slide87.xml"/><Relationship Id="rId8" Type="http://schemas.openxmlformats.org/officeDocument/2006/relationships/hyperlink" Target="http://kpolyakov.spb.ru/download/graph.py" TargetMode="Externa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it.ly/2mNrkoq" TargetMode="External"/><Relationship Id="rId2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1610-9295-4D08-8AD6-BD1DB81334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78920"/>
            <a:ext cx="8723160" cy="22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333399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50920" y="2174760"/>
            <a:ext cx="75470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Простые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роцед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Цик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Закрашивание обла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Построение графиков функ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Аним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Иг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262080" y="57387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8"/>
              </a:rPr>
              <a:t>http://kpolyakov.spb.ru/download/graph.p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639F-B0E9-40D0-9758-E64DBBF1DD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369720" y="858960"/>
            <a:ext cx="842040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м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яг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10"/>
          <p:cNvGrpSpPr/>
          <p:nvPr/>
        </p:nvGrpSpPr>
        <p:grpSpPr>
          <a:xfrm>
            <a:off x="2084400" y="4282920"/>
            <a:ext cx="4076280" cy="1395720"/>
            <a:chOff x="2084400" y="4282920"/>
            <a:chExt cx="4076280" cy="1395720"/>
          </a:xfrm>
        </p:grpSpPr>
        <p:sp>
          <p:nvSpPr>
            <p:cNvPr id="341" name="AutoShape 6"/>
            <p:cNvSpPr/>
            <p:nvPr/>
          </p:nvSpPr>
          <p:spPr>
            <a:xfrm>
              <a:off x="2844360" y="4282920"/>
              <a:ext cx="2559240" cy="69804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 flipV="1">
              <a:off x="2844360" y="4980960"/>
              <a:ext cx="2559240" cy="6976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5394240" y="4606200"/>
              <a:ext cx="766440" cy="766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2084400" y="4628520"/>
              <a:ext cx="766440" cy="76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25"/>
          <p:cNvSpPr/>
          <p:nvPr/>
        </p:nvSpPr>
        <p:spPr>
          <a:xfrm>
            <a:off x="3524400" y="1952640"/>
            <a:ext cx="1257120" cy="126684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Равнобедренный треугольник 26"/>
          <p:cNvSpPr/>
          <p:nvPr/>
        </p:nvSpPr>
        <p:spPr>
          <a:xfrm>
            <a:off x="3086280" y="1343160"/>
            <a:ext cx="2133360" cy="6188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3924360" y="2114640"/>
            <a:ext cx="485640" cy="6192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BB8B-1B2C-466F-919D-8A2B7C189C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5"/>
          <p:cNvSpPr/>
          <p:nvPr/>
        </p:nvSpPr>
        <p:spPr>
          <a:xfrm>
            <a:off x="401760" y="861840"/>
            <a:ext cx="8397720" cy="52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Группа 4"/>
          <p:cNvGrpSpPr/>
          <p:nvPr/>
        </p:nvGrpSpPr>
        <p:grpSpPr>
          <a:xfrm>
            <a:off x="4570560" y="1368360"/>
            <a:ext cx="2989080" cy="1501920"/>
            <a:chOff x="4570560" y="1368360"/>
            <a:chExt cx="2989080" cy="1501920"/>
          </a:xfrm>
        </p:grpSpPr>
        <p:sp>
          <p:nvSpPr>
            <p:cNvPr id="1695" name="Правая фигурная скобка 5"/>
            <p:cNvSpPr/>
            <p:nvPr/>
          </p:nvSpPr>
          <p:spPr>
            <a:xfrm>
              <a:off x="4570560" y="1368360"/>
              <a:ext cx="102960" cy="1501920"/>
            </a:xfrm>
            <a:custGeom>
              <a:avLst/>
              <a:gdLst>
                <a:gd name="textAreaLeft" fmla="*/ 0 w 102960"/>
                <a:gd name="textAreaRight" fmla="*/ 37080 w 102960"/>
                <a:gd name="textAreaTop" fmla="*/ 6480 h 1501920"/>
                <a:gd name="textAreaBottom" fmla="*/ 1495440 h 150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AutoShape 18"/>
            <p:cNvSpPr/>
            <p:nvPr/>
          </p:nvSpPr>
          <p:spPr>
            <a:xfrm>
              <a:off x="5149800" y="1460160"/>
              <a:ext cx="240984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7" dur="indefinite" restart="never" nodeType="tmRoot">
          <p:childTnLst>
            <p:seq>
              <p:cTn id="3598" dur="indefinite" nodeType="mainSeq">
                <p:childTnLst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6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9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2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5" dur="500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1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4" dur="500"/>
                                        <p:tgtEl>
                                          <p:spTgt spid="1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9" dur="500"/>
                                        <p:tgtEl>
                                          <p:spTgt spid="16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4" dur="500"/>
                                        <p:tgtEl>
                                          <p:spTgt spid="16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9" dur="500"/>
                                        <p:tgtEl>
                                          <p:spTgt spid="16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DB9F-34BA-4AC8-A424-E3EA27B651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"/>
          <p:cNvSpPr/>
          <p:nvPr/>
        </p:nvSpPr>
        <p:spPr>
          <a:xfrm>
            <a:off x="369720" y="844560"/>
            <a:ext cx="8409240" cy="28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стрельбы слева направо. После выхода за границу экрана снаряд возвращается в исходную точ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исовать танк, из дула которого вылетает снаря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Штриховая стрелка вправо 17"/>
          <p:cNvSpPr/>
          <p:nvPr/>
        </p:nvSpPr>
        <p:spPr>
          <a:xfrm>
            <a:off x="2405160" y="2322360"/>
            <a:ext cx="452520" cy="320760"/>
          </a:xfrm>
          <a:custGeom>
            <a:avLst/>
            <a:gdLst>
              <a:gd name="textAreaLeft" fmla="*/ 50040 w 452520"/>
              <a:gd name="textAreaRight" fmla="*/ 372600 w 452520"/>
              <a:gd name="textAreaTop" fmla="*/ 80280 h 320760"/>
              <a:gd name="textAreaBottom" fmla="*/ 240480 h 320760"/>
            </a:gdLst>
            <a:ahLst/>
            <a:rect l="textAreaLeft" t="textAreaTop" r="textAreaRight" b="textAreaBottom"/>
            <a:pathLst>
              <a:path w="452437" h="320675">
                <a:moveTo>
                  <a:pt x="0" y="80169"/>
                </a:moveTo>
                <a:lnTo>
                  <a:pt x="10021" y="80169"/>
                </a:lnTo>
                <a:lnTo>
                  <a:pt x="10021" y="240506"/>
                </a:lnTo>
                <a:lnTo>
                  <a:pt x="0" y="240506"/>
                </a:lnTo>
                <a:close/>
                <a:moveTo>
                  <a:pt x="20042" y="80169"/>
                </a:moveTo>
                <a:lnTo>
                  <a:pt x="40084" y="80169"/>
                </a:lnTo>
                <a:lnTo>
                  <a:pt x="40084" y="240506"/>
                </a:lnTo>
                <a:lnTo>
                  <a:pt x="20042" y="240506"/>
                </a:lnTo>
                <a:close/>
                <a:moveTo>
                  <a:pt x="50105" y="80169"/>
                </a:moveTo>
                <a:lnTo>
                  <a:pt x="292100" y="80169"/>
                </a:lnTo>
                <a:lnTo>
                  <a:pt x="292100" y="0"/>
                </a:lnTo>
                <a:lnTo>
                  <a:pt x="452437" y="160338"/>
                </a:lnTo>
                <a:lnTo>
                  <a:pt x="292100" y="320675"/>
                </a:lnTo>
                <a:lnTo>
                  <a:pt x="292100" y="240506"/>
                </a:lnTo>
                <a:lnTo>
                  <a:pt x="50105" y="2405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Овал 19"/>
          <p:cNvSpPr/>
          <p:nvPr/>
        </p:nvSpPr>
        <p:spPr>
          <a:xfrm>
            <a:off x="1981080" y="2336760"/>
            <a:ext cx="266760" cy="266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Группа 25"/>
          <p:cNvGrpSpPr/>
          <p:nvPr/>
        </p:nvGrpSpPr>
        <p:grpSpPr>
          <a:xfrm>
            <a:off x="3414600" y="3492000"/>
            <a:ext cx="642960" cy="2095920"/>
            <a:chOff x="3414600" y="3492000"/>
            <a:chExt cx="642960" cy="2095920"/>
          </a:xfrm>
        </p:grpSpPr>
        <p:grpSp>
          <p:nvGrpSpPr>
            <p:cNvPr id="1703" name="Группа 22"/>
            <p:cNvGrpSpPr/>
            <p:nvPr/>
          </p:nvGrpSpPr>
          <p:grpSpPr>
            <a:xfrm>
              <a:off x="3414600" y="4121280"/>
              <a:ext cx="642960" cy="1466640"/>
              <a:chOff x="3414600" y="4121280"/>
              <a:chExt cx="642960" cy="1466640"/>
            </a:xfrm>
          </p:grpSpPr>
          <p:sp>
            <p:nvSpPr>
              <p:cNvPr id="1704" name="Прямоугольник 9"/>
              <p:cNvSpPr/>
              <p:nvPr/>
            </p:nvSpPr>
            <p:spPr>
              <a:xfrm flipV="1" rot="10800000">
                <a:off x="3414600" y="431136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Прямоугольник 10"/>
              <p:cNvSpPr/>
              <p:nvPr/>
            </p:nvSpPr>
            <p:spPr>
              <a:xfrm flipV="1" rot="10800000">
                <a:off x="3678120" y="412128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Овал 11"/>
              <p:cNvSpPr/>
              <p:nvPr/>
            </p:nvSpPr>
            <p:spPr>
              <a:xfrm flipV="1" rot="10800000">
                <a:off x="3414600" y="463068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Штриховая стрелка вправо 23"/>
            <p:cNvSpPr/>
            <p:nvPr/>
          </p:nvSpPr>
          <p:spPr>
            <a:xfrm rot="16200000">
              <a:off x="3544200" y="355248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Овал 24"/>
            <p:cNvSpPr/>
            <p:nvPr/>
          </p:nvSpPr>
          <p:spPr>
            <a:xfrm rot="16200000">
              <a:off x="3657960" y="396540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8963-F2F7-4D15-914D-2334354717B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2"/>
          <p:cNvSpPr/>
          <p:nvPr/>
        </p:nvSpPr>
        <p:spPr>
          <a:xfrm>
            <a:off x="369720" y="844560"/>
            <a:ext cx="840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танка стреляют одноврем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Группа 25"/>
          <p:cNvGrpSpPr/>
          <p:nvPr/>
        </p:nvGrpSpPr>
        <p:grpSpPr>
          <a:xfrm>
            <a:off x="1763640" y="1574280"/>
            <a:ext cx="642960" cy="2095920"/>
            <a:chOff x="1763640" y="1574280"/>
            <a:chExt cx="642960" cy="2095920"/>
          </a:xfrm>
        </p:grpSpPr>
        <p:grpSp>
          <p:nvGrpSpPr>
            <p:cNvPr id="1713" name="Группа 22"/>
            <p:cNvGrpSpPr/>
            <p:nvPr/>
          </p:nvGrpSpPr>
          <p:grpSpPr>
            <a:xfrm>
              <a:off x="1763640" y="2203560"/>
              <a:ext cx="642960" cy="1466640"/>
              <a:chOff x="1763640" y="2203560"/>
              <a:chExt cx="642960" cy="1466640"/>
            </a:xfrm>
          </p:grpSpPr>
          <p:sp>
            <p:nvSpPr>
              <p:cNvPr id="1714" name="Прямоугольник 9"/>
              <p:cNvSpPr/>
              <p:nvPr/>
            </p:nvSpPr>
            <p:spPr>
              <a:xfrm flipV="1" rot="10800000">
                <a:off x="176364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Прямоугольник 10"/>
              <p:cNvSpPr/>
              <p:nvPr/>
            </p:nvSpPr>
            <p:spPr>
              <a:xfrm flipV="1" rot="10800000">
                <a:off x="202716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Овал 11"/>
              <p:cNvSpPr/>
              <p:nvPr/>
            </p:nvSpPr>
            <p:spPr>
              <a:xfrm flipV="1" rot="10800000">
                <a:off x="176364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7" name="Штриховая стрелка вправо 23"/>
            <p:cNvSpPr/>
            <p:nvPr/>
          </p:nvSpPr>
          <p:spPr>
            <a:xfrm rot="16200000">
              <a:off x="191880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Овал 24"/>
            <p:cNvSpPr/>
            <p:nvPr/>
          </p:nvSpPr>
          <p:spPr>
            <a:xfrm rot="16200000">
              <a:off x="201960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Группа 25"/>
          <p:cNvGrpSpPr/>
          <p:nvPr/>
        </p:nvGrpSpPr>
        <p:grpSpPr>
          <a:xfrm>
            <a:off x="2754360" y="1574280"/>
            <a:ext cx="642960" cy="2095920"/>
            <a:chOff x="2754360" y="1574280"/>
            <a:chExt cx="642960" cy="2095920"/>
          </a:xfrm>
        </p:grpSpPr>
        <p:grpSp>
          <p:nvGrpSpPr>
            <p:cNvPr id="1720" name="Группа 22"/>
            <p:cNvGrpSpPr/>
            <p:nvPr/>
          </p:nvGrpSpPr>
          <p:grpSpPr>
            <a:xfrm>
              <a:off x="2754360" y="2203560"/>
              <a:ext cx="642960" cy="1466640"/>
              <a:chOff x="2754360" y="2203560"/>
              <a:chExt cx="642960" cy="1466640"/>
            </a:xfrm>
          </p:grpSpPr>
          <p:sp>
            <p:nvSpPr>
              <p:cNvPr id="1721" name="Прямоугольник 18"/>
              <p:cNvSpPr/>
              <p:nvPr/>
            </p:nvSpPr>
            <p:spPr>
              <a:xfrm flipV="1" rot="10800000">
                <a:off x="2754360" y="2393640"/>
                <a:ext cx="642960" cy="1276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Прямоугольник 20"/>
              <p:cNvSpPr/>
              <p:nvPr/>
            </p:nvSpPr>
            <p:spPr>
              <a:xfrm flipV="1" rot="10800000">
                <a:off x="3017880" y="2203560"/>
                <a:ext cx="103680" cy="81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Овал 21"/>
              <p:cNvSpPr/>
              <p:nvPr/>
            </p:nvSpPr>
            <p:spPr>
              <a:xfrm flipV="1" rot="10800000">
                <a:off x="2754360" y="2712960"/>
                <a:ext cx="642960" cy="6379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4" name="Штриховая стрелка вправо 15"/>
            <p:cNvSpPr/>
            <p:nvPr/>
          </p:nvSpPr>
          <p:spPr>
            <a:xfrm rot="16200000">
              <a:off x="2909520" y="1634760"/>
              <a:ext cx="351360" cy="230040"/>
            </a:xfrm>
            <a:custGeom>
              <a:avLst/>
              <a:gdLst>
                <a:gd name="textAreaLeft" fmla="*/ 35640 w 351360"/>
                <a:gd name="textAreaRight" fmla="*/ 294480 w 35136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Овал 16"/>
            <p:cNvSpPr/>
            <p:nvPr/>
          </p:nvSpPr>
          <p:spPr>
            <a:xfrm rot="16200000">
              <a:off x="3010320" y="2047680"/>
              <a:ext cx="12600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A85-3D5C-430E-A49B-E3C3AEEFA3D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к с поворотной башней. Выстрел происходит в ту сторону, в которую повернут ство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Группа 25"/>
          <p:cNvGrpSpPr/>
          <p:nvPr/>
        </p:nvGrpSpPr>
        <p:grpSpPr>
          <a:xfrm>
            <a:off x="3427200" y="2199960"/>
            <a:ext cx="1270800" cy="1762200"/>
            <a:chOff x="3427200" y="2199960"/>
            <a:chExt cx="1270800" cy="1762200"/>
          </a:xfrm>
        </p:grpSpPr>
        <p:grpSp>
          <p:nvGrpSpPr>
            <p:cNvPr id="1730" name="Группа 22"/>
            <p:cNvGrpSpPr/>
            <p:nvPr/>
          </p:nvGrpSpPr>
          <p:grpSpPr>
            <a:xfrm>
              <a:off x="3427200" y="2656800"/>
              <a:ext cx="864000" cy="1305360"/>
              <a:chOff x="3427200" y="2656800"/>
              <a:chExt cx="864000" cy="1305360"/>
            </a:xfrm>
          </p:grpSpPr>
          <p:sp>
            <p:nvSpPr>
              <p:cNvPr id="1731" name="Прямоугольник 9"/>
              <p:cNvSpPr/>
              <p:nvPr/>
            </p:nvSpPr>
            <p:spPr>
              <a:xfrm flipV="1" rot="10800000">
                <a:off x="3427200" y="2675520"/>
                <a:ext cx="642600" cy="128664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Прямоугольник 10"/>
              <p:cNvSpPr/>
              <p:nvPr/>
            </p:nvSpPr>
            <p:spPr>
              <a:xfrm flipV="1" rot="13129200">
                <a:off x="3941640" y="2597760"/>
                <a:ext cx="103680" cy="82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Овал 11"/>
              <p:cNvSpPr/>
              <p:nvPr/>
            </p:nvSpPr>
            <p:spPr>
              <a:xfrm flipV="1" rot="10800000">
                <a:off x="3427200" y="2997360"/>
                <a:ext cx="642600" cy="64332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4" name="Штриховая стрелка вправо 23"/>
            <p:cNvSpPr/>
            <p:nvPr/>
          </p:nvSpPr>
          <p:spPr>
            <a:xfrm rot="18630000">
              <a:off x="4317120" y="2294640"/>
              <a:ext cx="355680" cy="230040"/>
            </a:xfrm>
            <a:custGeom>
              <a:avLst/>
              <a:gdLst>
                <a:gd name="textAreaLeft" fmla="*/ 36000 w 355680"/>
                <a:gd name="textAreaRight" fmla="*/ 298080 w 35568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5401" h="230212">
                  <a:moveTo>
                    <a:pt x="0" y="57553"/>
                  </a:moveTo>
                  <a:lnTo>
                    <a:pt x="7194" y="57553"/>
                  </a:lnTo>
                  <a:lnTo>
                    <a:pt x="7194" y="172659"/>
                  </a:lnTo>
                  <a:lnTo>
                    <a:pt x="0" y="172659"/>
                  </a:lnTo>
                  <a:close/>
                  <a:moveTo>
                    <a:pt x="14388" y="57553"/>
                  </a:moveTo>
                  <a:lnTo>
                    <a:pt x="28777" y="57553"/>
                  </a:lnTo>
                  <a:lnTo>
                    <a:pt x="28777" y="172659"/>
                  </a:lnTo>
                  <a:lnTo>
                    <a:pt x="14388" y="172659"/>
                  </a:lnTo>
                  <a:close/>
                  <a:moveTo>
                    <a:pt x="35971" y="57553"/>
                  </a:moveTo>
                  <a:lnTo>
                    <a:pt x="240295" y="57553"/>
                  </a:lnTo>
                  <a:lnTo>
                    <a:pt x="240295" y="0"/>
                  </a:lnTo>
                  <a:lnTo>
                    <a:pt x="355401" y="115106"/>
                  </a:lnTo>
                  <a:lnTo>
                    <a:pt x="240295" y="230212"/>
                  </a:lnTo>
                  <a:lnTo>
                    <a:pt x="240295" y="172659"/>
                  </a:lnTo>
                  <a:lnTo>
                    <a:pt x="35971" y="17265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Овал 24"/>
            <p:cNvSpPr/>
            <p:nvPr/>
          </p:nvSpPr>
          <p:spPr>
            <a:xfrm rot="16200000">
              <a:off x="4246560" y="254628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по тарел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46D-D206-44A6-8A4D-9801B2B9050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Группа 3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739" name="Прямоугольник 4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Прямоугольник 5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Овал 8"/>
          <p:cNvSpPr/>
          <p:nvPr/>
        </p:nvSpPr>
        <p:spPr>
          <a:xfrm>
            <a:off x="1600200" y="1571760"/>
            <a:ext cx="219240" cy="21888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Овал 9"/>
          <p:cNvSpPr/>
          <p:nvPr/>
        </p:nvSpPr>
        <p:spPr>
          <a:xfrm>
            <a:off x="2543040" y="1542960"/>
            <a:ext cx="276480" cy="27648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10"/>
          <p:cNvSpPr/>
          <p:nvPr/>
        </p:nvSpPr>
        <p:spPr>
          <a:xfrm>
            <a:off x="1219320" y="3200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Овал 6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Овал 7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Пятно 1 11"/>
          <p:cNvSpPr/>
          <p:nvPr/>
        </p:nvSpPr>
        <p:spPr>
          <a:xfrm>
            <a:off x="1965240" y="1494000"/>
            <a:ext cx="405000" cy="4330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Прямоугольник 12"/>
          <p:cNvSpPr/>
          <p:nvPr/>
        </p:nvSpPr>
        <p:spPr>
          <a:xfrm>
            <a:off x="3398760" y="1020600"/>
            <a:ext cx="54723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объекты-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гать тарелки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акую-нибудь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попадание в конкретную тарелку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3" dur="indefinite" restart="never" nodeType="tmRoot">
          <p:childTnLst>
            <p:seq>
              <p:cTn id="3654" dur="indefinite" nodeType="mainSeq">
                <p:childTnLst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259E-006 L -1.66667E-006 -0.17014 E">
                                      <p:cBhvr>
                                        <p:cTn id="3658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06666 1.11111E-006 E">
                                      <p:cBhvr>
                                        <p:cTn id="3660" dur="2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05973 1.11111E-006 E">
                                      <p:cBhvr>
                                        <p:cTn id="3662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5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8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1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5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1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6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1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1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1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массива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BDE-E8BC-423F-A2A9-6B80C2D4C3A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5"/>
          <p:cNvSpPr/>
          <p:nvPr/>
        </p:nvSpPr>
        <p:spPr>
          <a:xfrm>
            <a:off x="401760" y="86184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у всех одна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y-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 = []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ка массив пу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x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lates,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y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lates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appen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обавить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7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fill="hold">
                      <p:stCondLst>
                        <p:cond delay="indefinite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4" dur="500"/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1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4" dur="500"/>
                                        <p:tgtEl>
                                          <p:spTgt spid="1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9" dur="500"/>
                                        <p:tgtEl>
                                          <p:spTgt spid="1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17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fill="hold">
                      <p:stCondLst>
                        <p:cond delay="indefinite"/>
                      </p:stCondLst>
                      <p:childTnLst>
                        <p:par>
                          <p:cTn id="3756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17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7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7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 тарел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B085-E842-4007-AC7F-9E3F571969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5"/>
          <p:cNvSpPr/>
          <p:nvPr/>
        </p:nvSpPr>
        <p:spPr>
          <a:xfrm>
            <a:off x="401760" y="861840"/>
            <a:ext cx="849600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для каждой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двиг на 2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x1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ышла за границ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скочить вправо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Группа 10"/>
          <p:cNvGrpSpPr/>
          <p:nvPr/>
        </p:nvGrpSpPr>
        <p:grpSpPr>
          <a:xfrm>
            <a:off x="938880" y="4535640"/>
            <a:ext cx="2274840" cy="1621440"/>
            <a:chOff x="938880" y="4535640"/>
            <a:chExt cx="2274840" cy="1621440"/>
          </a:xfrm>
        </p:grpSpPr>
        <p:sp>
          <p:nvSpPr>
            <p:cNvPr id="1755" name="Овал 4"/>
            <p:cNvSpPr/>
            <p:nvPr/>
          </p:nvSpPr>
          <p:spPr>
            <a:xfrm>
              <a:off x="1590840" y="4987440"/>
              <a:ext cx="719640" cy="7200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Прямоугольник 5"/>
            <p:cNvSpPr/>
            <p:nvPr/>
          </p:nvSpPr>
          <p:spPr>
            <a:xfrm>
              <a:off x="1590840" y="4987440"/>
              <a:ext cx="719640" cy="72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Прямоугольник 6"/>
            <p:cNvSpPr/>
            <p:nvPr/>
          </p:nvSpPr>
          <p:spPr>
            <a:xfrm>
              <a:off x="938880" y="453564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Прямоугольник 7"/>
            <p:cNvSpPr/>
            <p:nvPr/>
          </p:nvSpPr>
          <p:spPr>
            <a:xfrm>
              <a:off x="2240640" y="5646960"/>
              <a:ext cx="97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x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,y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Courier New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Овал 8"/>
            <p:cNvSpPr/>
            <p:nvPr/>
          </p:nvSpPr>
          <p:spPr>
            <a:xfrm>
              <a:off x="1572120" y="496188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Овал 9"/>
            <p:cNvSpPr/>
            <p:nvPr/>
          </p:nvSpPr>
          <p:spPr>
            <a:xfrm>
              <a:off x="2281680" y="5681160"/>
              <a:ext cx="45360" cy="45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Полилиния 11"/>
          <p:cNvSpPr/>
          <p:nvPr/>
        </p:nvSpPr>
        <p:spPr>
          <a:xfrm>
            <a:off x="731880" y="2759040"/>
            <a:ext cx="417600" cy="1812960"/>
          </a:xfrm>
          <a:custGeom>
            <a:avLst/>
            <a:gdLst>
              <a:gd name="textAreaLeft" fmla="*/ 0 w 417600"/>
              <a:gd name="textAreaRight" fmla="*/ 417960 w 4176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548640" h="1379220">
                <a:moveTo>
                  <a:pt x="365760" y="0"/>
                </a:moveTo>
                <a:cubicBezTo>
                  <a:pt x="182880" y="224155"/>
                  <a:pt x="0" y="448310"/>
                  <a:pt x="30480" y="678180"/>
                </a:cubicBezTo>
                <a:cubicBezTo>
                  <a:pt x="60960" y="908050"/>
                  <a:pt x="304800" y="1143635"/>
                  <a:pt x="548640" y="137922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Группа 20"/>
          <p:cNvGrpSpPr/>
          <p:nvPr/>
        </p:nvGrpSpPr>
        <p:grpSpPr>
          <a:xfrm>
            <a:off x="4208400" y="4287960"/>
            <a:ext cx="2216160" cy="1855800"/>
            <a:chOff x="4208400" y="4287960"/>
            <a:chExt cx="2216160" cy="1855800"/>
          </a:xfrm>
        </p:grpSpPr>
        <p:grpSp>
          <p:nvGrpSpPr>
            <p:cNvPr id="1763" name="Группа 19"/>
            <p:cNvGrpSpPr/>
            <p:nvPr/>
          </p:nvGrpSpPr>
          <p:grpSpPr>
            <a:xfrm>
              <a:off x="4208400" y="4599000"/>
              <a:ext cx="2216160" cy="1544760"/>
              <a:chOff x="4208400" y="4599000"/>
              <a:chExt cx="2216160" cy="1544760"/>
            </a:xfrm>
          </p:grpSpPr>
          <p:sp>
            <p:nvSpPr>
              <p:cNvPr id="1764" name="Прямоугольник 12"/>
              <p:cNvSpPr/>
              <p:nvPr/>
            </p:nvSpPr>
            <p:spPr>
              <a:xfrm>
                <a:off x="4208400" y="4900680"/>
                <a:ext cx="2216160" cy="1243080"/>
              </a:xfrm>
              <a:prstGeom prst="rect">
                <a:avLst/>
              </a:prstGeom>
              <a:solidFill>
                <a:srgbClr val="e6e6e6"/>
              </a:solidFill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Прямая соединительная линия 14"/>
              <p:cNvSpPr/>
              <p:nvPr/>
            </p:nvSpPr>
            <p:spPr>
              <a:xfrm>
                <a:off x="42087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Прямая соединительная линия 15"/>
              <p:cNvSpPr/>
              <p:nvPr/>
            </p:nvSpPr>
            <p:spPr>
              <a:xfrm>
                <a:off x="6424560" y="4599000"/>
                <a:ext cx="0" cy="30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Полилиния 16"/>
              <p:cNvSpPr/>
              <p:nvPr/>
            </p:nvSpPr>
            <p:spPr>
              <a:xfrm>
                <a:off x="4209840" y="4718160"/>
                <a:ext cx="2210400" cy="360"/>
              </a:xfrm>
              <a:custGeom>
                <a:avLst/>
                <a:gdLst/>
                <a:ahLst/>
                <a:rect l="l" t="t" r="r" b="b"/>
                <a:pathLst>
                  <a:path w="2209800" h="12700">
                    <a:moveTo>
                      <a:pt x="0" y="12700"/>
                    </a:moveTo>
                    <a:lnTo>
                      <a:pt x="220980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8" name="Прямоугольник 17"/>
            <p:cNvSpPr/>
            <p:nvPr/>
          </p:nvSpPr>
          <p:spPr>
            <a:xfrm>
              <a:off x="4951440" y="42879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Овал 18"/>
          <p:cNvSpPr/>
          <p:nvPr/>
        </p:nvSpPr>
        <p:spPr>
          <a:xfrm>
            <a:off x="4044960" y="5029200"/>
            <a:ext cx="304920" cy="3049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8" dur="indefinite" restart="never" nodeType="tmRoot">
          <p:childTnLst>
            <p:seq>
              <p:cTn id="3769" dur="indefinite" nodeType="mainSeq">
                <p:childTnLst>
                  <p:par>
                    <p:cTn id="3770" fill="hold">
                      <p:stCondLst>
                        <p:cond delay="indefinite"/>
                      </p:stCondLst>
                      <p:childTnLst>
                        <p:par>
                          <p:cTn id="3771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fill="hold">
                      <p:stCondLst>
                        <p:cond delay="indefinite"/>
                      </p:stCondLst>
                      <p:childTnLst>
                        <p:par>
                          <p:cTn id="3779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2" dur="500"/>
                                        <p:tgtEl>
                                          <p:spTgt spid="1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7" dur="500"/>
                                        <p:tgtEl>
                                          <p:spTgt spid="1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2" dur="500"/>
                                        <p:tgtEl>
                                          <p:spTgt spid="1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7" dur="500"/>
                                        <p:tgtEl>
                                          <p:spTgt spid="1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0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-0.06493 0.00555 -0.05122 0.14583 -0.0066 0.17546 C 0.03802 0.20509 0.21771 0.2081 0.26788 0.17777 C 0.31805 0.14745 0.30173 0.03657 0.29479 -0.00672 E">
                                      <p:cBhvr>
                                        <p:cTn id="3815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0" dur="500"/>
                                        <p:tgtEl>
                                          <p:spTgt spid="1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3" dur="500"/>
                                        <p:tgtEl>
                                          <p:spTgt spid="1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6" dur="500"/>
                                        <p:tgtEl>
                                          <p:spTgt spid="1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дание в какую-нибудь тарел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D568-5C60-4BF0-99C1-1E0C7A9F58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"/>
          <p:cNvSpPr/>
          <p:nvPr/>
        </p:nvSpPr>
        <p:spPr>
          <a:xfrm>
            <a:off x="401760" y="876240"/>
            <a:ext cx="8397720" cy="4517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,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ерекинуть тарелку на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,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наряд в начальную точку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остановить сн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олько одну тарелку за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Прямоугольник 4"/>
          <p:cNvSpPr/>
          <p:nvPr/>
        </p:nvSpPr>
        <p:spPr>
          <a:xfrm>
            <a:off x="461880" y="5110200"/>
            <a:ext cx="833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функция, которая возвращ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если снаряд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) столкнулся с тарелкой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не столкну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7" dur="indefinite" restart="never" nodeType="tmRoot">
          <p:childTnLst>
            <p:seq>
              <p:cTn id="3828" dur="indefinite" nodeType="mainSeq">
                <p:childTnLst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6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fill="hold">
                      <p:stCondLst>
                        <p:cond delay="indefinite"/>
                      </p:stCondLst>
                      <p:childTnLst>
                        <p:par>
                          <p:cTn id="3838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9" dur="500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2" dur="500"/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5" dur="500"/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D24-987D-438B-BD0A-5DB2AB3F04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57"/>
          <p:cNvGrpSpPr/>
          <p:nvPr/>
        </p:nvGrpSpPr>
        <p:grpSpPr>
          <a:xfrm>
            <a:off x="426600" y="1332000"/>
            <a:ext cx="1448640" cy="1609920"/>
            <a:chOff x="426600" y="1332000"/>
            <a:chExt cx="1448640" cy="1609920"/>
          </a:xfrm>
        </p:grpSpPr>
        <p:sp>
          <p:nvSpPr>
            <p:cNvPr id="1777" name="Овал 22"/>
            <p:cNvSpPr/>
            <p:nvPr/>
          </p:nvSpPr>
          <p:spPr>
            <a:xfrm>
              <a:off x="79812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Овал 23"/>
            <p:cNvSpPr/>
            <p:nvPr/>
          </p:nvSpPr>
          <p:spPr>
            <a:xfrm>
              <a:off x="1401480" y="2015640"/>
              <a:ext cx="31680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Прямоугольник 27"/>
            <p:cNvSpPr/>
            <p:nvPr/>
          </p:nvSpPr>
          <p:spPr>
            <a:xfrm>
              <a:off x="426600" y="24822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Группа 58"/>
          <p:cNvGrpSpPr/>
          <p:nvPr/>
        </p:nvGrpSpPr>
        <p:grpSpPr>
          <a:xfrm>
            <a:off x="1998720" y="1332000"/>
            <a:ext cx="1026720" cy="1609920"/>
            <a:chOff x="1998720" y="1332000"/>
            <a:chExt cx="1026720" cy="1609920"/>
          </a:xfrm>
        </p:grpSpPr>
        <p:sp>
          <p:nvSpPr>
            <p:cNvPr id="1781" name="Овал 24"/>
            <p:cNvSpPr/>
            <p:nvPr/>
          </p:nvSpPr>
          <p:spPr>
            <a:xfrm>
              <a:off x="2118600" y="1332000"/>
              <a:ext cx="719640" cy="71964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Овал 25"/>
            <p:cNvSpPr/>
            <p:nvPr/>
          </p:nvSpPr>
          <p:spPr>
            <a:xfrm>
              <a:off x="2556720" y="1939320"/>
              <a:ext cx="316440" cy="31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Прямоугольник 28"/>
            <p:cNvSpPr/>
            <p:nvPr/>
          </p:nvSpPr>
          <p:spPr>
            <a:xfrm>
              <a:off x="1998720" y="24822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поп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55"/>
          <p:cNvGrpSpPr/>
          <p:nvPr/>
        </p:nvGrpSpPr>
        <p:grpSpPr>
          <a:xfrm>
            <a:off x="3352680" y="1289160"/>
            <a:ext cx="5536800" cy="1053360"/>
            <a:chOff x="3352680" y="1289160"/>
            <a:chExt cx="5536800" cy="1053360"/>
          </a:xfrm>
        </p:grpSpPr>
        <p:sp>
          <p:nvSpPr>
            <p:cNvPr id="1785" name="Text Box 56"/>
            <p:cNvSpPr/>
            <p:nvPr/>
          </p:nvSpPr>
          <p:spPr>
            <a:xfrm>
              <a:off x="3819240" y="1395360"/>
              <a:ext cx="5070240" cy="9471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записать условие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«попал» в виде форму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57"/>
            <p:cNvSpPr/>
            <p:nvPr/>
          </p:nvSpPr>
          <p:spPr>
            <a:xfrm>
              <a:off x="3352680" y="1289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Группа 38"/>
          <p:cNvGrpSpPr/>
          <p:nvPr/>
        </p:nvGrpSpPr>
        <p:grpSpPr>
          <a:xfrm>
            <a:off x="809640" y="3402000"/>
            <a:ext cx="1450800" cy="1449360"/>
            <a:chOff x="809640" y="3402000"/>
            <a:chExt cx="1450800" cy="1449360"/>
          </a:xfrm>
        </p:grpSpPr>
        <p:sp>
          <p:nvSpPr>
            <p:cNvPr id="1788" name="Овал 32"/>
            <p:cNvSpPr/>
            <p:nvPr/>
          </p:nvSpPr>
          <p:spPr>
            <a:xfrm>
              <a:off x="809640" y="3402000"/>
              <a:ext cx="1450800" cy="1449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Овал 35"/>
            <p:cNvSpPr/>
            <p:nvPr/>
          </p:nvSpPr>
          <p:spPr>
            <a:xfrm>
              <a:off x="1499040" y="4090680"/>
              <a:ext cx="72000" cy="72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Группа 37"/>
          <p:cNvGrpSpPr/>
          <p:nvPr/>
        </p:nvGrpSpPr>
        <p:grpSpPr>
          <a:xfrm>
            <a:off x="2390760" y="4721400"/>
            <a:ext cx="638280" cy="636480"/>
            <a:chOff x="2390760" y="4721400"/>
            <a:chExt cx="638280" cy="636480"/>
          </a:xfrm>
        </p:grpSpPr>
        <p:sp>
          <p:nvSpPr>
            <p:cNvPr id="1791" name="Овал 33"/>
            <p:cNvSpPr/>
            <p:nvPr/>
          </p:nvSpPr>
          <p:spPr>
            <a:xfrm>
              <a:off x="2390760" y="4721400"/>
              <a:ext cx="638280" cy="636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Овал 36"/>
            <p:cNvSpPr/>
            <p:nvPr/>
          </p:nvSpPr>
          <p:spPr>
            <a:xfrm>
              <a:off x="2673720" y="5003640"/>
              <a:ext cx="72000" cy="71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AutoShape 18"/>
          <p:cNvSpPr/>
          <p:nvPr/>
        </p:nvSpPr>
        <p:spPr>
          <a:xfrm>
            <a:off x="1782720" y="5648400"/>
            <a:ext cx="1271520" cy="514440"/>
          </a:xfrm>
          <a:prstGeom prst="wedgeRoundRectCallout">
            <a:avLst>
              <a:gd name="adj1" fmla="val 23152"/>
              <a:gd name="adj2" fmla="val -16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18"/>
          <p:cNvSpPr/>
          <p:nvPr/>
        </p:nvSpPr>
        <p:spPr>
          <a:xfrm>
            <a:off x="2023920" y="3005280"/>
            <a:ext cx="1575000" cy="593640"/>
          </a:xfrm>
          <a:prstGeom prst="wedgeRoundRectCallout">
            <a:avLst>
              <a:gd name="adj1" fmla="val -79518"/>
              <a:gd name="adj2" fmla="val 1316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5" name="Группа 43"/>
          <p:cNvGrpSpPr/>
          <p:nvPr/>
        </p:nvGrpSpPr>
        <p:grpSpPr>
          <a:xfrm>
            <a:off x="1527120" y="4127400"/>
            <a:ext cx="1177920" cy="917640"/>
            <a:chOff x="1527120" y="4127400"/>
            <a:chExt cx="1177920" cy="917640"/>
          </a:xfrm>
        </p:grpSpPr>
        <p:sp>
          <p:nvSpPr>
            <p:cNvPr id="1796" name="Полилиния 41"/>
            <p:cNvSpPr/>
            <p:nvPr/>
          </p:nvSpPr>
          <p:spPr>
            <a:xfrm>
              <a:off x="1531440" y="4130280"/>
              <a:ext cx="1173600" cy="91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914760"/>
                <a:gd name="textAreaBottom" fmla="*/ 915120 h 91476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Полилиния 42"/>
            <p:cNvSpPr/>
            <p:nvPr/>
          </p:nvSpPr>
          <p:spPr>
            <a:xfrm>
              <a:off x="1527120" y="4127400"/>
              <a:ext cx="587520" cy="457920"/>
            </a:xfrm>
            <a:custGeom>
              <a:avLst/>
              <a:gdLst>
                <a:gd name="textAreaLeft" fmla="*/ 0 w 587520"/>
                <a:gd name="textAreaRight" fmla="*/ 587880 w 58752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1173480" h="914400">
                  <a:moveTo>
                    <a:pt x="0" y="0"/>
                  </a:moveTo>
                  <a:lnTo>
                    <a:pt x="1173480" y="9144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Группа 46"/>
          <p:cNvGrpSpPr/>
          <p:nvPr/>
        </p:nvGrpSpPr>
        <p:grpSpPr>
          <a:xfrm>
            <a:off x="2527200" y="3700440"/>
            <a:ext cx="5384880" cy="922320"/>
            <a:chOff x="2527200" y="3700440"/>
            <a:chExt cx="5384880" cy="922320"/>
          </a:xfrm>
        </p:grpSpPr>
        <p:sp>
          <p:nvSpPr>
            <p:cNvPr id="1799" name="AutoShape 18"/>
            <p:cNvSpPr/>
            <p:nvPr/>
          </p:nvSpPr>
          <p:spPr>
            <a:xfrm>
              <a:off x="2527200" y="3700440"/>
              <a:ext cx="5384880" cy="922320"/>
            </a:xfrm>
            <a:prstGeom prst="wedgeRoundRectCallout">
              <a:avLst>
                <a:gd name="adj1" fmla="val -57023"/>
                <a:gd name="adj2" fmla="val 5137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0" name="Object 2"/>
                <p:cNvSpPr txBox="1"/>
                <p:nvPr/>
              </p:nvSpPr>
              <p:spPr>
                <a:xfrm>
                  <a:off x="2935080" y="3761280"/>
                  <a:ext cx="4732560" cy="80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1" name="Прямоугольник 47"/>
          <p:cNvSpPr/>
          <p:nvPr/>
        </p:nvSpPr>
        <p:spPr>
          <a:xfrm>
            <a:off x="3839400" y="3067200"/>
            <a:ext cx="49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между цент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Полилиния 48"/>
          <p:cNvSpPr/>
          <p:nvPr/>
        </p:nvSpPr>
        <p:spPr>
          <a:xfrm>
            <a:off x="1003320" y="4114800"/>
            <a:ext cx="520560" cy="533520"/>
          </a:xfrm>
          <a:custGeom>
            <a:avLst/>
            <a:gdLst>
              <a:gd name="textAreaLeft" fmla="*/ 0 w 520560"/>
              <a:gd name="textAreaRight" fmla="*/ 520920 w 52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20700" h="533400">
                <a:moveTo>
                  <a:pt x="520700" y="0"/>
                </a:moveTo>
                <a:lnTo>
                  <a:pt x="0" y="5334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Прямоугольник 49"/>
          <p:cNvSpPr/>
          <p:nvPr/>
        </p:nvSpPr>
        <p:spPr>
          <a:xfrm>
            <a:off x="830880" y="37767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Полилиния 50"/>
          <p:cNvSpPr/>
          <p:nvPr/>
        </p:nvSpPr>
        <p:spPr>
          <a:xfrm>
            <a:off x="1712880" y="5219640"/>
            <a:ext cx="730440" cy="243000"/>
          </a:xfrm>
          <a:custGeom>
            <a:avLst/>
            <a:gdLst>
              <a:gd name="textAreaLeft" fmla="*/ 0 w 730440"/>
              <a:gd name="textAreaRight" fmla="*/ 730800 w 7304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731044" h="242889">
                <a:moveTo>
                  <a:pt x="0" y="242889"/>
                </a:moveTo>
                <a:lnTo>
                  <a:pt x="416718" y="242888"/>
                </a:lnTo>
                <a:lnTo>
                  <a:pt x="7310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Прямоугольник 51"/>
          <p:cNvSpPr/>
          <p:nvPr/>
        </p:nvSpPr>
        <p:spPr>
          <a:xfrm>
            <a:off x="1778760" y="50292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Группа 56"/>
          <p:cNvGrpSpPr/>
          <p:nvPr/>
        </p:nvGrpSpPr>
        <p:grpSpPr>
          <a:xfrm>
            <a:off x="3598920" y="5075280"/>
            <a:ext cx="4911840" cy="834840"/>
            <a:chOff x="3598920" y="5075280"/>
            <a:chExt cx="4911840" cy="834840"/>
          </a:xfrm>
        </p:grpSpPr>
        <p:grpSp>
          <p:nvGrpSpPr>
            <p:cNvPr id="1807" name="Group 55"/>
            <p:cNvGrpSpPr/>
            <p:nvPr/>
          </p:nvGrpSpPr>
          <p:grpSpPr>
            <a:xfrm>
              <a:off x="3598920" y="5075280"/>
              <a:ext cx="4911840" cy="774720"/>
              <a:chOff x="3598920" y="5075280"/>
              <a:chExt cx="4911840" cy="774720"/>
            </a:xfrm>
          </p:grpSpPr>
          <p:sp>
            <p:nvSpPr>
              <p:cNvPr id="1808" name="Text Box 56"/>
              <p:cNvSpPr/>
              <p:nvPr/>
            </p:nvSpPr>
            <p:spPr>
              <a:xfrm>
                <a:off x="4065840" y="5181480"/>
                <a:ext cx="4444920" cy="668520"/>
              </a:xfrm>
              <a:prstGeom prst="rect">
                <a:avLst/>
              </a:prstGeom>
              <a:solidFill>
                <a:srgbClr val="d1d1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«Попал»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Oval 57"/>
              <p:cNvSpPr/>
              <p:nvPr/>
            </p:nvSpPr>
            <p:spPr>
              <a:xfrm>
                <a:off x="3598920" y="5075280"/>
                <a:ext cx="649440" cy="663480"/>
              </a:xfrm>
              <a:prstGeom prst="ellipse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10" name="Object 3"/>
                <p:cNvSpPr txBox="1"/>
                <p:nvPr/>
              </p:nvSpPr>
              <p:spPr>
                <a:xfrm>
                  <a:off x="5950080" y="5208480"/>
                  <a:ext cx="245448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7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0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371A-7B95-43EC-8511-3F84BF67EE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5"/>
          <p:cNvSpPr/>
          <p:nvPr/>
        </p:nvSpPr>
        <p:spPr>
          <a:xfrm>
            <a:off x="401760" y="876240"/>
            <a:ext cx="8397720" cy="2506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Двойная стрелка вверх/вниз 19"/>
          <p:cNvSpPr/>
          <p:nvPr/>
        </p:nvSpPr>
        <p:spPr>
          <a:xfrm>
            <a:off x="1955880" y="3505320"/>
            <a:ext cx="401400" cy="749160"/>
          </a:xfrm>
          <a:prstGeom prst="upDownArrow">
            <a:avLst>
              <a:gd name="adj1" fmla="val 50000"/>
              <a:gd name="adj2" fmla="val 4996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5"/>
          <p:cNvSpPr/>
          <p:nvPr/>
        </p:nvSpPr>
        <p:spPr>
          <a:xfrm>
            <a:off x="401760" y="4330800"/>
            <a:ext cx="8397720" cy="130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2 &lt;= (Rp + r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6" dur="indefinite" restart="never" nodeType="tmRoot">
          <p:childTnLst>
            <p:seq>
              <p:cTn id="3947" dur="indefinite" nodeType="mainSeq">
                <p:childTnLst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1" dur="500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4" dur="500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0" dur="500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5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1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1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8" dur="500"/>
                                        <p:tgtEl>
                                          <p:spTgt spid="1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B893-6B7C-46EC-8036-C929943FC3F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69720" y="833400"/>
            <a:ext cx="8420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р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Группа 15"/>
          <p:cNvGrpSpPr/>
          <p:nvPr/>
        </p:nvGrpSpPr>
        <p:grpSpPr>
          <a:xfrm>
            <a:off x="2346480" y="1414440"/>
            <a:ext cx="3954240" cy="2428920"/>
            <a:chOff x="2346480" y="1414440"/>
            <a:chExt cx="3954240" cy="2428920"/>
          </a:xfrm>
        </p:grpSpPr>
        <p:sp>
          <p:nvSpPr>
            <p:cNvPr id="352" name="Freeform 15"/>
            <p:cNvSpPr/>
            <p:nvPr/>
          </p:nvSpPr>
          <p:spPr>
            <a:xfrm>
              <a:off x="3836880" y="1928520"/>
              <a:ext cx="2257200" cy="191484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 flipH="1">
              <a:off x="2557440" y="1928520"/>
              <a:ext cx="2257200" cy="1914840"/>
            </a:xfrm>
            <a:custGeom>
              <a:avLst/>
              <a:gdLst>
                <a:gd name="textAreaLeft" fmla="*/ 360 w 2257200"/>
                <a:gd name="textAreaRight" fmla="*/ 2257920 w 22572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33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"/>
            <p:cNvSpPr/>
            <p:nvPr/>
          </p:nvSpPr>
          <p:spPr>
            <a:xfrm>
              <a:off x="5880240" y="1717560"/>
              <a:ext cx="420480" cy="420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4"/>
            <p:cNvSpPr/>
            <p:nvPr/>
          </p:nvSpPr>
          <p:spPr>
            <a:xfrm>
              <a:off x="2346480" y="1707840"/>
              <a:ext cx="420480" cy="4204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11"/>
            <p:cNvSpPr/>
            <p:nvPr/>
          </p:nvSpPr>
          <p:spPr>
            <a:xfrm>
              <a:off x="3844800" y="1658880"/>
              <a:ext cx="1036440" cy="218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2"/>
            <p:cNvSpPr/>
            <p:nvPr/>
          </p:nvSpPr>
          <p:spPr>
            <a:xfrm>
              <a:off x="4146480" y="1414440"/>
              <a:ext cx="420480" cy="42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пал ли снаряд в данную тарел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F1DA-348E-4572-956E-8160A55603B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5"/>
          <p:cNvSpPr/>
          <p:nvPr/>
        </p:nvSpPr>
        <p:spPr>
          <a:xfrm>
            <a:off x="401760" y="876240"/>
            <a:ext cx="8397720" cy="5321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hi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,y1,x2,y2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b = x1 + r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нтр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b = y1 +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координаты та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p,y1p,x2p,y2p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p = (x1p + x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p = (y1p + y2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p = (x2p - x1p) /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= (xb-xp)**2 + (yb-yp)*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2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 (R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**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Группа 28"/>
          <p:cNvGrpSpPr/>
          <p:nvPr/>
        </p:nvGrpSpPr>
        <p:grpSpPr>
          <a:xfrm>
            <a:off x="5181480" y="3610080"/>
            <a:ext cx="3522600" cy="1621440"/>
            <a:chOff x="5181480" y="3610080"/>
            <a:chExt cx="3522600" cy="1621440"/>
          </a:xfrm>
        </p:grpSpPr>
        <p:grpSp>
          <p:nvGrpSpPr>
            <p:cNvPr id="1820" name="Группа 20"/>
            <p:cNvGrpSpPr/>
            <p:nvPr/>
          </p:nvGrpSpPr>
          <p:grpSpPr>
            <a:xfrm>
              <a:off x="6231240" y="3610080"/>
              <a:ext cx="2472840" cy="1621440"/>
              <a:chOff x="6231240" y="3610080"/>
              <a:chExt cx="2472840" cy="1621440"/>
            </a:xfrm>
          </p:grpSpPr>
          <p:grpSp>
            <p:nvGrpSpPr>
              <p:cNvPr id="1821" name="Группа 5"/>
              <p:cNvGrpSpPr/>
              <p:nvPr/>
            </p:nvGrpSpPr>
            <p:grpSpPr>
              <a:xfrm>
                <a:off x="6231240" y="3610080"/>
                <a:ext cx="2472840" cy="1621440"/>
                <a:chOff x="6231240" y="3610080"/>
                <a:chExt cx="2472840" cy="1621440"/>
              </a:xfrm>
            </p:grpSpPr>
            <p:sp>
              <p:nvSpPr>
                <p:cNvPr id="1822" name="Овал 6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ellipse">
                  <a:avLst/>
                </a:prstGeom>
                <a:solidFill>
                  <a:srgbClr val="ff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Прямоугольник 7"/>
                <p:cNvSpPr/>
                <p:nvPr/>
              </p:nvSpPr>
              <p:spPr>
                <a:xfrm>
                  <a:off x="6868440" y="4061880"/>
                  <a:ext cx="720000" cy="720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Прямоугольник 8"/>
                <p:cNvSpPr/>
                <p:nvPr/>
              </p:nvSpPr>
              <p:spPr>
                <a:xfrm>
                  <a:off x="6231240" y="361008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Прямоугольник 9"/>
                <p:cNvSpPr/>
                <p:nvPr/>
              </p:nvSpPr>
              <p:spPr>
                <a:xfrm>
                  <a:off x="7533000" y="4721400"/>
                  <a:ext cx="1171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p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Овал 10"/>
                <p:cNvSpPr/>
                <p:nvPr/>
              </p:nvSpPr>
              <p:spPr>
                <a:xfrm>
                  <a:off x="6849360" y="403632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Овал 11"/>
                <p:cNvSpPr/>
                <p:nvPr/>
              </p:nvSpPr>
              <p:spPr>
                <a:xfrm>
                  <a:off x="7559280" y="4755600"/>
                  <a:ext cx="45720" cy="45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8" name="Овал 19"/>
              <p:cNvSpPr/>
              <p:nvPr/>
            </p:nvSpPr>
            <p:spPr>
              <a:xfrm>
                <a:off x="7201080" y="4387680"/>
                <a:ext cx="72000" cy="72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9" name="AutoShape 18"/>
            <p:cNvSpPr/>
            <p:nvPr/>
          </p:nvSpPr>
          <p:spPr>
            <a:xfrm>
              <a:off x="5181480" y="4337280"/>
              <a:ext cx="1300320" cy="595440"/>
            </a:xfrm>
            <a:prstGeom prst="wedgeRoundRectCallout">
              <a:avLst>
                <a:gd name="adj1" fmla="val 95333"/>
                <a:gd name="adj2" fmla="val -3265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Группа 27"/>
          <p:cNvGrpSpPr/>
          <p:nvPr/>
        </p:nvGrpSpPr>
        <p:grpSpPr>
          <a:xfrm>
            <a:off x="6381000" y="1442880"/>
            <a:ext cx="2305800" cy="1973880"/>
            <a:chOff x="6381000" y="1442880"/>
            <a:chExt cx="2305800" cy="1973880"/>
          </a:xfrm>
        </p:grpSpPr>
        <p:grpSp>
          <p:nvGrpSpPr>
            <p:cNvPr id="1831" name="Группа 24"/>
            <p:cNvGrpSpPr/>
            <p:nvPr/>
          </p:nvGrpSpPr>
          <p:grpSpPr>
            <a:xfrm>
              <a:off x="6381000" y="2186280"/>
              <a:ext cx="1764000" cy="1230480"/>
              <a:chOff x="6381000" y="2186280"/>
              <a:chExt cx="1764000" cy="1230480"/>
            </a:xfrm>
          </p:grpSpPr>
          <p:grpSp>
            <p:nvGrpSpPr>
              <p:cNvPr id="1832" name="Группа 12"/>
              <p:cNvGrpSpPr/>
              <p:nvPr/>
            </p:nvGrpSpPr>
            <p:grpSpPr>
              <a:xfrm>
                <a:off x="6381000" y="2186280"/>
                <a:ext cx="1764000" cy="1230480"/>
                <a:chOff x="6381000" y="2186280"/>
                <a:chExt cx="1764000" cy="1230480"/>
              </a:xfrm>
            </p:grpSpPr>
            <p:sp>
              <p:nvSpPr>
                <p:cNvPr id="1833" name="Овал 13"/>
                <p:cNvSpPr/>
                <p:nvPr/>
              </p:nvSpPr>
              <p:spPr>
                <a:xfrm>
                  <a:off x="7039800" y="2638440"/>
                  <a:ext cx="316800" cy="316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Прямоугольник 14"/>
                <p:cNvSpPr/>
                <p:nvPr/>
              </p:nvSpPr>
              <p:spPr>
                <a:xfrm>
                  <a:off x="7039800" y="2638800"/>
                  <a:ext cx="316440" cy="316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Прямоугольник 15"/>
                <p:cNvSpPr/>
                <p:nvPr/>
              </p:nvSpPr>
              <p:spPr>
                <a:xfrm>
                  <a:off x="6381000" y="218628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1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Прямоугольник 16"/>
                <p:cNvSpPr/>
                <p:nvPr/>
              </p:nvSpPr>
              <p:spPr>
                <a:xfrm>
                  <a:off x="7171920" y="2906640"/>
                  <a:ext cx="9730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,y</a:t>
                  </a:r>
                  <a:r>
                    <a:rPr b="0" lang="ru-RU" sz="2400" spc="-1" strike="noStrike" baseline="-25000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2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Овал 17"/>
                <p:cNvSpPr/>
                <p:nvPr/>
              </p:nvSpPr>
              <p:spPr>
                <a:xfrm>
                  <a:off x="7014600" y="261252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Овал 18"/>
                <p:cNvSpPr/>
                <p:nvPr/>
              </p:nvSpPr>
              <p:spPr>
                <a:xfrm>
                  <a:off x="7333920" y="2937960"/>
                  <a:ext cx="45720" cy="45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9" name="Овал 21"/>
              <p:cNvSpPr/>
              <p:nvPr/>
            </p:nvSpPr>
            <p:spPr>
              <a:xfrm>
                <a:off x="7175520" y="277092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0" name="AutoShape 18"/>
            <p:cNvSpPr/>
            <p:nvPr/>
          </p:nvSpPr>
          <p:spPr>
            <a:xfrm>
              <a:off x="7408800" y="1442880"/>
              <a:ext cx="1278000" cy="595080"/>
            </a:xfrm>
            <a:prstGeom prst="wedgeRoundRectCallout">
              <a:avLst>
                <a:gd name="adj1" fmla="val -65574"/>
                <a:gd name="adj2" fmla="val 174356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5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8" dur="50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3" dur="50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4" fill="hold">
                      <p:stCondLst>
                        <p:cond delay="indefinite"/>
                      </p:stCondLst>
                      <p:childTnLst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9" dur="500"/>
                                        <p:tgtEl>
                                          <p:spTgt spid="1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2" dur="500"/>
                                        <p:tgtEl>
                                          <p:spTgt spid="1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0" dur="500"/>
                                        <p:tgtEl>
                                          <p:spTgt spid="1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4" fill="hold">
                      <p:stCondLst>
                        <p:cond delay="indefinite"/>
                      </p:stCondLst>
                      <p:childTnLst>
                        <p:par>
                          <p:cTn id="4035" fill="hold">
                            <p:stCondLst>
                              <p:cond delay="0"/>
                            </p:stCondLst>
                            <p:childTnLst>
                              <p:par>
                                <p:cTn id="4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8" dur="500"/>
                                        <p:tgtEl>
                                          <p:spTgt spid="1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1" dur="500"/>
                                        <p:tgtEl>
                                          <p:spTgt spid="18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6" dur="500"/>
                                        <p:tgtEl>
                                          <p:spTgt spid="18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1" dur="500"/>
                                        <p:tgtEl>
                                          <p:spTgt spid="18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6" dur="500"/>
                                        <p:tgtEl>
                                          <p:spTgt spid="18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зывать эти функ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E51E-F488-4B2E-A509-747F2517A3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5"/>
          <p:cNvSpPr/>
          <p:nvPr/>
        </p:nvSpPr>
        <p:spPr>
          <a:xfrm>
            <a:off x="401760" y="887400"/>
            <a:ext cx="8397720" cy="572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eckCollis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AutoShape 18"/>
          <p:cNvSpPr/>
          <p:nvPr/>
        </p:nvSpPr>
        <p:spPr>
          <a:xfrm>
            <a:off x="4835520" y="5599080"/>
            <a:ext cx="2908440" cy="827280"/>
          </a:xfrm>
          <a:prstGeom prst="wedgeRoundRectCallout">
            <a:avLst>
              <a:gd name="adj1" fmla="val -82273"/>
              <a:gd name="adj2" fmla="val 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Прямоугольник 5"/>
          <p:cNvSpPr/>
          <p:nvPr/>
        </p:nvSpPr>
        <p:spPr>
          <a:xfrm>
            <a:off x="787320" y="1731960"/>
            <a:ext cx="242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Plat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Прямоугольник 6"/>
          <p:cNvSpPr/>
          <p:nvPr/>
        </p:nvSpPr>
        <p:spPr>
          <a:xfrm>
            <a:off x="1498680" y="4932360"/>
            <a:ext cx="337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eckCollis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7" dur="indefinite" restart="never" nodeType="tmRoot">
          <p:childTnLst>
            <p:seq>
              <p:cTn id="4058" dur="indefinite" nodeType="mainSeq">
                <p:childTnLst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3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6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2" dur="500"/>
                                        <p:tgtEl>
                                          <p:spTgt spid="1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fill="hold">
                      <p:stCondLst>
                        <p:cond delay="indefinite"/>
                      </p:stCondLst>
                      <p:childTnLst>
                        <p:par>
                          <p:cTn id="4074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7" dur="500"/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0" dur="500"/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3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8" dur="500"/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3" dur="500"/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4" fill="hold">
                      <p:stCondLst>
                        <p:cond delay="indefinite"/>
                      </p:stCondLst>
                      <p:childTnLst>
                        <p:par>
                          <p:cTn id="4095" fill="hold">
                            <p:stCondLst>
                              <p:cond delay="0"/>
                            </p:stCondLst>
                            <p:childTnLst>
                              <p:par>
                                <p:cTn id="4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8" dur="500"/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1" dur="500"/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6" dur="500"/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1" dur="500"/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4" dur="500"/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7" dur="500"/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3" dur="500"/>
                                        <p:tgtEl>
                                          <p:spTgt spid="1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9F6-5B14-4F0A-B5F6-ED7E387577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5"/>
          <p:cNvSpPr/>
          <p:nvPr/>
        </p:nvSpPr>
        <p:spPr>
          <a:xfrm>
            <a:off x="401760" y="861840"/>
            <a:ext cx="8397720" cy="4974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ут вс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r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Прямоугольник 4"/>
          <p:cNvSpPr/>
          <p:nvPr/>
        </p:nvSpPr>
        <p:spPr>
          <a:xfrm>
            <a:off x="401400" y="2571840"/>
            <a:ext cx="328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reatePlat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4" dur="indefinite" restart="never" nodeType="tmRoot">
          <p:childTnLst>
            <p:seq>
              <p:cTn id="4125" dur="indefinite" nodeType="mainSeq">
                <p:childTnLst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0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вывести счёт игр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809A-1A7C-4AFC-A062-2F534D2A2FB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Прямоугольник 4"/>
          <p:cNvSpPr/>
          <p:nvPr/>
        </p:nvSpPr>
        <p:spPr>
          <a:xfrm>
            <a:off x="1168560" y="1104840"/>
            <a:ext cx="1866600" cy="23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6"/>
          <p:cNvSpPr/>
          <p:nvPr/>
        </p:nvSpPr>
        <p:spPr>
          <a:xfrm>
            <a:off x="1219320" y="302256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ёт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Скругленная прямоугольная выноска 7"/>
          <p:cNvSpPr/>
          <p:nvPr/>
        </p:nvSpPr>
        <p:spPr>
          <a:xfrm>
            <a:off x="695160" y="3652920"/>
            <a:ext cx="4829400" cy="496440"/>
          </a:xfrm>
          <a:prstGeom prst="wedgeRoundRectCallout">
            <a:avLst>
              <a:gd name="adj1" fmla="val -25078"/>
              <a:gd name="adj2" fmla="val -124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(элемент тип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Скругленная прямоугольная выноска 8"/>
          <p:cNvSpPr/>
          <p:nvPr/>
        </p:nvSpPr>
        <p:spPr>
          <a:xfrm>
            <a:off x="1978200" y="1569960"/>
            <a:ext cx="2301840" cy="891000"/>
          </a:xfrm>
          <a:prstGeom prst="wedgeRoundRectCallout">
            <a:avLst>
              <a:gd name="adj1" fmla="val -46717"/>
              <a:gd name="adj2" fmla="val 12104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ая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2"/>
          <p:cNvSpPr/>
          <p:nvPr/>
        </p:nvSpPr>
        <p:spPr>
          <a:xfrm>
            <a:off x="4876920" y="212076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начал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8" name="Group 55"/>
          <p:cNvGrpSpPr/>
          <p:nvPr/>
        </p:nvGrpSpPr>
        <p:grpSpPr>
          <a:xfrm>
            <a:off x="4424400" y="858960"/>
            <a:ext cx="4211640" cy="1147680"/>
            <a:chOff x="4424400" y="858960"/>
            <a:chExt cx="4211640" cy="1147680"/>
          </a:xfrm>
        </p:grpSpPr>
        <p:sp>
          <p:nvSpPr>
            <p:cNvPr id="1859" name="Text Box 56"/>
            <p:cNvSpPr/>
            <p:nvPr/>
          </p:nvSpPr>
          <p:spPr>
            <a:xfrm>
              <a:off x="4891320" y="927000"/>
              <a:ext cx="3744720" cy="10796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ак и когда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изменяется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cor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57"/>
            <p:cNvSpPr/>
            <p:nvPr/>
          </p:nvSpPr>
          <p:spPr>
            <a:xfrm>
              <a:off x="4424400" y="858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1" name="Rectangle 5"/>
          <p:cNvSpPr/>
          <p:nvPr/>
        </p:nvSpPr>
        <p:spPr>
          <a:xfrm>
            <a:off x="6523200" y="211932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"/>
          <p:cNvSpPr/>
          <p:nvPr/>
        </p:nvSpPr>
        <p:spPr>
          <a:xfrm>
            <a:off x="4876920" y="259092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 попадани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151600" y="3059280"/>
            <a:ext cx="201132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or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2"/>
          <p:cNvSpPr/>
          <p:nvPr/>
        </p:nvSpPr>
        <p:spPr>
          <a:xfrm>
            <a:off x="685800" y="4229280"/>
            <a:ext cx="37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оздание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5"/>
          <p:cNvSpPr/>
          <p:nvPr/>
        </p:nvSpPr>
        <p:spPr>
          <a:xfrm>
            <a:off x="1100160" y="4672080"/>
            <a:ext cx="76500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 =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abe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Счёт: 0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it-IT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bg=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white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2"/>
          <p:cNvSpPr/>
          <p:nvPr/>
        </p:nvSpPr>
        <p:spPr>
          <a:xfrm>
            <a:off x="685800" y="54230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зменение текста метки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5"/>
          <p:cNvSpPr/>
          <p:nvPr/>
        </p:nvSpPr>
        <p:spPr>
          <a:xfrm>
            <a:off x="1100160" y="5878440"/>
            <a:ext cx="6964200" cy="49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bl[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text"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= </a:t>
            </a:r>
            <a:r>
              <a:rPr b="1" lang="it-IT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Счёт: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it-IT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tr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Скругленная прямоугольная выноска 23"/>
          <p:cNvSpPr/>
          <p:nvPr/>
        </p:nvSpPr>
        <p:spPr>
          <a:xfrm>
            <a:off x="5257800" y="5265720"/>
            <a:ext cx="2705040" cy="496440"/>
          </a:xfrm>
          <a:prstGeom prst="wedgeRoundRectCallout">
            <a:avLst>
              <a:gd name="adj1" fmla="val -23759"/>
              <a:gd name="adj2" fmla="val 10789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Группа 26"/>
          <p:cNvGrpSpPr/>
          <p:nvPr/>
        </p:nvGrpSpPr>
        <p:grpSpPr>
          <a:xfrm>
            <a:off x="5168880" y="4021200"/>
            <a:ext cx="1625760" cy="1122480"/>
            <a:chOff x="5168880" y="4021200"/>
            <a:chExt cx="1625760" cy="1122480"/>
          </a:xfrm>
        </p:grpSpPr>
        <p:sp>
          <p:nvSpPr>
            <p:cNvPr id="1870" name="Скругленный прямоугольник 25"/>
            <p:cNvSpPr/>
            <p:nvPr/>
          </p:nvSpPr>
          <p:spPr>
            <a:xfrm>
              <a:off x="5168880" y="4661280"/>
              <a:ext cx="1155960" cy="48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Скругленная прямоугольная выноска 24"/>
            <p:cNvSpPr/>
            <p:nvPr/>
          </p:nvSpPr>
          <p:spPr>
            <a:xfrm>
              <a:off x="5880240" y="4021200"/>
              <a:ext cx="914400" cy="496440"/>
            </a:xfrm>
            <a:prstGeom prst="wedgeRoundRectCallout">
              <a:avLst>
                <a:gd name="adj1" fmla="val -57671"/>
                <a:gd name="adj2" fmla="val 102750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,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Скругленная прямоугольная выноска 28"/>
          <p:cNvSpPr/>
          <p:nvPr/>
        </p:nvSpPr>
        <p:spPr>
          <a:xfrm>
            <a:off x="7086600" y="4021200"/>
            <a:ext cx="1054080" cy="496440"/>
          </a:xfrm>
          <a:prstGeom prst="wedgeRoundRectCallout">
            <a:avLst>
              <a:gd name="adj1" fmla="val -57643"/>
              <a:gd name="adj2" fmla="val 102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8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9" fill="hold">
                      <p:stCondLst>
                        <p:cond delay="indefinite"/>
                      </p:stCondLst>
                      <p:childTnLst>
                        <p:par>
                          <p:cTn id="4160" fill="hold">
                            <p:stCondLst>
                              <p:cond delay="0"/>
                            </p:stCondLst>
                            <p:childTnLst>
                              <p:par>
                                <p:cTn id="4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500"/>
                            </p:stCondLst>
                            <p:childTnLst>
                              <p:par>
                                <p:cTn id="4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5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2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A6D-8164-4A20-8562-6C08D51126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Text Box 2"/>
          <p:cNvSpPr/>
          <p:nvPr/>
        </p:nvSpPr>
        <p:spPr>
          <a:xfrm>
            <a:off x="369720" y="844560"/>
            <a:ext cx="840924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Увеличить скорость сна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задание на «3» для случая стрельбы слева направо (тарелки летят сверху вниз). Дорисовать танк, из дула которого вылетает сн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Группа 25"/>
          <p:cNvGrpSpPr/>
          <p:nvPr/>
        </p:nvGrpSpPr>
        <p:grpSpPr>
          <a:xfrm>
            <a:off x="1622520" y="4421160"/>
            <a:ext cx="2095560" cy="642960"/>
            <a:chOff x="1622520" y="4421160"/>
            <a:chExt cx="2095560" cy="642960"/>
          </a:xfrm>
        </p:grpSpPr>
        <p:grpSp>
          <p:nvGrpSpPr>
            <p:cNvPr id="1877" name="Группа 22"/>
            <p:cNvGrpSpPr/>
            <p:nvPr/>
          </p:nvGrpSpPr>
          <p:grpSpPr>
            <a:xfrm>
              <a:off x="1622520" y="4421160"/>
              <a:ext cx="1476360" cy="642960"/>
              <a:chOff x="1622520" y="4421160"/>
              <a:chExt cx="1476360" cy="642960"/>
            </a:xfrm>
          </p:grpSpPr>
          <p:sp>
            <p:nvSpPr>
              <p:cNvPr id="1878" name="Прямоугольник 9"/>
              <p:cNvSpPr/>
              <p:nvPr/>
            </p:nvSpPr>
            <p:spPr>
              <a:xfrm flipV="1" rot="16200000">
                <a:off x="1943640" y="410004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Прямоугольник 10"/>
              <p:cNvSpPr/>
              <p:nvPr/>
            </p:nvSpPr>
            <p:spPr>
              <a:xfrm flipV="1" rot="16200000">
                <a:off x="2637720" y="432720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Овал 11"/>
              <p:cNvSpPr/>
              <p:nvPr/>
            </p:nvSpPr>
            <p:spPr>
              <a:xfrm flipV="1" rot="16200000">
                <a:off x="1942920" y="442116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Штриховая стрелка вправо 23"/>
            <p:cNvSpPr/>
            <p:nvPr/>
          </p:nvSpPr>
          <p:spPr>
            <a:xfrm>
              <a:off x="3364560" y="461160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Овал 24"/>
            <p:cNvSpPr/>
            <p:nvPr/>
          </p:nvSpPr>
          <p:spPr>
            <a:xfrm>
              <a:off x="3128040" y="466416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Овал 13"/>
          <p:cNvSpPr/>
          <p:nvPr/>
        </p:nvSpPr>
        <p:spPr>
          <a:xfrm>
            <a:off x="5473800" y="402588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Овал 14"/>
          <p:cNvSpPr/>
          <p:nvPr/>
        </p:nvSpPr>
        <p:spPr>
          <a:xfrm>
            <a:off x="5359320" y="4673520"/>
            <a:ext cx="571680" cy="5716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Овал 15"/>
          <p:cNvSpPr/>
          <p:nvPr/>
        </p:nvSpPr>
        <p:spPr>
          <a:xfrm>
            <a:off x="5473800" y="5359320"/>
            <a:ext cx="342720" cy="343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Прямоугольник 16"/>
          <p:cNvSpPr/>
          <p:nvPr/>
        </p:nvSpPr>
        <p:spPr>
          <a:xfrm>
            <a:off x="1612440" y="53784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Штриховая стрелка вправо 18"/>
          <p:cNvSpPr/>
          <p:nvPr/>
        </p:nvSpPr>
        <p:spPr>
          <a:xfrm rot="5400000">
            <a:off x="5466960" y="5934240"/>
            <a:ext cx="353880" cy="23004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040"/>
              <a:gd name="textAreaBottom" fmla="*/ 172440 h 23004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9B12-0A0C-446B-AC79-CBCA0E1DA5E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2"/>
          <p:cNvSpPr/>
          <p:nvPr/>
        </p:nvSpPr>
        <p:spPr>
          <a:xfrm>
            <a:off x="369720" y="844560"/>
            <a:ext cx="8409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ь задание на «4»: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Группа 25"/>
          <p:cNvGrpSpPr/>
          <p:nvPr/>
        </p:nvGrpSpPr>
        <p:grpSpPr>
          <a:xfrm>
            <a:off x="1952640" y="2516040"/>
            <a:ext cx="2095560" cy="642960"/>
            <a:chOff x="1952640" y="2516040"/>
            <a:chExt cx="2095560" cy="642960"/>
          </a:xfrm>
        </p:grpSpPr>
        <p:grpSp>
          <p:nvGrpSpPr>
            <p:cNvPr id="1892" name="Группа 22"/>
            <p:cNvGrpSpPr/>
            <p:nvPr/>
          </p:nvGrpSpPr>
          <p:grpSpPr>
            <a:xfrm>
              <a:off x="1952640" y="2516040"/>
              <a:ext cx="1476360" cy="642960"/>
              <a:chOff x="1952640" y="2516040"/>
              <a:chExt cx="1476360" cy="642960"/>
            </a:xfrm>
          </p:grpSpPr>
          <p:sp>
            <p:nvSpPr>
              <p:cNvPr id="1893" name="Прямоугольник 9"/>
              <p:cNvSpPr/>
              <p:nvPr/>
            </p:nvSpPr>
            <p:spPr>
              <a:xfrm flipV="1" rot="16200000">
                <a:off x="2273760" y="2194920"/>
                <a:ext cx="642960" cy="12852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Прямоугольник 10"/>
              <p:cNvSpPr/>
              <p:nvPr/>
            </p:nvSpPr>
            <p:spPr>
              <a:xfrm flipV="1" rot="16200000">
                <a:off x="2967840" y="2422080"/>
                <a:ext cx="103680" cy="81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Овал 11"/>
              <p:cNvSpPr/>
              <p:nvPr/>
            </p:nvSpPr>
            <p:spPr>
              <a:xfrm flipV="1" rot="16200000">
                <a:off x="2273040" y="2516040"/>
                <a:ext cx="642960" cy="64260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6" name="Штриховая стрелка вправо 21"/>
            <p:cNvSpPr/>
            <p:nvPr/>
          </p:nvSpPr>
          <p:spPr>
            <a:xfrm>
              <a:off x="3694680" y="2706480"/>
              <a:ext cx="353520" cy="230040"/>
            </a:xfrm>
            <a:custGeom>
              <a:avLst/>
              <a:gdLst>
                <a:gd name="textAreaLeft" fmla="*/ 35640 w 353520"/>
                <a:gd name="textAreaRight" fmla="*/ 296280 w 353520"/>
                <a:gd name="textAreaTop" fmla="*/ 5760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7" h="230134">
                  <a:moveTo>
                    <a:pt x="0" y="57534"/>
                  </a:moveTo>
                  <a:lnTo>
                    <a:pt x="7192" y="57534"/>
                  </a:lnTo>
                  <a:lnTo>
                    <a:pt x="7192" y="172601"/>
                  </a:lnTo>
                  <a:lnTo>
                    <a:pt x="0" y="172601"/>
                  </a:lnTo>
                  <a:close/>
                  <a:moveTo>
                    <a:pt x="14383" y="57534"/>
                  </a:moveTo>
                  <a:lnTo>
                    <a:pt x="28767" y="57534"/>
                  </a:lnTo>
                  <a:lnTo>
                    <a:pt x="28767" y="172601"/>
                  </a:lnTo>
                  <a:lnTo>
                    <a:pt x="14383" y="172601"/>
                  </a:lnTo>
                  <a:close/>
                  <a:moveTo>
                    <a:pt x="35958" y="57534"/>
                  </a:moveTo>
                  <a:lnTo>
                    <a:pt x="238890" y="57534"/>
                  </a:lnTo>
                  <a:lnTo>
                    <a:pt x="238890" y="0"/>
                  </a:lnTo>
                  <a:lnTo>
                    <a:pt x="353957" y="115067"/>
                  </a:lnTo>
                  <a:lnTo>
                    <a:pt x="238890" y="230134"/>
                  </a:lnTo>
                  <a:lnTo>
                    <a:pt x="238890" y="172601"/>
                  </a:lnTo>
                  <a:lnTo>
                    <a:pt x="35958" y="17260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Овал 24"/>
            <p:cNvSpPr/>
            <p:nvPr/>
          </p:nvSpPr>
          <p:spPr>
            <a:xfrm>
              <a:off x="3458160" y="2759040"/>
              <a:ext cx="1267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8" name="Овал 27"/>
          <p:cNvSpPr/>
          <p:nvPr/>
        </p:nvSpPr>
        <p:spPr>
          <a:xfrm>
            <a:off x="5803920" y="2120760"/>
            <a:ext cx="342720" cy="343080"/>
          </a:xfrm>
          <a:prstGeom prst="ellipse">
            <a:avLst/>
          </a:prstGeom>
          <a:solidFill>
            <a:srgbClr val="88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Овал 28"/>
          <p:cNvSpPr/>
          <p:nvPr/>
        </p:nvSpPr>
        <p:spPr>
          <a:xfrm>
            <a:off x="5689440" y="2768760"/>
            <a:ext cx="571680" cy="57132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Овал 29"/>
          <p:cNvSpPr/>
          <p:nvPr/>
        </p:nvSpPr>
        <p:spPr>
          <a:xfrm>
            <a:off x="5803920" y="3454560"/>
            <a:ext cx="342720" cy="342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1942560" y="347328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Штриховая стрелка вправо 31"/>
          <p:cNvSpPr/>
          <p:nvPr/>
        </p:nvSpPr>
        <p:spPr>
          <a:xfrm rot="5400000">
            <a:off x="5797440" y="4028760"/>
            <a:ext cx="353880" cy="230400"/>
          </a:xfrm>
          <a:custGeom>
            <a:avLst/>
            <a:gdLst>
              <a:gd name="textAreaLeft" fmla="*/ 35640 w 353880"/>
              <a:gd name="textAreaRight" fmla="*/ 296640 w 353880"/>
              <a:gd name="textAreaTop" fmla="*/ 57600 h 230400"/>
              <a:gd name="textAreaBottom" fmla="*/ 172800 h 230400"/>
            </a:gdLst>
            <a:ahLst/>
            <a:rect l="textAreaLeft" t="textAreaTop" r="textAreaRight" b="textAreaBottom"/>
            <a:pathLst>
              <a:path w="354012" h="230187">
                <a:moveTo>
                  <a:pt x="0" y="57547"/>
                </a:moveTo>
                <a:lnTo>
                  <a:pt x="7193" y="57547"/>
                </a:lnTo>
                <a:lnTo>
                  <a:pt x="7193" y="172640"/>
                </a:lnTo>
                <a:lnTo>
                  <a:pt x="0" y="172640"/>
                </a:lnTo>
                <a:close/>
                <a:moveTo>
                  <a:pt x="14387" y="57547"/>
                </a:moveTo>
                <a:lnTo>
                  <a:pt x="28773" y="57547"/>
                </a:lnTo>
                <a:lnTo>
                  <a:pt x="28773" y="172640"/>
                </a:lnTo>
                <a:lnTo>
                  <a:pt x="14387" y="172640"/>
                </a:lnTo>
                <a:close/>
                <a:moveTo>
                  <a:pt x="35967" y="57547"/>
                </a:moveTo>
                <a:lnTo>
                  <a:pt x="238919" y="57547"/>
                </a:lnTo>
                <a:lnTo>
                  <a:pt x="238919" y="0"/>
                </a:lnTo>
                <a:lnTo>
                  <a:pt x="354012" y="115094"/>
                </a:lnTo>
                <a:lnTo>
                  <a:pt x="238919" y="230187"/>
                </a:lnTo>
                <a:lnTo>
                  <a:pt x="238919" y="172640"/>
                </a:lnTo>
                <a:lnTo>
                  <a:pt x="35967" y="1726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10DE-0B9B-455E-A711-B6406CA825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"/>
          <p:cNvSpPr/>
          <p:nvPr/>
        </p:nvSpPr>
        <p:spPr>
          <a:xfrm>
            <a:off x="369720" y="844560"/>
            <a:ext cx="84092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вращающейся пушкой. Снаряд вылетает из ствола в том же направлении. За попадание в более мелкую тарелку игрок получает больше бал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6" name="Группа 25"/>
          <p:cNvGrpSpPr/>
          <p:nvPr/>
        </p:nvGrpSpPr>
        <p:grpSpPr>
          <a:xfrm>
            <a:off x="4536720" y="3951360"/>
            <a:ext cx="854280" cy="1903680"/>
            <a:chOff x="4536720" y="3951360"/>
            <a:chExt cx="854280" cy="1903680"/>
          </a:xfrm>
        </p:grpSpPr>
        <p:grpSp>
          <p:nvGrpSpPr>
            <p:cNvPr id="1907" name="Группа 22"/>
            <p:cNvGrpSpPr/>
            <p:nvPr/>
          </p:nvGrpSpPr>
          <p:grpSpPr>
            <a:xfrm>
              <a:off x="4748040" y="4455720"/>
              <a:ext cx="642960" cy="1399320"/>
              <a:chOff x="4748040" y="4455720"/>
              <a:chExt cx="642960" cy="1399320"/>
            </a:xfrm>
          </p:grpSpPr>
          <p:sp>
            <p:nvSpPr>
              <p:cNvPr id="1908" name="Прямоугольник 9"/>
              <p:cNvSpPr/>
              <p:nvPr/>
            </p:nvSpPr>
            <p:spPr>
              <a:xfrm flipV="1" rot="10800000">
                <a:off x="4748040" y="4568400"/>
                <a:ext cx="642960" cy="12862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Прямоугольник 10"/>
              <p:cNvSpPr/>
              <p:nvPr/>
            </p:nvSpPr>
            <p:spPr>
              <a:xfrm flipV="1" rot="9696600">
                <a:off x="4898880" y="4450680"/>
                <a:ext cx="103680" cy="81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Овал 11"/>
              <p:cNvSpPr/>
              <p:nvPr/>
            </p:nvSpPr>
            <p:spPr>
              <a:xfrm flipV="1" rot="10800000">
                <a:off x="4748040" y="4890240"/>
                <a:ext cx="642960" cy="642960"/>
              </a:xfrm>
              <a:prstGeom prst="ellipse">
                <a:avLst/>
              </a:prstGeom>
              <a:solidFill>
                <a:srgbClr val="88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Штриховая стрелка вправо 21"/>
            <p:cNvSpPr/>
            <p:nvPr/>
          </p:nvSpPr>
          <p:spPr>
            <a:xfrm rot="15019200">
              <a:off x="4527360" y="4041720"/>
              <a:ext cx="353880" cy="230040"/>
            </a:xfrm>
            <a:custGeom>
              <a:avLst/>
              <a:gdLst>
                <a:gd name="textAreaLeft" fmla="*/ 35640 w 353880"/>
                <a:gd name="textAreaRight" fmla="*/ 296640 w 353880"/>
                <a:gd name="textAreaTop" fmla="*/ 57240 h 230040"/>
                <a:gd name="textAreaBottom" fmla="*/ 172800 h 230040"/>
              </a:gdLst>
              <a:ahLst/>
              <a:rect l="textAreaLeft" t="textAreaTop" r="textAreaRight" b="textAreaBottom"/>
              <a:pathLst>
                <a:path w="353956" h="230133">
                  <a:moveTo>
                    <a:pt x="0" y="57533"/>
                  </a:moveTo>
                  <a:lnTo>
                    <a:pt x="7192" y="57533"/>
                  </a:lnTo>
                  <a:lnTo>
                    <a:pt x="7192" y="172600"/>
                  </a:lnTo>
                  <a:lnTo>
                    <a:pt x="0" y="172600"/>
                  </a:lnTo>
                  <a:close/>
                  <a:moveTo>
                    <a:pt x="14383" y="57533"/>
                  </a:moveTo>
                  <a:lnTo>
                    <a:pt x="28767" y="57533"/>
                  </a:lnTo>
                  <a:lnTo>
                    <a:pt x="28767" y="172600"/>
                  </a:lnTo>
                  <a:lnTo>
                    <a:pt x="14383" y="172600"/>
                  </a:lnTo>
                  <a:close/>
                  <a:moveTo>
                    <a:pt x="35958" y="57533"/>
                  </a:moveTo>
                  <a:lnTo>
                    <a:pt x="238890" y="57533"/>
                  </a:lnTo>
                  <a:lnTo>
                    <a:pt x="238890" y="0"/>
                  </a:lnTo>
                  <a:lnTo>
                    <a:pt x="353956" y="115067"/>
                  </a:lnTo>
                  <a:lnTo>
                    <a:pt x="238890" y="230133"/>
                  </a:lnTo>
                  <a:lnTo>
                    <a:pt x="238890" y="172600"/>
                  </a:lnTo>
                  <a:lnTo>
                    <a:pt x="35958" y="172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Овал 24"/>
            <p:cNvSpPr/>
            <p:nvPr/>
          </p:nvSpPr>
          <p:spPr>
            <a:xfrm rot="16200000">
              <a:off x="4743360" y="4354560"/>
              <a:ext cx="12672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Прямоугольник 30"/>
          <p:cNvSpPr/>
          <p:nvPr/>
        </p:nvSpPr>
        <p:spPr>
          <a:xfrm>
            <a:off x="2666520" y="469260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ёт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Группа 16"/>
          <p:cNvGrpSpPr/>
          <p:nvPr/>
        </p:nvGrpSpPr>
        <p:grpSpPr>
          <a:xfrm>
            <a:off x="3770280" y="2833560"/>
            <a:ext cx="2200320" cy="571680"/>
            <a:chOff x="3770280" y="2833560"/>
            <a:chExt cx="2200320" cy="571680"/>
          </a:xfrm>
        </p:grpSpPr>
        <p:sp>
          <p:nvSpPr>
            <p:cNvPr id="1915" name="Овал 27"/>
            <p:cNvSpPr/>
            <p:nvPr/>
          </p:nvSpPr>
          <p:spPr>
            <a:xfrm rot="5400000">
              <a:off x="5628600" y="2948760"/>
              <a:ext cx="343080" cy="3405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Овал 28"/>
            <p:cNvSpPr/>
            <p:nvPr/>
          </p:nvSpPr>
          <p:spPr>
            <a:xfrm rot="5400000">
              <a:off x="4757040" y="2835360"/>
              <a:ext cx="571680" cy="568080"/>
            </a:xfrm>
            <a:prstGeom prst="ellipse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Овал 29"/>
            <p:cNvSpPr/>
            <p:nvPr/>
          </p:nvSpPr>
          <p:spPr>
            <a:xfrm rot="5400000">
              <a:off x="4303080" y="2948760"/>
              <a:ext cx="343080" cy="340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Штриховая стрелка вправо 31"/>
            <p:cNvSpPr/>
            <p:nvPr/>
          </p:nvSpPr>
          <p:spPr>
            <a:xfrm rot="10800000">
              <a:off x="3770280" y="3003480"/>
              <a:ext cx="351720" cy="230400"/>
            </a:xfrm>
            <a:custGeom>
              <a:avLst/>
              <a:gdLst>
                <a:gd name="textAreaLeft" fmla="*/ 35640 w 351720"/>
                <a:gd name="textAreaRight" fmla="*/ 294480 w 351720"/>
                <a:gd name="textAreaTop" fmla="*/ 57600 h 230400"/>
                <a:gd name="textAreaBottom" fmla="*/ 172800 h 230400"/>
              </a:gdLst>
              <a:ahLst/>
              <a:rect l="textAreaLeft" t="textAreaTop" r="textAreaRight" b="textAreaBottom"/>
              <a:pathLst>
                <a:path w="353886" h="230188">
                  <a:moveTo>
                    <a:pt x="0" y="57547"/>
                  </a:moveTo>
                  <a:lnTo>
                    <a:pt x="7193" y="57547"/>
                  </a:lnTo>
                  <a:lnTo>
                    <a:pt x="7193" y="172641"/>
                  </a:lnTo>
                  <a:lnTo>
                    <a:pt x="0" y="172641"/>
                  </a:lnTo>
                  <a:close/>
                  <a:moveTo>
                    <a:pt x="14387" y="57547"/>
                  </a:moveTo>
                  <a:lnTo>
                    <a:pt x="28774" y="57547"/>
                  </a:lnTo>
                  <a:lnTo>
                    <a:pt x="28774" y="172641"/>
                  </a:lnTo>
                  <a:lnTo>
                    <a:pt x="14387" y="172641"/>
                  </a:lnTo>
                  <a:close/>
                  <a:moveTo>
                    <a:pt x="35967" y="57547"/>
                  </a:moveTo>
                  <a:lnTo>
                    <a:pt x="238792" y="57547"/>
                  </a:lnTo>
                  <a:lnTo>
                    <a:pt x="238792" y="0"/>
                  </a:lnTo>
                  <a:lnTo>
                    <a:pt x="353886" y="115094"/>
                  </a:lnTo>
                  <a:lnTo>
                    <a:pt x="238792" y="230188"/>
                  </a:lnTo>
                  <a:lnTo>
                    <a:pt x="238792" y="172641"/>
                  </a:lnTo>
                  <a:lnTo>
                    <a:pt x="35967" y="1726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B6C5-FDA1-492D-B373-C6F10EFB95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рямоугольник 4"/>
          <p:cNvSpPr/>
          <p:nvPr/>
        </p:nvSpPr>
        <p:spPr>
          <a:xfrm>
            <a:off x="162000" y="248760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F06-47C4-4FFD-B9EA-4A5F485CE9A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369720" y="836640"/>
            <a:ext cx="8420400" cy="47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Особенность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похожие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:    размеры, угол повор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143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ия: координаты, ц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CDA9-2E5E-4763-A4EE-0EB2751EAA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"/>
          <p:cNvGrpSpPr/>
          <p:nvPr/>
        </p:nvGrpSpPr>
        <p:grpSpPr>
          <a:xfrm>
            <a:off x="722160" y="3395520"/>
            <a:ext cx="6889680" cy="663480"/>
            <a:chOff x="722160" y="3395520"/>
            <a:chExt cx="6889680" cy="663480"/>
          </a:xfrm>
        </p:grpSpPr>
        <p:sp>
          <p:nvSpPr>
            <p:cNvPr id="365" name="Text Box 7"/>
            <p:cNvSpPr/>
            <p:nvPr/>
          </p:nvSpPr>
          <p:spPr>
            <a:xfrm>
              <a:off x="1189080" y="3502080"/>
              <a:ext cx="642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решить известными методами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8"/>
            <p:cNvSpPr/>
            <p:nvPr/>
          </p:nvSpPr>
          <p:spPr>
            <a:xfrm>
              <a:off x="722160" y="3395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2"/>
          <p:cNvGrpSpPr/>
          <p:nvPr/>
        </p:nvGrpSpPr>
        <p:grpSpPr>
          <a:xfrm>
            <a:off x="1995480" y="1509840"/>
            <a:ext cx="2817360" cy="1780560"/>
            <a:chOff x="1995480" y="1509840"/>
            <a:chExt cx="2817360" cy="1780560"/>
          </a:xfrm>
        </p:grpSpPr>
        <p:sp>
          <p:nvSpPr>
            <p:cNvPr id="368" name="AutoShape 9"/>
            <p:cNvSpPr/>
            <p:nvPr/>
          </p:nvSpPr>
          <p:spPr>
            <a:xfrm>
              <a:off x="1995480" y="1509840"/>
              <a:ext cx="140940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0"/>
            <p:cNvSpPr/>
            <p:nvPr/>
          </p:nvSpPr>
          <p:spPr>
            <a:xfrm>
              <a:off x="3402720" y="1509840"/>
              <a:ext cx="1410120" cy="89064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"/>
            <p:cNvSpPr/>
            <p:nvPr/>
          </p:nvSpPr>
          <p:spPr>
            <a:xfrm>
              <a:off x="3388680" y="2399400"/>
              <a:ext cx="1410120" cy="89100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703440" y="5688000"/>
            <a:ext cx="5851440" cy="663480"/>
            <a:chOff x="703440" y="5688000"/>
            <a:chExt cx="5851440" cy="663480"/>
          </a:xfrm>
        </p:grpSpPr>
        <p:sp>
          <p:nvSpPr>
            <p:cNvPr id="372" name="Text Box 14"/>
            <p:cNvSpPr/>
            <p:nvPr/>
          </p:nvSpPr>
          <p:spPr>
            <a:xfrm>
              <a:off x="1170360" y="5794560"/>
              <a:ext cx="5384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колько координат надо задат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"/>
            <p:cNvSpPr/>
            <p:nvPr/>
          </p:nvSpPr>
          <p:spPr>
            <a:xfrm>
              <a:off x="703440" y="5688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ы (подпрограм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4A1-F94C-48ED-8D93-80A6B396AD5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69720" y="812880"/>
            <a:ext cx="842040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цедура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ый алгоритм, который предназначен для выполнения некотор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именение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одинаковых действий в разных местах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ка программы (или другой процедуры) на подзадачи для лучшего воспри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1254240" y="3706920"/>
            <a:ext cx="7126200" cy="2517840"/>
            <a:chOff x="1254240" y="3706920"/>
            <a:chExt cx="7126200" cy="2517840"/>
          </a:xfrm>
        </p:grpSpPr>
        <p:sp>
          <p:nvSpPr>
            <p:cNvPr id="378" name="Rectangle 7"/>
            <p:cNvSpPr/>
            <p:nvPr/>
          </p:nvSpPr>
          <p:spPr>
            <a:xfrm>
              <a:off x="146988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384660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6367320" y="4641840"/>
              <a:ext cx="172728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дзадача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125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204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283860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3702240" y="5649840"/>
              <a:ext cx="64584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49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5286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614988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6942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7734240" y="5649840"/>
              <a:ext cx="646200" cy="57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9"/>
            <p:cNvSpPr/>
            <p:nvPr/>
          </p:nvSpPr>
          <p:spPr>
            <a:xfrm flipH="1">
              <a:off x="3198600" y="4283280"/>
              <a:ext cx="143964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0"/>
            <p:cNvSpPr/>
            <p:nvPr/>
          </p:nvSpPr>
          <p:spPr>
            <a:xfrm>
              <a:off x="4925880" y="4283280"/>
              <a:ext cx="144000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3917880" y="3706920"/>
              <a:ext cx="158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2"/>
            <p:cNvSpPr/>
            <p:nvPr/>
          </p:nvSpPr>
          <p:spPr>
            <a:xfrm>
              <a:off x="4784760" y="4283280"/>
              <a:ext cx="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3"/>
            <p:cNvSpPr/>
            <p:nvPr/>
          </p:nvSpPr>
          <p:spPr>
            <a:xfrm>
              <a:off x="2333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4"/>
            <p:cNvSpPr/>
            <p:nvPr/>
          </p:nvSpPr>
          <p:spPr>
            <a:xfrm flipH="1">
              <a:off x="1614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5"/>
            <p:cNvSpPr/>
            <p:nvPr/>
          </p:nvSpPr>
          <p:spPr>
            <a:xfrm>
              <a:off x="2693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6"/>
            <p:cNvSpPr/>
            <p:nvPr/>
          </p:nvSpPr>
          <p:spPr>
            <a:xfrm>
              <a:off x="478152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7"/>
            <p:cNvSpPr/>
            <p:nvPr/>
          </p:nvSpPr>
          <p:spPr>
            <a:xfrm flipH="1">
              <a:off x="406224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8"/>
            <p:cNvSpPr/>
            <p:nvPr/>
          </p:nvSpPr>
          <p:spPr>
            <a:xfrm>
              <a:off x="51418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9"/>
            <p:cNvSpPr/>
            <p:nvPr/>
          </p:nvSpPr>
          <p:spPr>
            <a:xfrm>
              <a:off x="7230960" y="5218200"/>
              <a:ext cx="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0"/>
            <p:cNvSpPr/>
            <p:nvPr/>
          </p:nvSpPr>
          <p:spPr>
            <a:xfrm flipH="1">
              <a:off x="651168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>
              <a:off x="7591320" y="5218200"/>
              <a:ext cx="3603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построить процедур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909-339F-40B1-81C7-E7DB1ACB08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60360" y="809640"/>
            <a:ext cx="842004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делить одинаковые или похожие действ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три фиг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 в них общее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меры, форма, угол поворо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и отличия 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ординаты, цв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2635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личия обозначить как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еремен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они будут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параметр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цеду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28"/>
          <p:cNvGrpSpPr/>
          <p:nvPr/>
        </p:nvGrpSpPr>
        <p:grpSpPr>
          <a:xfrm>
            <a:off x="946080" y="5018040"/>
            <a:ext cx="2075040" cy="1369440"/>
            <a:chOff x="946080" y="5018040"/>
            <a:chExt cx="2075040" cy="1369440"/>
          </a:xfrm>
        </p:grpSpPr>
        <p:sp>
          <p:nvSpPr>
            <p:cNvPr id="407" name="AutoShape 7"/>
            <p:cNvSpPr/>
            <p:nvPr/>
          </p:nvSpPr>
          <p:spPr>
            <a:xfrm>
              <a:off x="1611360" y="5018040"/>
              <a:ext cx="1409760" cy="89064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1559160" y="587232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935360" y="592776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946080" y="517356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4"/>
          <p:cNvSpPr/>
          <p:nvPr/>
        </p:nvSpPr>
        <p:spPr>
          <a:xfrm>
            <a:off x="3030480" y="580248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181160" y="45417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31960" y="5964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4357800" y="4654440"/>
            <a:ext cx="444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арамет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– цвет зали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6"/>
          <p:cNvGrpSpPr/>
          <p:nvPr/>
        </p:nvGrpSpPr>
        <p:grpSpPr>
          <a:xfrm>
            <a:off x="1066680" y="3430440"/>
            <a:ext cx="6889680" cy="932040"/>
            <a:chOff x="1066680" y="3430440"/>
            <a:chExt cx="6889680" cy="932040"/>
          </a:xfrm>
        </p:grpSpPr>
        <p:sp>
          <p:nvSpPr>
            <p:cNvPr id="416" name="Text Box 7"/>
            <p:cNvSpPr/>
            <p:nvPr/>
          </p:nvSpPr>
          <p:spPr>
            <a:xfrm>
              <a:off x="1533600" y="3537000"/>
              <a:ext cx="6422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– это данные, от которых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зависит работа процедур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1066680" y="3430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9338-525E-4D8D-BF36-F96FBA0B67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8"/>
          <p:cNvGrpSpPr/>
          <p:nvPr/>
        </p:nvGrpSpPr>
        <p:grpSpPr>
          <a:xfrm>
            <a:off x="3344760" y="1347840"/>
            <a:ext cx="2075040" cy="1369080"/>
            <a:chOff x="3344760" y="1347840"/>
            <a:chExt cx="2075040" cy="1369080"/>
          </a:xfrm>
        </p:grpSpPr>
        <p:sp>
          <p:nvSpPr>
            <p:cNvPr id="421" name="AutoShape 7"/>
            <p:cNvSpPr/>
            <p:nvPr/>
          </p:nvSpPr>
          <p:spPr>
            <a:xfrm>
              <a:off x="4010040" y="1347840"/>
              <a:ext cx="1409760" cy="8902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3957840" y="2201760"/>
              <a:ext cx="8856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4334040" y="2257200"/>
              <a:ext cx="9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3344760" y="150300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14"/>
          <p:cNvSpPr/>
          <p:nvPr/>
        </p:nvSpPr>
        <p:spPr>
          <a:xfrm>
            <a:off x="5429160" y="21337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0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3579840" y="87156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230640" y="22939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2"/>
          <p:cNvSpPr/>
          <p:nvPr/>
        </p:nvSpPr>
        <p:spPr>
          <a:xfrm>
            <a:off x="1627200" y="3691080"/>
            <a:ext cx="6934320" cy="2067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[(x,y), (x,y-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y), (x,y)]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8"/>
          <p:cNvSpPr/>
          <p:nvPr/>
        </p:nvSpPr>
        <p:spPr>
          <a:xfrm>
            <a:off x="406440" y="2603520"/>
            <a:ext cx="2146320" cy="863640"/>
          </a:xfrm>
          <a:prstGeom prst="wedgeRoundRectCallout">
            <a:avLst>
              <a:gd name="adj1" fmla="val 24375"/>
              <a:gd name="adj2" fmla="val 98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8"/>
          <p:cNvSpPr/>
          <p:nvPr/>
        </p:nvSpPr>
        <p:spPr>
          <a:xfrm>
            <a:off x="2746440" y="3016080"/>
            <a:ext cx="1647720" cy="511200"/>
          </a:xfrm>
          <a:prstGeom prst="wedgeRoundRectCallout">
            <a:avLst>
              <a:gd name="adj1" fmla="val -47379"/>
              <a:gd name="adj2" fmla="val 1156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Группа 17"/>
          <p:cNvGrpSpPr/>
          <p:nvPr/>
        </p:nvGrpSpPr>
        <p:grpSpPr>
          <a:xfrm>
            <a:off x="3753000" y="3016080"/>
            <a:ext cx="3395520" cy="1163880"/>
            <a:chOff x="3753000" y="3016080"/>
            <a:chExt cx="3395520" cy="1163880"/>
          </a:xfrm>
        </p:grpSpPr>
        <p:sp>
          <p:nvSpPr>
            <p:cNvPr id="432" name="Скругленный прямоугольник 16"/>
            <p:cNvSpPr/>
            <p:nvPr/>
          </p:nvSpPr>
          <p:spPr>
            <a:xfrm>
              <a:off x="3753000" y="3681360"/>
              <a:ext cx="169776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8"/>
            <p:cNvSpPr/>
            <p:nvPr/>
          </p:nvSpPr>
          <p:spPr>
            <a:xfrm>
              <a:off x="5097600" y="3016080"/>
              <a:ext cx="2050920" cy="509760"/>
            </a:xfrm>
            <a:prstGeom prst="wedgeRoundRectCallout">
              <a:avLst>
                <a:gd name="adj1" fmla="val -51430"/>
                <a:gd name="adj2" fmla="val 8772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Группа 19"/>
          <p:cNvGrpSpPr/>
          <p:nvPr/>
        </p:nvGrpSpPr>
        <p:grpSpPr>
          <a:xfrm>
            <a:off x="192240" y="4121280"/>
            <a:ext cx="1884240" cy="1638000"/>
            <a:chOff x="192240" y="4121280"/>
            <a:chExt cx="1884240" cy="1638000"/>
          </a:xfrm>
        </p:grpSpPr>
        <p:sp>
          <p:nvSpPr>
            <p:cNvPr id="435" name="Прямоугольник 12"/>
            <p:cNvSpPr/>
            <p:nvPr/>
          </p:nvSpPr>
          <p:spPr>
            <a:xfrm>
              <a:off x="1638720" y="4121280"/>
              <a:ext cx="437760" cy="163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8"/>
            <p:cNvSpPr/>
            <p:nvPr/>
          </p:nvSpPr>
          <p:spPr>
            <a:xfrm>
              <a:off x="192240" y="4405320"/>
              <a:ext cx="1351080" cy="510840"/>
            </a:xfrm>
            <a:prstGeom prst="wedgeRoundRectCallout">
              <a:avLst>
                <a:gd name="adj1" fmla="val 68652"/>
                <a:gd name="adj2" fmla="val 13659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тсту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а с процедур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D1C7-7ED2-4640-A6F7-DB4DC19E821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3"/>
          <p:cNvGrpSpPr/>
          <p:nvPr/>
        </p:nvGrpSpPr>
        <p:grpSpPr>
          <a:xfrm>
            <a:off x="220680" y="1022400"/>
            <a:ext cx="2579400" cy="1833840"/>
            <a:chOff x="220680" y="1022400"/>
            <a:chExt cx="2579400" cy="1833840"/>
          </a:xfrm>
        </p:grpSpPr>
        <p:grpSp>
          <p:nvGrpSpPr>
            <p:cNvPr id="440" name="Group 7"/>
            <p:cNvGrpSpPr/>
            <p:nvPr/>
          </p:nvGrpSpPr>
          <p:grpSpPr>
            <a:xfrm>
              <a:off x="765000" y="1022400"/>
              <a:ext cx="2035080" cy="1450800"/>
              <a:chOff x="765000" y="1022400"/>
              <a:chExt cx="2035080" cy="1450800"/>
            </a:xfrm>
          </p:grpSpPr>
          <p:sp>
            <p:nvSpPr>
              <p:cNvPr id="441" name="AutoShape 8"/>
              <p:cNvSpPr/>
              <p:nvPr/>
            </p:nvSpPr>
            <p:spPr>
              <a:xfrm>
                <a:off x="765000" y="1022400"/>
                <a:ext cx="1018080" cy="725760"/>
              </a:xfrm>
              <a:prstGeom prst="rtTriangl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9"/>
              <p:cNvSpPr/>
              <p:nvPr/>
            </p:nvSpPr>
            <p:spPr>
              <a:xfrm>
                <a:off x="1781640" y="1022400"/>
                <a:ext cx="1018440" cy="725760"/>
              </a:xfrm>
              <a:prstGeom prst="rtTriangl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0"/>
              <p:cNvSpPr/>
              <p:nvPr/>
            </p:nvSpPr>
            <p:spPr>
              <a:xfrm>
                <a:off x="1771200" y="1747080"/>
                <a:ext cx="1018440" cy="7261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1"/>
            <p:cNvSpPr/>
            <p:nvPr/>
          </p:nvSpPr>
          <p:spPr>
            <a:xfrm>
              <a:off x="220680" y="171756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1982880" y="2487960"/>
              <a:ext cx="56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304560" y="1139760"/>
              <a:ext cx="43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19"/>
          <p:cNvGrpSpPr/>
          <p:nvPr/>
        </p:nvGrpSpPr>
        <p:grpSpPr>
          <a:xfrm>
            <a:off x="290520" y="1749600"/>
            <a:ext cx="1477800" cy="723600"/>
            <a:chOff x="290520" y="1749600"/>
            <a:chExt cx="1477800" cy="723600"/>
          </a:xfrm>
        </p:grpSpPr>
        <p:sp>
          <p:nvSpPr>
            <p:cNvPr id="448" name="Text Box 11"/>
            <p:cNvSpPr/>
            <p:nvPr/>
          </p:nvSpPr>
          <p:spPr>
            <a:xfrm>
              <a:off x="290520" y="209592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олилиния 16"/>
            <p:cNvSpPr/>
            <p:nvPr/>
          </p:nvSpPr>
          <p:spPr>
            <a:xfrm>
              <a:off x="359280" y="1749600"/>
              <a:ext cx="1409040" cy="723600"/>
            </a:xfrm>
            <a:custGeom>
              <a:avLst/>
              <a:gdLst>
                <a:gd name="textAreaLeft" fmla="*/ 0 w 1409040"/>
                <a:gd name="textAreaRight" fmla="*/ 1409400 w 140904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09700" h="723900">
                  <a:moveTo>
                    <a:pt x="0" y="723900"/>
                  </a:moveTo>
                  <a:lnTo>
                    <a:pt x="1028700" y="723900"/>
                  </a:lnTo>
                  <a:lnTo>
                    <a:pt x="14097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18"/>
          <p:cNvGrpSpPr/>
          <p:nvPr/>
        </p:nvGrpSpPr>
        <p:grpSpPr>
          <a:xfrm>
            <a:off x="409680" y="2467080"/>
            <a:ext cx="1358640" cy="761760"/>
            <a:chOff x="409680" y="2467080"/>
            <a:chExt cx="1358640" cy="761760"/>
          </a:xfrm>
        </p:grpSpPr>
        <p:sp>
          <p:nvSpPr>
            <p:cNvPr id="451" name="Text Box 11"/>
            <p:cNvSpPr/>
            <p:nvPr/>
          </p:nvSpPr>
          <p:spPr>
            <a:xfrm>
              <a:off x="409680" y="2855880"/>
              <a:ext cx="117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олилиния 17"/>
            <p:cNvSpPr/>
            <p:nvPr/>
          </p:nvSpPr>
          <p:spPr>
            <a:xfrm>
              <a:off x="581040" y="2467080"/>
              <a:ext cx="1187280" cy="761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187450" h="762000">
                  <a:moveTo>
                    <a:pt x="0" y="762000"/>
                  </a:moveTo>
                  <a:lnTo>
                    <a:pt x="1028700" y="762000"/>
                  </a:lnTo>
                  <a:lnTo>
                    <a:pt x="11874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22"/>
          <p:cNvSpPr/>
          <p:nvPr/>
        </p:nvSpPr>
        <p:spPr>
          <a:xfrm>
            <a:off x="3241800" y="958680"/>
            <a:ext cx="5581440" cy="4438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ack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 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red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1"/>
          <p:cNvSpPr/>
          <p:nvPr/>
        </p:nvSpPr>
        <p:spPr>
          <a:xfrm>
            <a:off x="3240000" y="1397160"/>
            <a:ext cx="521496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treug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[(x,y),(x,y-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6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y),(x,y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Группа 24"/>
          <p:cNvGrpSpPr/>
          <p:nvPr/>
        </p:nvGrpSpPr>
        <p:grpSpPr>
          <a:xfrm>
            <a:off x="584280" y="3711600"/>
            <a:ext cx="2622600" cy="1359000"/>
            <a:chOff x="584280" y="3711600"/>
            <a:chExt cx="2622600" cy="1359000"/>
          </a:xfrm>
        </p:grpSpPr>
        <p:sp>
          <p:nvSpPr>
            <p:cNvPr id="456" name="AutoShape 18"/>
            <p:cNvSpPr/>
            <p:nvPr/>
          </p:nvSpPr>
          <p:spPr>
            <a:xfrm>
              <a:off x="584280" y="4087800"/>
              <a:ext cx="2148120" cy="982800"/>
            </a:xfrm>
            <a:prstGeom prst="wedgeRoundRectCallout">
              <a:avLst>
                <a:gd name="adj1" fmla="val 62546"/>
                <a:gd name="adj2" fmla="val -2727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зовы 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Левая фигурная скобка 23"/>
            <p:cNvSpPr/>
            <p:nvPr/>
          </p:nvSpPr>
          <p:spPr>
            <a:xfrm>
              <a:off x="2999520" y="3711600"/>
              <a:ext cx="207360" cy="1168920"/>
            </a:xfrm>
            <a:custGeom>
              <a:avLst/>
              <a:gdLst>
                <a:gd name="textAreaLeft" fmla="*/ 132480 w 207360"/>
                <a:gd name="textAreaRight" fmla="*/ 207720 w 207360"/>
                <a:gd name="textAreaTop" fmla="*/ 28080 h 1168920"/>
                <a:gd name="textAreaBottom" fmla="*/ 1140840 h 116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0"/>
                    <a:pt x="10800" y="1660"/>
                  </a:cubicBezTo>
                  <a:lnTo>
                    <a:pt x="10800" y="9140"/>
                  </a:lnTo>
                  <a:cubicBezTo>
                    <a:pt x="10800" y="9970"/>
                    <a:pt x="5400" y="10800"/>
                    <a:pt x="0" y="10800"/>
                  </a:cubicBezTo>
                  <a:cubicBezTo>
                    <a:pt x="5400" y="10800"/>
                    <a:pt x="10800" y="11630"/>
                    <a:pt x="10800" y="12460"/>
                  </a:cubicBezTo>
                  <a:lnTo>
                    <a:pt x="10800" y="19940"/>
                  </a:lnTo>
                  <a:cubicBezTo>
                    <a:pt x="10800" y="2077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Группа 29"/>
          <p:cNvGrpSpPr/>
          <p:nvPr/>
        </p:nvGrpSpPr>
        <p:grpSpPr>
          <a:xfrm>
            <a:off x="4748040" y="4855680"/>
            <a:ext cx="3683160" cy="1592640"/>
            <a:chOff x="4748040" y="4855680"/>
            <a:chExt cx="3683160" cy="1592640"/>
          </a:xfrm>
        </p:grpSpPr>
        <p:sp>
          <p:nvSpPr>
            <p:cNvPr id="459" name="Левая фигурная скобка 25"/>
            <p:cNvSpPr/>
            <p:nvPr/>
          </p:nvSpPr>
          <p:spPr>
            <a:xfrm rot="16200000">
              <a:off x="6215040" y="3388680"/>
              <a:ext cx="214920" cy="3148920"/>
            </a:xfrm>
            <a:custGeom>
              <a:avLst/>
              <a:gdLst>
                <a:gd name="textAreaLeft" fmla="*/ 137520 w 214920"/>
                <a:gd name="textAreaRight" fmla="*/ 215280 w 214920"/>
                <a:gd name="textAreaTop" fmla="*/ 28800 h 3148920"/>
                <a:gd name="textAreaBottom" fmla="*/ 3120120 h 314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20"/>
                    <a:pt x="10800" y="639"/>
                  </a:cubicBezTo>
                  <a:lnTo>
                    <a:pt x="10800" y="10161"/>
                  </a:lnTo>
                  <a:cubicBezTo>
                    <a:pt x="10800" y="10481"/>
                    <a:pt x="5400" y="10800"/>
                    <a:pt x="0" y="10800"/>
                  </a:cubicBezTo>
                  <a:cubicBezTo>
                    <a:pt x="5400" y="10800"/>
                    <a:pt x="10800" y="11120"/>
                    <a:pt x="10800" y="11439"/>
                  </a:cubicBezTo>
                  <a:lnTo>
                    <a:pt x="10800" y="20961"/>
                  </a:lnTo>
                  <a:cubicBezTo>
                    <a:pt x="10800" y="2128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5036760" y="5465520"/>
              <a:ext cx="3394440" cy="982800"/>
            </a:xfrm>
            <a:prstGeom prst="wedgeRoundRectCallout">
              <a:avLst>
                <a:gd name="adj1" fmla="val -13393"/>
                <a:gd name="adj2" fmla="val -8769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Arial"/>
                </a:rPr>
                <a:t>аргуме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(значения параметров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8CE-8A30-46A9-9C9C-ED323FFA3F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369720" y="858960"/>
            <a:ext cx="8420400" cy="31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3"/>
          <p:cNvGrpSpPr/>
          <p:nvPr/>
        </p:nvGrpSpPr>
        <p:grpSpPr>
          <a:xfrm>
            <a:off x="3160800" y="4177800"/>
            <a:ext cx="1963800" cy="1721160"/>
            <a:chOff x="3160800" y="4177800"/>
            <a:chExt cx="1963800" cy="1721160"/>
          </a:xfrm>
        </p:grpSpPr>
        <p:sp>
          <p:nvSpPr>
            <p:cNvPr id="466" name="AutoShape 14"/>
            <p:cNvSpPr/>
            <p:nvPr/>
          </p:nvSpPr>
          <p:spPr>
            <a:xfrm flipV="1">
              <a:off x="3651120" y="5040000"/>
              <a:ext cx="979560" cy="8589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5"/>
            <p:cNvSpPr/>
            <p:nvPr/>
          </p:nvSpPr>
          <p:spPr>
            <a:xfrm flipV="1">
              <a:off x="316080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6"/>
            <p:cNvSpPr/>
            <p:nvPr/>
          </p:nvSpPr>
          <p:spPr>
            <a:xfrm flipV="1">
              <a:off x="4145040" y="4177440"/>
              <a:ext cx="979560" cy="85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2"/>
          <p:cNvGrpSpPr/>
          <p:nvPr/>
        </p:nvGrpSpPr>
        <p:grpSpPr>
          <a:xfrm>
            <a:off x="2908440" y="1525680"/>
            <a:ext cx="2508840" cy="1585440"/>
            <a:chOff x="2908440" y="1525680"/>
            <a:chExt cx="2508840" cy="1585440"/>
          </a:xfrm>
        </p:grpSpPr>
        <p:sp>
          <p:nvSpPr>
            <p:cNvPr id="470" name="AutoShape 9"/>
            <p:cNvSpPr/>
            <p:nvPr/>
          </p:nvSpPr>
          <p:spPr>
            <a:xfrm flipV="1">
              <a:off x="2908440" y="2317680"/>
              <a:ext cx="1255320" cy="793080"/>
            </a:xfrm>
            <a:prstGeom prst="rtTriangl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 flipV="1">
              <a:off x="4161600" y="2317680"/>
              <a:ext cx="1255680" cy="7930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 flipV="1">
              <a:off x="4149000" y="1525680"/>
              <a:ext cx="1255680" cy="79344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B0C2-0275-4455-9BC2-1BA72EBC4C4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69720" y="85896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3429000" y="1407960"/>
            <a:ext cx="1760040" cy="2210760"/>
            <a:chOff x="3429000" y="1407960"/>
            <a:chExt cx="1760040" cy="2210760"/>
          </a:xfrm>
        </p:grpSpPr>
        <p:sp>
          <p:nvSpPr>
            <p:cNvPr id="478" name="AutoShape 11"/>
            <p:cNvSpPr/>
            <p:nvPr/>
          </p:nvSpPr>
          <p:spPr>
            <a:xfrm>
              <a:off x="4128840" y="1686960"/>
              <a:ext cx="364680" cy="193176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1"/>
            <p:cNvSpPr/>
            <p:nvPr/>
          </p:nvSpPr>
          <p:spPr>
            <a:xfrm>
              <a:off x="3429000" y="2699640"/>
              <a:ext cx="1760040" cy="5436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11"/>
            <p:cNvSpPr/>
            <p:nvPr/>
          </p:nvSpPr>
          <p:spPr>
            <a:xfrm>
              <a:off x="3587760" y="2299320"/>
              <a:ext cx="1442880" cy="59652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11"/>
            <p:cNvSpPr/>
            <p:nvPr/>
          </p:nvSpPr>
          <p:spPr>
            <a:xfrm>
              <a:off x="3776760" y="2110320"/>
              <a:ext cx="1064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3889800" y="1823040"/>
              <a:ext cx="8380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1"/>
            <p:cNvSpPr/>
            <p:nvPr/>
          </p:nvSpPr>
          <p:spPr>
            <a:xfrm>
              <a:off x="3988080" y="1581480"/>
              <a:ext cx="641880" cy="43056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1"/>
            <p:cNvSpPr/>
            <p:nvPr/>
          </p:nvSpPr>
          <p:spPr>
            <a:xfrm>
              <a:off x="4070880" y="1407960"/>
              <a:ext cx="476280" cy="38484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5"/>
          <p:cNvSpPr/>
          <p:nvPr/>
        </p:nvSpPr>
        <p:spPr>
          <a:xfrm>
            <a:off x="369720" y="3703680"/>
            <a:ext cx="8420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одну процедуру, построить фигу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2832120" y="4262400"/>
            <a:ext cx="2743200" cy="1681200"/>
            <a:chOff x="2832120" y="4262400"/>
            <a:chExt cx="2743200" cy="1681200"/>
          </a:xfrm>
        </p:grpSpPr>
        <p:sp>
          <p:nvSpPr>
            <p:cNvPr id="487" name="Freeform 7"/>
            <p:cNvSpPr/>
            <p:nvPr/>
          </p:nvSpPr>
          <p:spPr>
            <a:xfrm>
              <a:off x="3865680" y="4616280"/>
              <a:ext cx="1566720" cy="1327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"/>
            <p:cNvSpPr/>
            <p:nvPr/>
          </p:nvSpPr>
          <p:spPr>
            <a:xfrm flipH="1">
              <a:off x="2978280" y="4616280"/>
              <a:ext cx="1566720" cy="1327320"/>
            </a:xfrm>
            <a:custGeom>
              <a:avLst/>
              <a:gdLst>
                <a:gd name="textAreaLeft" fmla="*/ 360 w 1566720"/>
                <a:gd name="textAreaRight" fmla="*/ 1567440 w 1566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1422" h="1206">
                  <a:moveTo>
                    <a:pt x="0" y="1205"/>
                  </a:moveTo>
                  <a:lnTo>
                    <a:pt x="1422" y="0"/>
                  </a:lnTo>
                  <a:lnTo>
                    <a:pt x="964" y="1206"/>
                  </a:lnTo>
                  <a:lnTo>
                    <a:pt x="0" y="1205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9"/>
            <p:cNvSpPr/>
            <p:nvPr/>
          </p:nvSpPr>
          <p:spPr>
            <a:xfrm>
              <a:off x="5283360" y="4468680"/>
              <a:ext cx="29196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0"/>
            <p:cNvSpPr/>
            <p:nvPr/>
          </p:nvSpPr>
          <p:spPr>
            <a:xfrm>
              <a:off x="2832120" y="4462200"/>
              <a:ext cx="291960" cy="2923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1"/>
            <p:cNvSpPr/>
            <p:nvPr/>
          </p:nvSpPr>
          <p:spPr>
            <a:xfrm>
              <a:off x="3871800" y="4429080"/>
              <a:ext cx="719280" cy="1514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2"/>
            <p:cNvSpPr/>
            <p:nvPr/>
          </p:nvSpPr>
          <p:spPr>
            <a:xfrm>
              <a:off x="4083120" y="4262400"/>
              <a:ext cx="291960" cy="291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ст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7997-1683-4E3E-84C7-7707F6FBC1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Ц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DD5-E461-46AD-80C9-2F8159AB9A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7A44-B347-4BB6-8E7F-28A3C74CE5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Группа 43"/>
          <p:cNvGrpSpPr/>
          <p:nvPr/>
        </p:nvGrpSpPr>
        <p:grpSpPr>
          <a:xfrm>
            <a:off x="1394640" y="1292400"/>
            <a:ext cx="3971880" cy="1117440"/>
            <a:chOff x="1394640" y="1292400"/>
            <a:chExt cx="3971880" cy="1117440"/>
          </a:xfrm>
        </p:grpSpPr>
        <p:sp>
          <p:nvSpPr>
            <p:cNvPr id="499" name="Полилиния 41"/>
            <p:cNvSpPr/>
            <p:nvPr/>
          </p:nvSpPr>
          <p:spPr>
            <a:xfrm>
              <a:off x="1401120" y="1292400"/>
              <a:ext cx="360" cy="111744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9"/>
          <p:cNvSpPr/>
          <p:nvPr/>
        </p:nvSpPr>
        <p:spPr>
          <a:xfrm>
            <a:off x="496800" y="260820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5"/>
          <p:cNvGrpSpPr/>
          <p:nvPr/>
        </p:nvGrpSpPr>
        <p:grpSpPr>
          <a:xfrm>
            <a:off x="5433840" y="1800360"/>
            <a:ext cx="3086280" cy="663480"/>
            <a:chOff x="5433840" y="1800360"/>
            <a:chExt cx="3086280" cy="663480"/>
          </a:xfrm>
        </p:grpSpPr>
        <p:sp>
          <p:nvSpPr>
            <p:cNvPr id="516" name="Text Box 56"/>
            <p:cNvSpPr/>
            <p:nvPr/>
          </p:nvSpPr>
          <p:spPr>
            <a:xfrm>
              <a:off x="5900760" y="1906560"/>
              <a:ext cx="261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7"/>
            <p:cNvSpPr/>
            <p:nvPr/>
          </p:nvSpPr>
          <p:spPr>
            <a:xfrm>
              <a:off x="5433840" y="18003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Прямоугольник 70"/>
          <p:cNvSpPr/>
          <p:nvPr/>
        </p:nvSpPr>
        <p:spPr>
          <a:xfrm>
            <a:off x="2125800" y="2660760"/>
            <a:ext cx="866520" cy="130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544680" y="2631960"/>
            <a:ext cx="59004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4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0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 160, 40, 2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5"/>
          <p:cNvSpPr/>
          <p:nvPr/>
        </p:nvSpPr>
        <p:spPr>
          <a:xfrm>
            <a:off x="3125880" y="3944880"/>
            <a:ext cx="46836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5"/>
          <p:cNvGrpSpPr/>
          <p:nvPr/>
        </p:nvGrpSpPr>
        <p:grpSpPr>
          <a:xfrm>
            <a:off x="4876920" y="2738520"/>
            <a:ext cx="3388680" cy="663480"/>
            <a:chOff x="4876920" y="2738520"/>
            <a:chExt cx="3388680" cy="663480"/>
          </a:xfrm>
        </p:grpSpPr>
        <p:sp>
          <p:nvSpPr>
            <p:cNvPr id="522" name="Text Box 56"/>
            <p:cNvSpPr/>
            <p:nvPr/>
          </p:nvSpPr>
          <p:spPr>
            <a:xfrm>
              <a:off x="5343480" y="2844720"/>
              <a:ext cx="2922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7"/>
            <p:cNvSpPr/>
            <p:nvPr/>
          </p:nvSpPr>
          <p:spPr>
            <a:xfrm>
              <a:off x="4876920" y="2738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9"/>
          <p:cNvSpPr/>
          <p:nvPr/>
        </p:nvSpPr>
        <p:spPr>
          <a:xfrm>
            <a:off x="496800" y="455616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8"/>
          <p:cNvSpPr/>
          <p:nvPr/>
        </p:nvSpPr>
        <p:spPr>
          <a:xfrm>
            <a:off x="4998960" y="4606920"/>
            <a:ext cx="248616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5 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79"/>
          <p:cNvSpPr/>
          <p:nvPr/>
        </p:nvSpPr>
        <p:spPr>
          <a:xfrm>
            <a:off x="1199880" y="452124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80"/>
          <p:cNvSpPr/>
          <p:nvPr/>
        </p:nvSpPr>
        <p:spPr>
          <a:xfrm>
            <a:off x="1511280" y="2959200"/>
            <a:ext cx="762120" cy="1650960"/>
          </a:xfrm>
          <a:custGeom>
            <a:avLst/>
            <a:gdLst>
              <a:gd name="textAreaLeft" fmla="*/ 0 w 762120"/>
              <a:gd name="textAreaRight" fmla="*/ 762480 w 7621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w="762000" h="1651000">
                <a:moveTo>
                  <a:pt x="762000" y="0"/>
                </a:moveTo>
                <a:cubicBezTo>
                  <a:pt x="478366" y="333375"/>
                  <a:pt x="355600" y="702733"/>
                  <a:pt x="228600" y="977900"/>
                </a:cubicBezTo>
                <a:cubicBezTo>
                  <a:pt x="101600" y="1253067"/>
                  <a:pt x="55033" y="1463675"/>
                  <a:pt x="0" y="165100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81"/>
          <p:cNvSpPr/>
          <p:nvPr/>
        </p:nvSpPr>
        <p:spPr>
          <a:xfrm>
            <a:off x="856800" y="5854680"/>
            <a:ext cx="146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C887-1AA9-4DCF-8836-AF691F5787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Группа 43"/>
          <p:cNvGrpSpPr/>
          <p:nvPr/>
        </p:nvGrpSpPr>
        <p:grpSpPr>
          <a:xfrm>
            <a:off x="1394640" y="1292400"/>
            <a:ext cx="3971880" cy="2469960"/>
            <a:chOff x="1394640" y="1292400"/>
            <a:chExt cx="3971880" cy="2469960"/>
          </a:xfrm>
        </p:grpSpPr>
        <p:sp>
          <p:nvSpPr>
            <p:cNvPr id="532" name="Полилиния 41"/>
            <p:cNvSpPr/>
            <p:nvPr/>
          </p:nvSpPr>
          <p:spPr>
            <a:xfrm>
              <a:off x="1401120" y="1292400"/>
              <a:ext cx="360" cy="246996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олилиния 42"/>
            <p:cNvSpPr/>
            <p:nvPr/>
          </p:nvSpPr>
          <p:spPr>
            <a:xfrm flipH="1" rot="16200000">
              <a:off x="3380040" y="-693000"/>
              <a:ext cx="360" cy="3971880"/>
            </a:xfrm>
            <a:custGeom>
              <a:avLst/>
              <a:gdLst/>
              <a:ahLst/>
              <a:rect l="l" t="t" r="r" b="b"/>
              <a:pathLst>
                <a:path w="11875" h="2327564">
                  <a:moveTo>
                    <a:pt x="11875" y="0"/>
                  </a:moveTo>
                  <a:cubicBezTo>
                    <a:pt x="7917" y="775855"/>
                    <a:pt x="3958" y="1551709"/>
                    <a:pt x="0" y="23275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Овал 46"/>
          <p:cNvSpPr/>
          <p:nvPr/>
        </p:nvSpPr>
        <p:spPr>
          <a:xfrm>
            <a:off x="165096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49"/>
          <p:cNvSpPr/>
          <p:nvPr/>
        </p:nvSpPr>
        <p:spPr>
          <a:xfrm>
            <a:off x="23511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52"/>
          <p:cNvSpPr/>
          <p:nvPr/>
        </p:nvSpPr>
        <p:spPr>
          <a:xfrm>
            <a:off x="306396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53"/>
          <p:cNvSpPr/>
          <p:nvPr/>
        </p:nvSpPr>
        <p:spPr>
          <a:xfrm>
            <a:off x="3763800" y="155412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54"/>
          <p:cNvSpPr/>
          <p:nvPr/>
        </p:nvSpPr>
        <p:spPr>
          <a:xfrm>
            <a:off x="4465800" y="155412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55"/>
          <p:cNvSpPr/>
          <p:nvPr/>
        </p:nvSpPr>
        <p:spPr>
          <a:xfrm>
            <a:off x="190188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56"/>
          <p:cNvSpPr/>
          <p:nvPr/>
        </p:nvSpPr>
        <p:spPr>
          <a:xfrm flipH="1" rot="16200000">
            <a:off x="3185640" y="-3708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лилиния 57"/>
          <p:cNvSpPr/>
          <p:nvPr/>
        </p:nvSpPr>
        <p:spPr>
          <a:xfrm>
            <a:off x="259704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8"/>
          <p:cNvSpPr/>
          <p:nvPr/>
        </p:nvSpPr>
        <p:spPr>
          <a:xfrm>
            <a:off x="771480" y="161928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9"/>
          <p:cNvSpPr/>
          <p:nvPr/>
        </p:nvSpPr>
        <p:spPr>
          <a:xfrm>
            <a:off x="1619280" y="819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0"/>
          <p:cNvSpPr/>
          <p:nvPr/>
        </p:nvSpPr>
        <p:spPr>
          <a:xfrm>
            <a:off x="220032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олилиния 61"/>
          <p:cNvSpPr/>
          <p:nvPr/>
        </p:nvSpPr>
        <p:spPr>
          <a:xfrm>
            <a:off x="3301920" y="1200240"/>
            <a:ext cx="360" cy="6094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2"/>
          <p:cNvSpPr/>
          <p:nvPr/>
        </p:nvSpPr>
        <p:spPr>
          <a:xfrm>
            <a:off x="2933640" y="81900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1"/>
          <p:cNvSpPr/>
          <p:nvPr/>
        </p:nvSpPr>
        <p:spPr>
          <a:xfrm>
            <a:off x="165096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2"/>
          <p:cNvSpPr/>
          <p:nvPr/>
        </p:nvSpPr>
        <p:spPr>
          <a:xfrm>
            <a:off x="23511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3"/>
          <p:cNvSpPr/>
          <p:nvPr/>
        </p:nvSpPr>
        <p:spPr>
          <a:xfrm>
            <a:off x="306396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4"/>
          <p:cNvSpPr/>
          <p:nvPr/>
        </p:nvSpPr>
        <p:spPr>
          <a:xfrm>
            <a:off x="3763800" y="2287440"/>
            <a:ext cx="4874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5"/>
          <p:cNvSpPr/>
          <p:nvPr/>
        </p:nvSpPr>
        <p:spPr>
          <a:xfrm>
            <a:off x="4465800" y="2287440"/>
            <a:ext cx="485640" cy="4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6"/>
          <p:cNvSpPr/>
          <p:nvPr/>
        </p:nvSpPr>
        <p:spPr>
          <a:xfrm>
            <a:off x="165096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7"/>
          <p:cNvSpPr/>
          <p:nvPr/>
        </p:nvSpPr>
        <p:spPr>
          <a:xfrm>
            <a:off x="23511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8"/>
          <p:cNvSpPr/>
          <p:nvPr/>
        </p:nvSpPr>
        <p:spPr>
          <a:xfrm>
            <a:off x="306396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39"/>
          <p:cNvSpPr/>
          <p:nvPr/>
        </p:nvSpPr>
        <p:spPr>
          <a:xfrm>
            <a:off x="3763800" y="3049560"/>
            <a:ext cx="4874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0"/>
          <p:cNvSpPr/>
          <p:nvPr/>
        </p:nvSpPr>
        <p:spPr>
          <a:xfrm>
            <a:off x="4465800" y="3049560"/>
            <a:ext cx="485640" cy="48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олилиния 43"/>
          <p:cNvSpPr/>
          <p:nvPr/>
        </p:nvSpPr>
        <p:spPr>
          <a:xfrm flipH="1" rot="16200000">
            <a:off x="3185640" y="69624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олилиния 44"/>
          <p:cNvSpPr/>
          <p:nvPr/>
        </p:nvSpPr>
        <p:spPr>
          <a:xfrm flipH="1" rot="16200000">
            <a:off x="3185640" y="1458000"/>
            <a:ext cx="360" cy="3665880"/>
          </a:xfrm>
          <a:custGeom>
            <a:avLst/>
            <a:gdLst/>
            <a:ahLst/>
            <a:rect l="l" t="t" r="r" b="b"/>
            <a:pathLst>
              <a:path w="0" h="748145">
                <a:moveTo>
                  <a:pt x="0" y="0"/>
                </a:moveTo>
                <a:lnTo>
                  <a:pt x="0" y="74814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5"/>
          <p:cNvSpPr/>
          <p:nvPr/>
        </p:nvSpPr>
        <p:spPr>
          <a:xfrm>
            <a:off x="571680" y="23432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571680" y="30956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9"/>
          <p:cNvSpPr/>
          <p:nvPr/>
        </p:nvSpPr>
        <p:spPr>
          <a:xfrm>
            <a:off x="636480" y="4467240"/>
            <a:ext cx="5900760" cy="1782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50"/>
          <p:cNvSpPr/>
          <p:nvPr/>
        </p:nvSpPr>
        <p:spPr>
          <a:xfrm>
            <a:off x="-5400" y="39495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-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й ряд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55"/>
          <p:cNvGrpSpPr/>
          <p:nvPr/>
        </p:nvGrpSpPr>
        <p:grpSpPr>
          <a:xfrm>
            <a:off x="3365640" y="3741840"/>
            <a:ext cx="5384160" cy="663480"/>
            <a:chOff x="3365640" y="3741840"/>
            <a:chExt cx="5384160" cy="663480"/>
          </a:xfrm>
        </p:grpSpPr>
        <p:sp>
          <p:nvSpPr>
            <p:cNvPr id="564" name="Text Box 56"/>
            <p:cNvSpPr/>
            <p:nvPr/>
          </p:nvSpPr>
          <p:spPr>
            <a:xfrm>
              <a:off x="3832200" y="3848040"/>
              <a:ext cx="49176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тся  для 2-го ряд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57"/>
            <p:cNvSpPr/>
            <p:nvPr/>
          </p:nvSpPr>
          <p:spPr>
            <a:xfrm>
              <a:off x="3365640" y="3741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68"/>
          <p:cNvSpPr/>
          <p:nvPr/>
        </p:nvSpPr>
        <p:spPr>
          <a:xfrm>
            <a:off x="2774520" y="5321160"/>
            <a:ext cx="546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5"/>
          <p:cNvSpPr/>
          <p:nvPr/>
        </p:nvSpPr>
        <p:spPr>
          <a:xfrm>
            <a:off x="3468600" y="5761080"/>
            <a:ext cx="468360" cy="41580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55"/>
          <p:cNvGrpSpPr/>
          <p:nvPr/>
        </p:nvGrpSpPr>
        <p:grpSpPr>
          <a:xfrm>
            <a:off x="5054760" y="4745160"/>
            <a:ext cx="3669840" cy="1297440"/>
            <a:chOff x="5054760" y="4745160"/>
            <a:chExt cx="3669840" cy="1297440"/>
          </a:xfrm>
        </p:grpSpPr>
        <p:sp>
          <p:nvSpPr>
            <p:cNvPr id="569" name="Text Box 56"/>
            <p:cNvSpPr/>
            <p:nvPr/>
          </p:nvSpPr>
          <p:spPr>
            <a:xfrm>
              <a:off x="5521320" y="4851360"/>
              <a:ext cx="32032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сделать это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цедурой с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метром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57"/>
            <p:cNvSpPr/>
            <p:nvPr/>
          </p:nvSpPr>
          <p:spPr>
            <a:xfrm>
              <a:off x="5054760" y="47451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цик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41F5-E848-4573-882F-532D6C4D00D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395280" y="911160"/>
            <a:ext cx="5900760" cy="4918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ph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 </a:t>
            </a:r>
            <a:r>
              <a:rPr b="1" lang="da-DK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ow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</a:t>
            </a:r>
            <a:r>
              <a:rPr b="1" lang="da-DK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4"/>
          <p:cNvSpPr/>
          <p:nvPr/>
        </p:nvSpPr>
        <p:spPr>
          <a:xfrm>
            <a:off x="368280" y="1346040"/>
            <a:ext cx="4902120" cy="222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ow ( y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8"/>
          <p:cNvSpPr/>
          <p:nvPr/>
        </p:nvSpPr>
        <p:spPr>
          <a:xfrm>
            <a:off x="5786280" y="1749600"/>
            <a:ext cx="1960560" cy="62208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3855960" y="3959280"/>
            <a:ext cx="1960560" cy="942840"/>
          </a:xfrm>
          <a:prstGeom prst="wedgeRoundRectCallout">
            <a:avLst>
              <a:gd name="adj1" fmla="val -121273"/>
              <a:gd name="adj2" fmla="val 27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8"/>
          <p:cNvSpPr/>
          <p:nvPr/>
        </p:nvSpPr>
        <p:spPr>
          <a:xfrm>
            <a:off x="3208320" y="5127480"/>
            <a:ext cx="1960560" cy="622440"/>
          </a:xfrm>
          <a:prstGeom prst="wedgeRoundRectCallout">
            <a:avLst>
              <a:gd name="adj1" fmla="val -99240"/>
              <a:gd name="adj2" fmla="val -403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на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6F81-8B47-40D5-9986-69DD1941EE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ов по 5 кру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0"/>
          <p:cNvSpPr/>
          <p:nvPr/>
        </p:nvSpPr>
        <p:spPr>
          <a:xfrm>
            <a:off x="21607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1"/>
          <p:cNvSpPr/>
          <p:nvPr/>
        </p:nvSpPr>
        <p:spPr>
          <a:xfrm>
            <a:off x="2873520" y="270972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12"/>
          <p:cNvSpPr/>
          <p:nvPr/>
        </p:nvSpPr>
        <p:spPr>
          <a:xfrm>
            <a:off x="3573360" y="27097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13"/>
          <p:cNvSpPr/>
          <p:nvPr/>
        </p:nvSpPr>
        <p:spPr>
          <a:xfrm>
            <a:off x="4275000" y="27097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14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15"/>
          <p:cNvSpPr/>
          <p:nvPr/>
        </p:nvSpPr>
        <p:spPr>
          <a:xfrm>
            <a:off x="28735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16"/>
          <p:cNvSpPr/>
          <p:nvPr/>
        </p:nvSpPr>
        <p:spPr>
          <a:xfrm>
            <a:off x="3573360" y="3443400"/>
            <a:ext cx="4874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17"/>
          <p:cNvSpPr/>
          <p:nvPr/>
        </p:nvSpPr>
        <p:spPr>
          <a:xfrm>
            <a:off x="4275000" y="3443400"/>
            <a:ext cx="48600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18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19"/>
          <p:cNvSpPr/>
          <p:nvPr/>
        </p:nvSpPr>
        <p:spPr>
          <a:xfrm>
            <a:off x="357336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0"/>
          <p:cNvSpPr/>
          <p:nvPr/>
        </p:nvSpPr>
        <p:spPr>
          <a:xfrm>
            <a:off x="427500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2"/>
          <p:cNvSpPr/>
          <p:nvPr/>
        </p:nvSpPr>
        <p:spPr>
          <a:xfrm>
            <a:off x="497376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24"/>
          <p:cNvSpPr/>
          <p:nvPr/>
        </p:nvSpPr>
        <p:spPr>
          <a:xfrm>
            <a:off x="4983120" y="420516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25"/>
          <p:cNvSpPr/>
          <p:nvPr/>
        </p:nvSpPr>
        <p:spPr>
          <a:xfrm>
            <a:off x="5684760" y="420516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0831-5144-47EC-83BF-8C398B950F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прямоугольный размер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9"/>
          <p:cNvSpPr/>
          <p:nvPr/>
        </p:nvSpPr>
        <p:spPr>
          <a:xfrm>
            <a:off x="1460520" y="27097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14"/>
          <p:cNvSpPr/>
          <p:nvPr/>
        </p:nvSpPr>
        <p:spPr>
          <a:xfrm>
            <a:off x="1460520" y="3443400"/>
            <a:ext cx="48564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15"/>
          <p:cNvSpPr/>
          <p:nvPr/>
        </p:nvSpPr>
        <p:spPr>
          <a:xfrm>
            <a:off x="2160720" y="3443400"/>
            <a:ext cx="487080" cy="48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18"/>
          <p:cNvSpPr/>
          <p:nvPr/>
        </p:nvSpPr>
        <p:spPr>
          <a:xfrm>
            <a:off x="1460520" y="420516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19"/>
          <p:cNvSpPr/>
          <p:nvPr/>
        </p:nvSpPr>
        <p:spPr>
          <a:xfrm>
            <a:off x="21607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20"/>
          <p:cNvSpPr/>
          <p:nvPr/>
        </p:nvSpPr>
        <p:spPr>
          <a:xfrm>
            <a:off x="2873520" y="4205160"/>
            <a:ext cx="48708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1B6C-1FA4-4293-88D7-41BEE016CC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69720" y="812880"/>
            <a:ext cx="842040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из кругов равнобедренный треугольник с высот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ый ряд должен быть покрашен в свой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13"/>
          <p:cNvSpPr/>
          <p:nvPr/>
        </p:nvSpPr>
        <p:spPr>
          <a:xfrm>
            <a:off x="4275000" y="3294000"/>
            <a:ext cx="486000" cy="4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16"/>
          <p:cNvSpPr/>
          <p:nvPr/>
        </p:nvSpPr>
        <p:spPr>
          <a:xfrm>
            <a:off x="3573360" y="4027320"/>
            <a:ext cx="4874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17"/>
          <p:cNvSpPr/>
          <p:nvPr/>
        </p:nvSpPr>
        <p:spPr>
          <a:xfrm>
            <a:off x="4275000" y="4027320"/>
            <a:ext cx="48600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18"/>
          <p:cNvSpPr/>
          <p:nvPr/>
        </p:nvSpPr>
        <p:spPr>
          <a:xfrm>
            <a:off x="2873520" y="4789440"/>
            <a:ext cx="48708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19"/>
          <p:cNvSpPr/>
          <p:nvPr/>
        </p:nvSpPr>
        <p:spPr>
          <a:xfrm>
            <a:off x="357336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0"/>
          <p:cNvSpPr/>
          <p:nvPr/>
        </p:nvSpPr>
        <p:spPr>
          <a:xfrm>
            <a:off x="427500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2"/>
          <p:cNvSpPr/>
          <p:nvPr/>
        </p:nvSpPr>
        <p:spPr>
          <a:xfrm>
            <a:off x="4973760" y="4027320"/>
            <a:ext cx="485640" cy="486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24"/>
          <p:cNvSpPr/>
          <p:nvPr/>
        </p:nvSpPr>
        <p:spPr>
          <a:xfrm>
            <a:off x="4983120" y="4789440"/>
            <a:ext cx="48744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25"/>
          <p:cNvSpPr/>
          <p:nvPr/>
        </p:nvSpPr>
        <p:spPr>
          <a:xfrm>
            <a:off x="5684760" y="4789440"/>
            <a:ext cx="486000" cy="4860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423-89CE-45B9-B52C-92F34EB1A4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69720" y="812880"/>
            <a:ext cx="84204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числ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рис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х рядов по 5 ромб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Группа 31"/>
          <p:cNvGrpSpPr/>
          <p:nvPr/>
        </p:nvGrpSpPr>
        <p:grpSpPr>
          <a:xfrm>
            <a:off x="4218120" y="2147760"/>
            <a:ext cx="1247760" cy="3117600"/>
            <a:chOff x="4218120" y="2147760"/>
            <a:chExt cx="1247760" cy="3117600"/>
          </a:xfrm>
        </p:grpSpPr>
        <p:grpSp>
          <p:nvGrpSpPr>
            <p:cNvPr id="621" name="Group 2"/>
            <p:cNvGrpSpPr/>
            <p:nvPr/>
          </p:nvGrpSpPr>
          <p:grpSpPr>
            <a:xfrm>
              <a:off x="4218120" y="2147760"/>
              <a:ext cx="624960" cy="3117600"/>
              <a:chOff x="4218120" y="2147760"/>
              <a:chExt cx="624960" cy="3117600"/>
            </a:xfrm>
          </p:grpSpPr>
          <p:sp>
            <p:nvSpPr>
              <p:cNvPr id="622" name="AutoShape 3"/>
              <p:cNvSpPr/>
              <p:nvPr/>
            </p:nvSpPr>
            <p:spPr>
              <a:xfrm rot="16200000">
                <a:off x="42213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4"/>
              <p:cNvSpPr/>
              <p:nvPr/>
            </p:nvSpPr>
            <p:spPr>
              <a:xfrm rot="16200000">
                <a:off x="42210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AutoShape 5"/>
              <p:cNvSpPr/>
              <p:nvPr/>
            </p:nvSpPr>
            <p:spPr>
              <a:xfrm rot="16200000">
                <a:off x="42210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6"/>
              <p:cNvSpPr/>
              <p:nvPr/>
            </p:nvSpPr>
            <p:spPr>
              <a:xfrm rot="16200000">
                <a:off x="42213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 rot="16200000">
                <a:off x="42213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8"/>
            <p:cNvGrpSpPr/>
            <p:nvPr/>
          </p:nvGrpSpPr>
          <p:grpSpPr>
            <a:xfrm>
              <a:off x="4840920" y="2147760"/>
              <a:ext cx="624960" cy="3117600"/>
              <a:chOff x="4840920" y="2147760"/>
              <a:chExt cx="624960" cy="3117600"/>
            </a:xfrm>
          </p:grpSpPr>
          <p:sp>
            <p:nvSpPr>
              <p:cNvPr id="628" name="AutoShape 9"/>
              <p:cNvSpPr/>
              <p:nvPr/>
            </p:nvSpPr>
            <p:spPr>
              <a:xfrm rot="16200000">
                <a:off x="4844160" y="46436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10"/>
              <p:cNvSpPr/>
              <p:nvPr/>
            </p:nvSpPr>
            <p:spPr>
              <a:xfrm rot="16200000">
                <a:off x="4843800" y="401940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11"/>
              <p:cNvSpPr/>
              <p:nvPr/>
            </p:nvSpPr>
            <p:spPr>
              <a:xfrm rot="16200000">
                <a:off x="4843800" y="3393720"/>
                <a:ext cx="61884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2"/>
              <p:cNvSpPr/>
              <p:nvPr/>
            </p:nvSpPr>
            <p:spPr>
              <a:xfrm rot="16200000">
                <a:off x="4844160" y="276984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3"/>
              <p:cNvSpPr/>
              <p:nvPr/>
            </p:nvSpPr>
            <p:spPr>
              <a:xfrm rot="16200000">
                <a:off x="4844160" y="2144520"/>
                <a:ext cx="618480" cy="62496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CCB5-8E7C-4EEE-8704-80722A28AE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69720" y="812880"/>
            <a:ext cx="84204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Число повторений рисун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ите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Группа 35"/>
          <p:cNvGrpSpPr/>
          <p:nvPr/>
        </p:nvGrpSpPr>
        <p:grpSpPr>
          <a:xfrm>
            <a:off x="1832040" y="3189240"/>
            <a:ext cx="5019120" cy="1674000"/>
            <a:chOff x="1832040" y="3189240"/>
            <a:chExt cx="5019120" cy="1674000"/>
          </a:xfrm>
        </p:grpSpPr>
        <p:grpSp>
          <p:nvGrpSpPr>
            <p:cNvPr id="637" name="Group 2"/>
            <p:cNvGrpSpPr/>
            <p:nvPr/>
          </p:nvGrpSpPr>
          <p:grpSpPr>
            <a:xfrm>
              <a:off x="1832040" y="3189240"/>
              <a:ext cx="1674360" cy="1674000"/>
              <a:chOff x="1832040" y="3189240"/>
              <a:chExt cx="1674360" cy="1674000"/>
            </a:xfrm>
          </p:grpSpPr>
          <p:sp>
            <p:nvSpPr>
              <p:cNvPr id="638" name="AutoShape 3"/>
              <p:cNvSpPr/>
              <p:nvPr/>
            </p:nvSpPr>
            <p:spPr>
              <a:xfrm>
                <a:off x="1832040" y="3744360"/>
                <a:ext cx="5612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4"/>
              <p:cNvSpPr/>
              <p:nvPr/>
            </p:nvSpPr>
            <p:spPr>
              <a:xfrm>
                <a:off x="238788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5"/>
              <p:cNvSpPr/>
              <p:nvPr/>
            </p:nvSpPr>
            <p:spPr>
              <a:xfrm>
                <a:off x="2945520" y="374436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6"/>
              <p:cNvSpPr/>
              <p:nvPr/>
            </p:nvSpPr>
            <p:spPr>
              <a:xfrm>
                <a:off x="2387880" y="3189240"/>
                <a:ext cx="56088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7"/>
              <p:cNvSpPr/>
              <p:nvPr/>
            </p:nvSpPr>
            <p:spPr>
              <a:xfrm>
                <a:off x="2387880" y="4302000"/>
                <a:ext cx="56088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8"/>
            <p:cNvGrpSpPr/>
            <p:nvPr/>
          </p:nvGrpSpPr>
          <p:grpSpPr>
            <a:xfrm>
              <a:off x="3511440" y="3189240"/>
              <a:ext cx="1669680" cy="1674000"/>
              <a:chOff x="3511440" y="3189240"/>
              <a:chExt cx="1669680" cy="1674000"/>
            </a:xfrm>
          </p:grpSpPr>
          <p:sp>
            <p:nvSpPr>
              <p:cNvPr id="644" name="AutoShape 9"/>
              <p:cNvSpPr/>
              <p:nvPr/>
            </p:nvSpPr>
            <p:spPr>
              <a:xfrm>
                <a:off x="351144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10"/>
              <p:cNvSpPr/>
              <p:nvPr/>
            </p:nvSpPr>
            <p:spPr>
              <a:xfrm>
                <a:off x="40654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11"/>
              <p:cNvSpPr/>
              <p:nvPr/>
            </p:nvSpPr>
            <p:spPr>
              <a:xfrm>
                <a:off x="462168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12"/>
              <p:cNvSpPr/>
              <p:nvPr/>
            </p:nvSpPr>
            <p:spPr>
              <a:xfrm>
                <a:off x="406548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13"/>
              <p:cNvSpPr/>
              <p:nvPr/>
            </p:nvSpPr>
            <p:spPr>
              <a:xfrm>
                <a:off x="406548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4"/>
            <p:cNvGrpSpPr/>
            <p:nvPr/>
          </p:nvGrpSpPr>
          <p:grpSpPr>
            <a:xfrm>
              <a:off x="5181480" y="3189240"/>
              <a:ext cx="1669680" cy="1674000"/>
              <a:chOff x="5181480" y="3189240"/>
              <a:chExt cx="1669680" cy="1674000"/>
            </a:xfrm>
          </p:grpSpPr>
          <p:sp>
            <p:nvSpPr>
              <p:cNvPr id="650" name="AutoShape 15"/>
              <p:cNvSpPr/>
              <p:nvPr/>
            </p:nvSpPr>
            <p:spPr>
              <a:xfrm>
                <a:off x="5181480" y="3744360"/>
                <a:ext cx="55980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16"/>
              <p:cNvSpPr/>
              <p:nvPr/>
            </p:nvSpPr>
            <p:spPr>
              <a:xfrm>
                <a:off x="57355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17"/>
              <p:cNvSpPr/>
              <p:nvPr/>
            </p:nvSpPr>
            <p:spPr>
              <a:xfrm>
                <a:off x="6291720" y="374436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18"/>
              <p:cNvSpPr/>
              <p:nvPr/>
            </p:nvSpPr>
            <p:spPr>
              <a:xfrm>
                <a:off x="5735520" y="3189240"/>
                <a:ext cx="559440" cy="56088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>
                <a:off x="5735520" y="4302000"/>
                <a:ext cx="559440" cy="561240"/>
              </a:xfrm>
              <a:prstGeom prst="diamond">
                <a:avLst/>
              </a:prstGeom>
              <a:solidFill>
                <a:srgbClr val="00b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F6BD-A61B-4C24-B485-868E4FA1907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69720" y="812880"/>
            <a:ext cx="84204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циклы и процедуры, нарисуйте уз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2"/>
          <p:cNvGrpSpPr/>
          <p:nvPr/>
        </p:nvGrpSpPr>
        <p:grpSpPr>
          <a:xfrm>
            <a:off x="1782720" y="2182680"/>
            <a:ext cx="5587560" cy="1398240"/>
            <a:chOff x="1782720" y="2182680"/>
            <a:chExt cx="5587560" cy="1398240"/>
          </a:xfrm>
        </p:grpSpPr>
        <p:grpSp>
          <p:nvGrpSpPr>
            <p:cNvPr id="659" name="Group 3"/>
            <p:cNvGrpSpPr/>
            <p:nvPr/>
          </p:nvGrpSpPr>
          <p:grpSpPr>
            <a:xfrm>
              <a:off x="1789920" y="2182680"/>
              <a:ext cx="1391400" cy="1396800"/>
              <a:chOff x="1789920" y="2182680"/>
              <a:chExt cx="1391400" cy="1396800"/>
            </a:xfrm>
          </p:grpSpPr>
          <p:grpSp>
            <p:nvGrpSpPr>
              <p:cNvPr id="660" name="Group 4"/>
              <p:cNvGrpSpPr/>
              <p:nvPr/>
            </p:nvGrpSpPr>
            <p:grpSpPr>
              <a:xfrm>
                <a:off x="1791720" y="2888640"/>
                <a:ext cx="690120" cy="690840"/>
                <a:chOff x="1791720" y="2888640"/>
                <a:chExt cx="690120" cy="690840"/>
              </a:xfrm>
            </p:grpSpPr>
            <p:sp>
              <p:nvSpPr>
                <p:cNvPr id="661" name="AutoShape 5"/>
                <p:cNvSpPr/>
                <p:nvPr/>
              </p:nvSpPr>
              <p:spPr>
                <a:xfrm rot="5400000">
                  <a:off x="161604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AutoShape 6"/>
                <p:cNvSpPr/>
                <p:nvPr/>
              </p:nvSpPr>
              <p:spPr>
                <a:xfrm rot="16200000">
                  <a:off x="196812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7"/>
              <p:cNvGrpSpPr/>
              <p:nvPr/>
            </p:nvGrpSpPr>
            <p:grpSpPr>
              <a:xfrm>
                <a:off x="2489760" y="2886120"/>
                <a:ext cx="691560" cy="688680"/>
                <a:chOff x="2489760" y="2886120"/>
                <a:chExt cx="691560" cy="688680"/>
              </a:xfrm>
            </p:grpSpPr>
            <p:sp>
              <p:nvSpPr>
                <p:cNvPr id="664" name="AutoShape 8"/>
                <p:cNvSpPr/>
                <p:nvPr/>
              </p:nvSpPr>
              <p:spPr>
                <a:xfrm rot="10800000">
                  <a:off x="249156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9"/>
                <p:cNvSpPr/>
                <p:nvPr/>
              </p:nvSpPr>
              <p:spPr>
                <a:xfrm>
                  <a:off x="248976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10"/>
              <p:cNvGrpSpPr/>
              <p:nvPr/>
            </p:nvGrpSpPr>
            <p:grpSpPr>
              <a:xfrm>
                <a:off x="1789920" y="2187000"/>
                <a:ext cx="692280" cy="689400"/>
                <a:chOff x="1789920" y="2187000"/>
                <a:chExt cx="692280" cy="689400"/>
              </a:xfrm>
            </p:grpSpPr>
            <p:sp>
              <p:nvSpPr>
                <p:cNvPr id="667" name="AutoShape 11"/>
                <p:cNvSpPr/>
                <p:nvPr/>
              </p:nvSpPr>
              <p:spPr>
                <a:xfrm rot="10800000">
                  <a:off x="179172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AutoShape 12"/>
                <p:cNvSpPr/>
                <p:nvPr/>
              </p:nvSpPr>
              <p:spPr>
                <a:xfrm>
                  <a:off x="178992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13"/>
              <p:cNvGrpSpPr/>
              <p:nvPr/>
            </p:nvGrpSpPr>
            <p:grpSpPr>
              <a:xfrm>
                <a:off x="2484360" y="2182680"/>
                <a:ext cx="690120" cy="690840"/>
                <a:chOff x="2484360" y="2182680"/>
                <a:chExt cx="690120" cy="690840"/>
              </a:xfrm>
            </p:grpSpPr>
            <p:sp>
              <p:nvSpPr>
                <p:cNvPr id="670" name="AutoShape 14"/>
                <p:cNvSpPr/>
                <p:nvPr/>
              </p:nvSpPr>
              <p:spPr>
                <a:xfrm rot="5400000">
                  <a:off x="230868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15"/>
                <p:cNvSpPr/>
                <p:nvPr/>
              </p:nvSpPr>
              <p:spPr>
                <a:xfrm rot="16200000">
                  <a:off x="266076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Group 16"/>
            <p:cNvGrpSpPr/>
            <p:nvPr/>
          </p:nvGrpSpPr>
          <p:grpSpPr>
            <a:xfrm>
              <a:off x="3189600" y="2182680"/>
              <a:ext cx="1391400" cy="1396800"/>
              <a:chOff x="3189600" y="2182680"/>
              <a:chExt cx="1391400" cy="1396800"/>
            </a:xfrm>
          </p:grpSpPr>
          <p:grpSp>
            <p:nvGrpSpPr>
              <p:cNvPr id="673" name="Group 17"/>
              <p:cNvGrpSpPr/>
              <p:nvPr/>
            </p:nvGrpSpPr>
            <p:grpSpPr>
              <a:xfrm>
                <a:off x="3191400" y="2888640"/>
                <a:ext cx="690120" cy="690840"/>
                <a:chOff x="3191400" y="2888640"/>
                <a:chExt cx="690120" cy="690840"/>
              </a:xfrm>
            </p:grpSpPr>
            <p:sp>
              <p:nvSpPr>
                <p:cNvPr id="674" name="AutoShape 18"/>
                <p:cNvSpPr/>
                <p:nvPr/>
              </p:nvSpPr>
              <p:spPr>
                <a:xfrm rot="5400000">
                  <a:off x="30157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AutoShape 19"/>
                <p:cNvSpPr/>
                <p:nvPr/>
              </p:nvSpPr>
              <p:spPr>
                <a:xfrm rot="16200000">
                  <a:off x="33678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Group 20"/>
              <p:cNvGrpSpPr/>
              <p:nvPr/>
            </p:nvGrpSpPr>
            <p:grpSpPr>
              <a:xfrm>
                <a:off x="3889440" y="2886120"/>
                <a:ext cx="691560" cy="688680"/>
                <a:chOff x="3889440" y="2886120"/>
                <a:chExt cx="691560" cy="688680"/>
              </a:xfrm>
            </p:grpSpPr>
            <p:sp>
              <p:nvSpPr>
                <p:cNvPr id="677" name="AutoShape 21"/>
                <p:cNvSpPr/>
                <p:nvPr/>
              </p:nvSpPr>
              <p:spPr>
                <a:xfrm rot="10800000">
                  <a:off x="38912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AutoShape 22"/>
                <p:cNvSpPr/>
                <p:nvPr/>
              </p:nvSpPr>
              <p:spPr>
                <a:xfrm>
                  <a:off x="38894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23"/>
              <p:cNvGrpSpPr/>
              <p:nvPr/>
            </p:nvGrpSpPr>
            <p:grpSpPr>
              <a:xfrm>
                <a:off x="3189600" y="2187000"/>
                <a:ext cx="692280" cy="689400"/>
                <a:chOff x="3189600" y="2187000"/>
                <a:chExt cx="692280" cy="689400"/>
              </a:xfrm>
            </p:grpSpPr>
            <p:sp>
              <p:nvSpPr>
                <p:cNvPr id="680" name="AutoShape 24"/>
                <p:cNvSpPr/>
                <p:nvPr/>
              </p:nvSpPr>
              <p:spPr>
                <a:xfrm rot="10800000">
                  <a:off x="31914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25"/>
                <p:cNvSpPr/>
                <p:nvPr/>
              </p:nvSpPr>
              <p:spPr>
                <a:xfrm>
                  <a:off x="31896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Group 26"/>
              <p:cNvGrpSpPr/>
              <p:nvPr/>
            </p:nvGrpSpPr>
            <p:grpSpPr>
              <a:xfrm>
                <a:off x="3884040" y="2182680"/>
                <a:ext cx="690120" cy="690840"/>
                <a:chOff x="3884040" y="2182680"/>
                <a:chExt cx="690120" cy="690840"/>
              </a:xfrm>
            </p:grpSpPr>
            <p:sp>
              <p:nvSpPr>
                <p:cNvPr id="683" name="AutoShape 27"/>
                <p:cNvSpPr/>
                <p:nvPr/>
              </p:nvSpPr>
              <p:spPr>
                <a:xfrm rot="5400000">
                  <a:off x="37083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AutoShape 28"/>
                <p:cNvSpPr/>
                <p:nvPr/>
              </p:nvSpPr>
              <p:spPr>
                <a:xfrm rot="16200000">
                  <a:off x="40604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5" name="Group 29"/>
            <p:cNvGrpSpPr/>
            <p:nvPr/>
          </p:nvGrpSpPr>
          <p:grpSpPr>
            <a:xfrm>
              <a:off x="4592880" y="2182680"/>
              <a:ext cx="1390320" cy="1396800"/>
              <a:chOff x="4592880" y="2182680"/>
              <a:chExt cx="1390320" cy="1396800"/>
            </a:xfrm>
          </p:grpSpPr>
          <p:grpSp>
            <p:nvGrpSpPr>
              <p:cNvPr id="686" name="Group 30"/>
              <p:cNvGrpSpPr/>
              <p:nvPr/>
            </p:nvGrpSpPr>
            <p:grpSpPr>
              <a:xfrm>
                <a:off x="4594320" y="2888640"/>
                <a:ext cx="689760" cy="690840"/>
                <a:chOff x="4594320" y="2888640"/>
                <a:chExt cx="689760" cy="690840"/>
              </a:xfrm>
            </p:grpSpPr>
            <p:sp>
              <p:nvSpPr>
                <p:cNvPr id="687" name="AutoShape 31"/>
                <p:cNvSpPr/>
                <p:nvPr/>
              </p:nvSpPr>
              <p:spPr>
                <a:xfrm rot="5400000">
                  <a:off x="4418640" y="306432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32"/>
                <p:cNvSpPr/>
                <p:nvPr/>
              </p:nvSpPr>
              <p:spPr>
                <a:xfrm rot="16200000">
                  <a:off x="477036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33"/>
              <p:cNvGrpSpPr/>
              <p:nvPr/>
            </p:nvGrpSpPr>
            <p:grpSpPr>
              <a:xfrm>
                <a:off x="5292360" y="2886120"/>
                <a:ext cx="690840" cy="688680"/>
                <a:chOff x="5292360" y="2886120"/>
                <a:chExt cx="690840" cy="688680"/>
              </a:xfrm>
            </p:grpSpPr>
            <p:sp>
              <p:nvSpPr>
                <p:cNvPr id="690" name="AutoShape 34"/>
                <p:cNvSpPr/>
                <p:nvPr/>
              </p:nvSpPr>
              <p:spPr>
                <a:xfrm rot="10800000">
                  <a:off x="5293800" y="2886120"/>
                  <a:ext cx="68940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35"/>
                <p:cNvSpPr/>
                <p:nvPr/>
              </p:nvSpPr>
              <p:spPr>
                <a:xfrm>
                  <a:off x="5292360" y="3237120"/>
                  <a:ext cx="689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36"/>
              <p:cNvGrpSpPr/>
              <p:nvPr/>
            </p:nvGrpSpPr>
            <p:grpSpPr>
              <a:xfrm>
                <a:off x="4592880" y="2187000"/>
                <a:ext cx="691560" cy="689400"/>
                <a:chOff x="4592880" y="2187000"/>
                <a:chExt cx="691560" cy="689400"/>
              </a:xfrm>
            </p:grpSpPr>
            <p:sp>
              <p:nvSpPr>
                <p:cNvPr id="693" name="AutoShape 37"/>
                <p:cNvSpPr/>
                <p:nvPr/>
              </p:nvSpPr>
              <p:spPr>
                <a:xfrm rot="10800000">
                  <a:off x="4594320" y="2187000"/>
                  <a:ext cx="69012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38"/>
                <p:cNvSpPr/>
                <p:nvPr/>
              </p:nvSpPr>
              <p:spPr>
                <a:xfrm>
                  <a:off x="4592880" y="2538360"/>
                  <a:ext cx="69012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39"/>
              <p:cNvGrpSpPr/>
              <p:nvPr/>
            </p:nvGrpSpPr>
            <p:grpSpPr>
              <a:xfrm>
                <a:off x="5286600" y="2182680"/>
                <a:ext cx="689760" cy="690840"/>
                <a:chOff x="5286600" y="2182680"/>
                <a:chExt cx="689760" cy="690840"/>
              </a:xfrm>
            </p:grpSpPr>
            <p:sp>
              <p:nvSpPr>
                <p:cNvPr id="696" name="AutoShape 40"/>
                <p:cNvSpPr/>
                <p:nvPr/>
              </p:nvSpPr>
              <p:spPr>
                <a:xfrm rot="5400000">
                  <a:off x="5110920" y="2358360"/>
                  <a:ext cx="68904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41"/>
                <p:cNvSpPr/>
                <p:nvPr/>
              </p:nvSpPr>
              <p:spPr>
                <a:xfrm rot="16200000">
                  <a:off x="5462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Group 42"/>
            <p:cNvGrpSpPr/>
            <p:nvPr/>
          </p:nvGrpSpPr>
          <p:grpSpPr>
            <a:xfrm>
              <a:off x="5977800" y="2182680"/>
              <a:ext cx="1391400" cy="1396800"/>
              <a:chOff x="5977800" y="2182680"/>
              <a:chExt cx="1391400" cy="1396800"/>
            </a:xfrm>
          </p:grpSpPr>
          <p:grpSp>
            <p:nvGrpSpPr>
              <p:cNvPr id="699" name="Group 43"/>
              <p:cNvGrpSpPr/>
              <p:nvPr/>
            </p:nvGrpSpPr>
            <p:grpSpPr>
              <a:xfrm>
                <a:off x="5979600" y="2888640"/>
                <a:ext cx="690120" cy="690840"/>
                <a:chOff x="5979600" y="2888640"/>
                <a:chExt cx="690120" cy="690840"/>
              </a:xfrm>
            </p:grpSpPr>
            <p:sp>
              <p:nvSpPr>
                <p:cNvPr id="700" name="AutoShape 44"/>
                <p:cNvSpPr/>
                <p:nvPr/>
              </p:nvSpPr>
              <p:spPr>
                <a:xfrm rot="5400000">
                  <a:off x="5803920" y="306396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45"/>
                <p:cNvSpPr/>
                <p:nvPr/>
              </p:nvSpPr>
              <p:spPr>
                <a:xfrm rot="16200000">
                  <a:off x="6156000" y="306576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46"/>
              <p:cNvGrpSpPr/>
              <p:nvPr/>
            </p:nvGrpSpPr>
            <p:grpSpPr>
              <a:xfrm>
                <a:off x="6677640" y="2886120"/>
                <a:ext cx="691560" cy="688680"/>
                <a:chOff x="6677640" y="2886120"/>
                <a:chExt cx="691560" cy="688680"/>
              </a:xfrm>
            </p:grpSpPr>
            <p:sp>
              <p:nvSpPr>
                <p:cNvPr id="703" name="AutoShape 47"/>
                <p:cNvSpPr/>
                <p:nvPr/>
              </p:nvSpPr>
              <p:spPr>
                <a:xfrm rot="10800000">
                  <a:off x="6679440" y="2886120"/>
                  <a:ext cx="68976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AutoShape 48"/>
                <p:cNvSpPr/>
                <p:nvPr/>
              </p:nvSpPr>
              <p:spPr>
                <a:xfrm>
                  <a:off x="6677640" y="3237120"/>
                  <a:ext cx="68976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Group 49"/>
              <p:cNvGrpSpPr/>
              <p:nvPr/>
            </p:nvGrpSpPr>
            <p:grpSpPr>
              <a:xfrm>
                <a:off x="5977800" y="2187000"/>
                <a:ext cx="692280" cy="689400"/>
                <a:chOff x="5977800" y="2187000"/>
                <a:chExt cx="692280" cy="689400"/>
              </a:xfrm>
            </p:grpSpPr>
            <p:sp>
              <p:nvSpPr>
                <p:cNvPr id="706" name="AutoShape 50"/>
                <p:cNvSpPr/>
                <p:nvPr/>
              </p:nvSpPr>
              <p:spPr>
                <a:xfrm rot="10800000">
                  <a:off x="5979600" y="2187000"/>
                  <a:ext cx="690480" cy="337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AutoShape 51"/>
                <p:cNvSpPr/>
                <p:nvPr/>
              </p:nvSpPr>
              <p:spPr>
                <a:xfrm>
                  <a:off x="5977800" y="2538360"/>
                  <a:ext cx="69048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52"/>
              <p:cNvGrpSpPr/>
              <p:nvPr/>
            </p:nvGrpSpPr>
            <p:grpSpPr>
              <a:xfrm>
                <a:off x="6672240" y="2182680"/>
                <a:ext cx="690120" cy="690840"/>
                <a:chOff x="6672240" y="2182680"/>
                <a:chExt cx="690120" cy="690840"/>
              </a:xfrm>
            </p:grpSpPr>
            <p:sp>
              <p:nvSpPr>
                <p:cNvPr id="709" name="AutoShape 53"/>
                <p:cNvSpPr/>
                <p:nvPr/>
              </p:nvSpPr>
              <p:spPr>
                <a:xfrm rot="5400000">
                  <a:off x="6496560" y="2358000"/>
                  <a:ext cx="689040" cy="33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54"/>
                <p:cNvSpPr/>
                <p:nvPr/>
              </p:nvSpPr>
              <p:spPr>
                <a:xfrm rot="16200000">
                  <a:off x="6848640" y="2359800"/>
                  <a:ext cx="689040" cy="33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0f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1" name="Rectangle 55"/>
            <p:cNvSpPr/>
            <p:nvPr/>
          </p:nvSpPr>
          <p:spPr>
            <a:xfrm>
              <a:off x="1782720" y="2182680"/>
              <a:ext cx="5587560" cy="1398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36E2-ACEE-4B48-BD32-49306D91AE5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892160" y="2022480"/>
            <a:ext cx="488016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892160" y="202248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1892160" y="202248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79320" y="1644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226040" y="35672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7448400" y="147312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265400" y="566892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4257720" y="3633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 flipV="1">
            <a:off x="4313160" y="2018880"/>
            <a:ext cx="0" cy="1670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1881360" y="3683160"/>
            <a:ext cx="2417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836800" y="36813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4376880" y="259884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1847880" y="1989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3"/>
          <p:cNvSpPr/>
          <p:nvPr/>
        </p:nvSpPr>
        <p:spPr>
          <a:xfrm>
            <a:off x="1765440" y="911160"/>
            <a:ext cx="1901520" cy="744480"/>
          </a:xfrm>
          <a:prstGeom prst="wedgeRoundRectCallout">
            <a:avLst>
              <a:gd name="adj1" fmla="val -44041"/>
              <a:gd name="adj2" fmla="val 9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1087560" y="4358880"/>
            <a:ext cx="69688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Штрих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C397-CFD4-452F-A4FC-FA9EFFFA3D7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B974-3B96-430D-9059-1FB3446AC96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31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5"/>
          <p:cNvSpPr/>
          <p:nvPr/>
        </p:nvSpPr>
        <p:spPr>
          <a:xfrm>
            <a:off x="1871640" y="32418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8"/>
          <p:cNvGrpSpPr/>
          <p:nvPr/>
        </p:nvGrpSpPr>
        <p:grpSpPr>
          <a:xfrm>
            <a:off x="6927840" y="1403280"/>
            <a:ext cx="1836720" cy="1082880"/>
            <a:chOff x="6927840" y="1403280"/>
            <a:chExt cx="1836720" cy="1082880"/>
          </a:xfrm>
        </p:grpSpPr>
        <p:sp>
          <p:nvSpPr>
            <p:cNvPr id="738" name="AutoShape 27"/>
            <p:cNvSpPr/>
            <p:nvPr/>
          </p:nvSpPr>
          <p:spPr>
            <a:xfrm>
              <a:off x="6927840" y="1403280"/>
              <a:ext cx="1836720" cy="1082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Object 26"/>
                <p:cNvSpPr txBox="1"/>
                <p:nvPr/>
              </p:nvSpPr>
              <p:spPr>
                <a:xfrm>
                  <a:off x="7118280" y="1551240"/>
                  <a:ext cx="137016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0" name="Rectangle 29"/>
          <p:cNvSpPr/>
          <p:nvPr/>
        </p:nvSpPr>
        <p:spPr>
          <a:xfrm>
            <a:off x="716040" y="3932280"/>
            <a:ext cx="5900760" cy="232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0"/>
          <p:cNvSpPr/>
          <p:nvPr/>
        </p:nvSpPr>
        <p:spPr>
          <a:xfrm>
            <a:off x="1797120" y="4410000"/>
            <a:ext cx="1289160" cy="135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2"/>
          <p:cNvSpPr/>
          <p:nvPr/>
        </p:nvSpPr>
        <p:spPr>
          <a:xfrm>
            <a:off x="4013280" y="4383000"/>
            <a:ext cx="1257120" cy="13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1"/>
          <p:cNvSpPr/>
          <p:nvPr/>
        </p:nvSpPr>
        <p:spPr>
          <a:xfrm>
            <a:off x="749160" y="3962520"/>
            <a:ext cx="5753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h,   y1, x1+h,  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2*h, y1, x1+2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 x1+3*h, y1, x1+3*h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5"/>
          <p:cNvSpPr/>
          <p:nvPr/>
        </p:nvSpPr>
        <p:spPr>
          <a:xfrm>
            <a:off x="3067200" y="5762520"/>
            <a:ext cx="468000" cy="416160"/>
          </a:xfrm>
          <a:prstGeom prst="wedgeRoundRectCallout">
            <a:avLst>
              <a:gd name="adj1" fmla="val -113050"/>
              <a:gd name="adj2" fmla="val -67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8"/>
          <p:cNvSpPr/>
          <p:nvPr/>
        </p:nvSpPr>
        <p:spPr>
          <a:xfrm>
            <a:off x="4856040" y="5762520"/>
            <a:ext cx="468360" cy="416160"/>
          </a:xfrm>
          <a:prstGeom prst="wedgeRoundRectCallout">
            <a:avLst>
              <a:gd name="adj1" fmla="val -76777"/>
              <a:gd name="adj2" fmla="val -7518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35"/>
          <p:cNvSpPr/>
          <p:nvPr/>
        </p:nvSpPr>
        <p:spPr>
          <a:xfrm>
            <a:off x="4038480" y="307188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Группа 39"/>
          <p:cNvGrpSpPr/>
          <p:nvPr/>
        </p:nvGrpSpPr>
        <p:grpSpPr>
          <a:xfrm>
            <a:off x="6133680" y="3619440"/>
            <a:ext cx="1181520" cy="2578320"/>
            <a:chOff x="6133680" y="3619440"/>
            <a:chExt cx="1181520" cy="2578320"/>
          </a:xfrm>
        </p:grpSpPr>
        <p:sp>
          <p:nvSpPr>
            <p:cNvPr id="748" name="Полилиния 37"/>
            <p:cNvSpPr/>
            <p:nvPr/>
          </p:nvSpPr>
          <p:spPr>
            <a:xfrm>
              <a:off x="6387840" y="3619440"/>
              <a:ext cx="927360" cy="17146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714680"/>
                <a:gd name="textAreaBottom" fmla="*/ 1715040 h 1714680"/>
              </a:gdLst>
              <a:ahLst/>
              <a:rect l="textAreaLeft" t="textAreaTop" r="textAreaRight" b="textAreaBottom"/>
              <a:pathLst>
                <a:path w="927100" h="1803400">
                  <a:moveTo>
                    <a:pt x="0" y="1803400"/>
                  </a:moveTo>
                  <a:cubicBezTo>
                    <a:pt x="291041" y="1591733"/>
                    <a:pt x="582083" y="1380067"/>
                    <a:pt x="736600" y="1079500"/>
                  </a:cubicBezTo>
                  <a:cubicBezTo>
                    <a:pt x="891117" y="778933"/>
                    <a:pt x="909108" y="389466"/>
                    <a:pt x="9271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Левая фигурная скобка 38"/>
            <p:cNvSpPr/>
            <p:nvPr/>
          </p:nvSpPr>
          <p:spPr>
            <a:xfrm flipH="1">
              <a:off x="6133320" y="4495680"/>
              <a:ext cx="215640" cy="17020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1702080"/>
                <a:gd name="textAreaBottom" fmla="*/ 1672920 h 170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94"/>
                    <a:pt x="10800" y="1187"/>
                  </a:cubicBezTo>
                  <a:lnTo>
                    <a:pt x="10800" y="9613"/>
                  </a:lnTo>
                  <a:cubicBezTo>
                    <a:pt x="10800" y="10207"/>
                    <a:pt x="5400" y="10800"/>
                    <a:pt x="0" y="10800"/>
                  </a:cubicBezTo>
                  <a:cubicBezTo>
                    <a:pt x="5400" y="10800"/>
                    <a:pt x="10800" y="11394"/>
                    <a:pt x="10800" y="11987"/>
                  </a:cubicBezTo>
                  <a:lnTo>
                    <a:pt x="10800" y="20413"/>
                  </a:lnTo>
                  <a:cubicBezTo>
                    <a:pt x="10800" y="2100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Прямоугольник 5"/>
          <p:cNvSpPr/>
          <p:nvPr/>
        </p:nvSpPr>
        <p:spPr>
          <a:xfrm>
            <a:off x="3738240" y="25495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 менять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55"/>
          <p:cNvGrpSpPr/>
          <p:nvPr/>
        </p:nvGrpSpPr>
        <p:grpSpPr>
          <a:xfrm>
            <a:off x="3606840" y="1643040"/>
            <a:ext cx="3085560" cy="663480"/>
            <a:chOff x="3606840" y="1643040"/>
            <a:chExt cx="3085560" cy="663480"/>
          </a:xfrm>
        </p:grpSpPr>
        <p:sp>
          <p:nvSpPr>
            <p:cNvPr id="752" name="Text Box 56"/>
            <p:cNvSpPr/>
            <p:nvPr/>
          </p:nvSpPr>
          <p:spPr>
            <a:xfrm>
              <a:off x="4073400" y="174924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"/>
            <p:cNvSpPr/>
            <p:nvPr/>
          </p:nvSpPr>
          <p:spPr>
            <a:xfrm>
              <a:off x="3606840" y="1643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Группа 44"/>
          <p:cNvGrpSpPr/>
          <p:nvPr/>
        </p:nvGrpSpPr>
        <p:grpSpPr>
          <a:xfrm>
            <a:off x="326880" y="1009800"/>
            <a:ext cx="1140120" cy="2286000"/>
            <a:chOff x="326880" y="1009800"/>
            <a:chExt cx="1140120" cy="2286000"/>
          </a:xfrm>
        </p:grpSpPr>
        <p:sp>
          <p:nvSpPr>
            <p:cNvPr id="755" name="Line 24"/>
            <p:cNvSpPr/>
            <p:nvPr/>
          </p:nvSpPr>
          <p:spPr>
            <a:xfrm>
              <a:off x="366480" y="2346480"/>
              <a:ext cx="110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Полилиния 46"/>
            <p:cNvSpPr/>
            <p:nvPr/>
          </p:nvSpPr>
          <p:spPr>
            <a:xfrm>
              <a:off x="367920" y="1009800"/>
              <a:ext cx="360" cy="2286000"/>
            </a:xfrm>
            <a:custGeom>
              <a:avLst/>
              <a:gdLst/>
              <a:ahLst/>
              <a:rect l="l" t="t" r="r" b="b"/>
              <a:pathLst>
                <a:path w="6350" h="2286000">
                  <a:moveTo>
                    <a:pt x="0" y="0"/>
                  </a:moveTo>
                  <a:cubicBezTo>
                    <a:pt x="2117" y="762000"/>
                    <a:pt x="4233" y="1524000"/>
                    <a:pt x="6350" y="22860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326880" y="1859040"/>
              <a:ext cx="113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DEFC-E17D-4D98-A100-7F01B8B086C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365040" y="96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2816280" y="330372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8"/>
          <p:cNvSpPr/>
          <p:nvPr/>
        </p:nvSpPr>
        <p:spPr>
          <a:xfrm>
            <a:off x="1109520" y="159228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3309840" y="31528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1054080" y="1538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22366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"/>
          <p:cNvSpPr/>
          <p:nvPr/>
        </p:nvSpPr>
        <p:spPr>
          <a:xfrm>
            <a:off x="1481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4"/>
          <p:cNvSpPr/>
          <p:nvPr/>
        </p:nvSpPr>
        <p:spPr>
          <a:xfrm>
            <a:off x="185904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5"/>
          <p:cNvSpPr/>
          <p:nvPr/>
        </p:nvSpPr>
        <p:spPr>
          <a:xfrm>
            <a:off x="2612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6"/>
          <p:cNvSpPr/>
          <p:nvPr/>
        </p:nvSpPr>
        <p:spPr>
          <a:xfrm>
            <a:off x="2990880" y="1593720"/>
            <a:ext cx="0" cy="161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8"/>
          <p:cNvSpPr/>
          <p:nvPr/>
        </p:nvSpPr>
        <p:spPr>
          <a:xfrm>
            <a:off x="3102120" y="596880"/>
            <a:ext cx="2485800" cy="622440"/>
          </a:xfrm>
          <a:prstGeom prst="wedgeRoundRectCallout">
            <a:avLst>
              <a:gd name="adj1" fmla="val -59967"/>
              <a:gd name="adj2" fmla="val 5763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21"/>
          <p:cNvGrpSpPr/>
          <p:nvPr/>
        </p:nvGrpSpPr>
        <p:grpSpPr>
          <a:xfrm>
            <a:off x="1401840" y="1244520"/>
            <a:ext cx="1693800" cy="307800"/>
            <a:chOff x="1401840" y="1244520"/>
            <a:chExt cx="1693800" cy="307800"/>
          </a:xfrm>
        </p:grpSpPr>
        <p:sp>
          <p:nvSpPr>
            <p:cNvPr id="774" name="Freeform 19"/>
            <p:cNvSpPr/>
            <p:nvPr/>
          </p:nvSpPr>
          <p:spPr>
            <a:xfrm>
              <a:off x="1401840" y="124740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0"/>
            <p:cNvSpPr/>
            <p:nvPr/>
          </p:nvSpPr>
          <p:spPr>
            <a:xfrm flipH="1">
              <a:off x="2246760" y="124452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Line 22"/>
          <p:cNvSpPr/>
          <p:nvPr/>
        </p:nvSpPr>
        <p:spPr>
          <a:xfrm>
            <a:off x="185904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3"/>
          <p:cNvSpPr/>
          <p:nvPr/>
        </p:nvSpPr>
        <p:spPr>
          <a:xfrm>
            <a:off x="2239920" y="314640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24"/>
          <p:cNvSpPr/>
          <p:nvPr/>
        </p:nvSpPr>
        <p:spPr>
          <a:xfrm>
            <a:off x="1859040" y="366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"/>
          <p:cNvSpPr/>
          <p:nvPr/>
        </p:nvSpPr>
        <p:spPr>
          <a:xfrm>
            <a:off x="1871640" y="32544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9"/>
          <p:cNvSpPr/>
          <p:nvPr/>
        </p:nvSpPr>
        <p:spPr>
          <a:xfrm>
            <a:off x="538200" y="4071960"/>
            <a:ext cx="5303880" cy="2163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35"/>
          <p:cNvSpPr/>
          <p:nvPr/>
        </p:nvSpPr>
        <p:spPr>
          <a:xfrm>
            <a:off x="4038480" y="1903320"/>
            <a:ext cx="468648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39"/>
          <p:cNvSpPr/>
          <p:nvPr/>
        </p:nvSpPr>
        <p:spPr>
          <a:xfrm>
            <a:off x="553068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41"/>
          <p:cNvSpPr/>
          <p:nvPr/>
        </p:nvSpPr>
        <p:spPr>
          <a:xfrm>
            <a:off x="7016400" y="189864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8"/>
          <p:cNvSpPr/>
          <p:nvPr/>
        </p:nvSpPr>
        <p:spPr>
          <a:xfrm>
            <a:off x="5832360" y="1079640"/>
            <a:ext cx="1901880" cy="622080"/>
          </a:xfrm>
          <a:prstGeom prst="wedgeRoundRectCallout">
            <a:avLst>
              <a:gd name="adj1" fmla="val -49750"/>
              <a:gd name="adj2" fmla="val 943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8"/>
          <p:cNvSpPr/>
          <p:nvPr/>
        </p:nvSpPr>
        <p:spPr>
          <a:xfrm>
            <a:off x="3978360" y="3657600"/>
            <a:ext cx="2485800" cy="622440"/>
          </a:xfrm>
          <a:prstGeom prst="wedgeRoundRectCallout">
            <a:avLst>
              <a:gd name="adj1" fmla="val -94708"/>
              <a:gd name="adj2" fmla="val 535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1-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8"/>
          <p:cNvSpPr/>
          <p:nvPr/>
        </p:nvSpPr>
        <p:spPr>
          <a:xfrm>
            <a:off x="5400720" y="4495680"/>
            <a:ext cx="2689200" cy="622440"/>
          </a:xfrm>
          <a:prstGeom prst="wedgeRoundRectCallout">
            <a:avLst>
              <a:gd name="adj1" fmla="val -86532"/>
              <a:gd name="adj2" fmla="val 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дела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55"/>
          <p:cNvGrpSpPr/>
          <p:nvPr/>
        </p:nvGrpSpPr>
        <p:grpSpPr>
          <a:xfrm>
            <a:off x="5994360" y="5478480"/>
            <a:ext cx="2565000" cy="663480"/>
            <a:chOff x="5994360" y="5478480"/>
            <a:chExt cx="2565000" cy="663480"/>
          </a:xfrm>
        </p:grpSpPr>
        <p:sp>
          <p:nvSpPr>
            <p:cNvPr id="788" name="Text Box 56"/>
            <p:cNvSpPr/>
            <p:nvPr/>
          </p:nvSpPr>
          <p:spPr>
            <a:xfrm>
              <a:off x="6460920" y="5584680"/>
              <a:ext cx="2098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57"/>
            <p:cNvSpPr/>
            <p:nvPr/>
          </p:nvSpPr>
          <p:spPr>
            <a:xfrm>
              <a:off x="5994360" y="54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AutoShape 18"/>
          <p:cNvSpPr/>
          <p:nvPr/>
        </p:nvSpPr>
        <p:spPr>
          <a:xfrm>
            <a:off x="2924280" y="5715000"/>
            <a:ext cx="2752560" cy="863640"/>
          </a:xfrm>
          <a:prstGeom prst="wedgeRoundRectCallout">
            <a:avLst>
              <a:gd name="adj1" fmla="val -69675"/>
              <a:gd name="adj2" fmla="val -3360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ледующей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55"/>
          <p:cNvGrpSpPr/>
          <p:nvPr/>
        </p:nvGrpSpPr>
        <p:grpSpPr>
          <a:xfrm>
            <a:off x="4508640" y="2608200"/>
            <a:ext cx="3085560" cy="663480"/>
            <a:chOff x="4508640" y="2608200"/>
            <a:chExt cx="3085560" cy="663480"/>
          </a:xfrm>
        </p:grpSpPr>
        <p:sp>
          <p:nvSpPr>
            <p:cNvPr id="792" name="Text Box 56"/>
            <p:cNvSpPr/>
            <p:nvPr/>
          </p:nvSpPr>
          <p:spPr>
            <a:xfrm>
              <a:off x="4975200" y="2714400"/>
              <a:ext cx="2619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57"/>
            <p:cNvSpPr/>
            <p:nvPr/>
          </p:nvSpPr>
          <p:spPr>
            <a:xfrm>
              <a:off x="4508640" y="2608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AutoShape 18"/>
          <p:cNvSpPr/>
          <p:nvPr/>
        </p:nvSpPr>
        <p:spPr>
          <a:xfrm>
            <a:off x="396720" y="3365640"/>
            <a:ext cx="1152720" cy="622080"/>
          </a:xfrm>
          <a:prstGeom prst="wedgeRoundRectCallout">
            <a:avLst>
              <a:gd name="adj1" fmla="val 40828"/>
              <a:gd name="adj2" fmla="val -8114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97CC-6829-48A9-8262-DE4D87BF0F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-3240" y="161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2193840" y="39513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8"/>
          <p:cNvSpPr/>
          <p:nvPr/>
        </p:nvSpPr>
        <p:spPr>
          <a:xfrm>
            <a:off x="741240" y="2239920"/>
            <a:ext cx="2265480" cy="16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9"/>
          <p:cNvSpPr/>
          <p:nvPr/>
        </p:nvSpPr>
        <p:spPr>
          <a:xfrm>
            <a:off x="2941560" y="38005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0"/>
          <p:cNvSpPr/>
          <p:nvPr/>
        </p:nvSpPr>
        <p:spPr>
          <a:xfrm>
            <a:off x="685800" y="21859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1"/>
          <p:cNvSpPr/>
          <p:nvPr/>
        </p:nvSpPr>
        <p:spPr>
          <a:xfrm>
            <a:off x="18684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3"/>
          <p:cNvSpPr/>
          <p:nvPr/>
        </p:nvSpPr>
        <p:spPr>
          <a:xfrm>
            <a:off x="1112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4"/>
          <p:cNvSpPr/>
          <p:nvPr/>
        </p:nvSpPr>
        <p:spPr>
          <a:xfrm>
            <a:off x="149076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2244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2622600" y="2241720"/>
            <a:ext cx="0" cy="16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8"/>
          <p:cNvSpPr/>
          <p:nvPr/>
        </p:nvSpPr>
        <p:spPr>
          <a:xfrm>
            <a:off x="1298520" y="1041480"/>
            <a:ext cx="1521000" cy="482400"/>
          </a:xfrm>
          <a:prstGeom prst="wedgeRoundRectCallout">
            <a:avLst>
              <a:gd name="adj1" fmla="val -14875"/>
              <a:gd name="adj2" fmla="val 1207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1033560" y="1892160"/>
            <a:ext cx="1693800" cy="307800"/>
            <a:chOff x="1033560" y="1892160"/>
            <a:chExt cx="1693800" cy="307800"/>
          </a:xfrm>
        </p:grpSpPr>
        <p:sp>
          <p:nvSpPr>
            <p:cNvPr id="810" name="Freeform 19"/>
            <p:cNvSpPr/>
            <p:nvPr/>
          </p:nvSpPr>
          <p:spPr>
            <a:xfrm>
              <a:off x="1033560" y="18950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 flipH="1">
              <a:off x="1878480" y="189216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22"/>
          <p:cNvSpPr/>
          <p:nvPr/>
        </p:nvSpPr>
        <p:spPr>
          <a:xfrm>
            <a:off x="149076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3"/>
          <p:cNvSpPr/>
          <p:nvPr/>
        </p:nvSpPr>
        <p:spPr>
          <a:xfrm>
            <a:off x="1871640" y="37940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1490760" y="430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25"/>
          <p:cNvSpPr/>
          <p:nvPr/>
        </p:nvSpPr>
        <p:spPr>
          <a:xfrm>
            <a:off x="1503360" y="388944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9"/>
          <p:cNvSpPr/>
          <p:nvPr/>
        </p:nvSpPr>
        <p:spPr>
          <a:xfrm>
            <a:off x="3332160" y="1036800"/>
            <a:ext cx="5545080" cy="5325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1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y2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1,y1,x2,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(x2-x1)/(N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da-DK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8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8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686-BBF8-4797-AE15-B159DF8C89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1844640" y="103968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>
            <a:off x="1143000" y="1560600"/>
            <a:ext cx="2630520" cy="895320"/>
          </a:xfrm>
          <a:prstGeom prst="parallelogram">
            <a:avLst>
              <a:gd name="adj" fmla="val 7345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1"/>
          <p:cNvSpPr/>
          <p:nvPr/>
        </p:nvSpPr>
        <p:spPr>
          <a:xfrm flipH="1">
            <a:off x="14698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12"/>
          <p:cNvSpPr/>
          <p:nvPr/>
        </p:nvSpPr>
        <p:spPr>
          <a:xfrm flipH="1">
            <a:off x="18003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3"/>
          <p:cNvSpPr/>
          <p:nvPr/>
        </p:nvSpPr>
        <p:spPr>
          <a:xfrm flipH="1">
            <a:off x="21286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14"/>
          <p:cNvSpPr/>
          <p:nvPr/>
        </p:nvSpPr>
        <p:spPr>
          <a:xfrm flipH="1">
            <a:off x="245916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 flipH="1">
            <a:off x="2789280" y="1552680"/>
            <a:ext cx="65088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6"/>
          <p:cNvSpPr/>
          <p:nvPr/>
        </p:nvSpPr>
        <p:spPr>
          <a:xfrm>
            <a:off x="228600" y="24321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2952720" y="248760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8"/>
          <p:cNvSpPr/>
          <p:nvPr/>
        </p:nvSpPr>
        <p:spPr>
          <a:xfrm>
            <a:off x="1757520" y="15159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9"/>
          <p:cNvSpPr/>
          <p:nvPr/>
        </p:nvSpPr>
        <p:spPr>
          <a:xfrm>
            <a:off x="109044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0"/>
          <p:cNvSpPr/>
          <p:nvPr/>
        </p:nvSpPr>
        <p:spPr>
          <a:xfrm>
            <a:off x="3076560" y="241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1"/>
          <p:cNvSpPr/>
          <p:nvPr/>
        </p:nvSpPr>
        <p:spPr>
          <a:xfrm flipV="1">
            <a:off x="1800360" y="113832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2"/>
          <p:cNvSpPr/>
          <p:nvPr/>
        </p:nvSpPr>
        <p:spPr>
          <a:xfrm flipV="1">
            <a:off x="1133640" y="1138320"/>
            <a:ext cx="0" cy="13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3"/>
          <p:cNvSpPr/>
          <p:nvPr/>
        </p:nvSpPr>
        <p:spPr>
          <a:xfrm>
            <a:off x="1128600" y="125244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1292400" y="801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5"/>
          <p:cNvSpPr/>
          <p:nvPr/>
        </p:nvSpPr>
        <p:spPr>
          <a:xfrm>
            <a:off x="1809720" y="278136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6"/>
          <p:cNvSpPr/>
          <p:nvPr/>
        </p:nvSpPr>
        <p:spPr>
          <a:xfrm flipV="1">
            <a:off x="180036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7"/>
          <p:cNvSpPr/>
          <p:nvPr/>
        </p:nvSpPr>
        <p:spPr>
          <a:xfrm flipV="1">
            <a:off x="2133720" y="2442960"/>
            <a:ext cx="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8"/>
          <p:cNvSpPr/>
          <p:nvPr/>
        </p:nvSpPr>
        <p:spPr>
          <a:xfrm>
            <a:off x="1797120" y="287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6"/>
          <p:cNvSpPr/>
          <p:nvPr/>
        </p:nvSpPr>
        <p:spPr>
          <a:xfrm>
            <a:off x="3405240" y="1041480"/>
            <a:ext cx="15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55"/>
          <p:cNvGrpSpPr/>
          <p:nvPr/>
        </p:nvGrpSpPr>
        <p:grpSpPr>
          <a:xfrm>
            <a:off x="5149800" y="981000"/>
            <a:ext cx="3506760" cy="663480"/>
            <a:chOff x="5149800" y="981000"/>
            <a:chExt cx="3506760" cy="663480"/>
          </a:xfrm>
        </p:grpSpPr>
        <p:sp>
          <p:nvSpPr>
            <p:cNvPr id="841" name="Text Box 56"/>
            <p:cNvSpPr/>
            <p:nvPr/>
          </p:nvSpPr>
          <p:spPr>
            <a:xfrm>
              <a:off x="5616720" y="108720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5149800" y="981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9"/>
          <p:cNvGrpSpPr/>
          <p:nvPr/>
        </p:nvGrpSpPr>
        <p:grpSpPr>
          <a:xfrm>
            <a:off x="6450120" y="1692360"/>
            <a:ext cx="2147760" cy="1082520"/>
            <a:chOff x="6450120" y="1692360"/>
            <a:chExt cx="2147760" cy="1082520"/>
          </a:xfrm>
        </p:grpSpPr>
        <p:sp>
          <p:nvSpPr>
            <p:cNvPr id="844" name="AutoShape 30"/>
            <p:cNvSpPr/>
            <p:nvPr/>
          </p:nvSpPr>
          <p:spPr>
            <a:xfrm>
              <a:off x="6450120" y="1692360"/>
              <a:ext cx="2147760" cy="108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5" name="Object 31"/>
                <p:cNvSpPr txBox="1"/>
                <p:nvPr/>
              </p:nvSpPr>
              <p:spPr>
                <a:xfrm>
                  <a:off x="6608880" y="1709640"/>
                  <a:ext cx="1863720" cy="103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Group 35"/>
          <p:cNvGrpSpPr/>
          <p:nvPr/>
        </p:nvGrpSpPr>
        <p:grpSpPr>
          <a:xfrm>
            <a:off x="4044960" y="1930320"/>
            <a:ext cx="2023920" cy="608040"/>
            <a:chOff x="4044960" y="1930320"/>
            <a:chExt cx="2023920" cy="608040"/>
          </a:xfrm>
        </p:grpSpPr>
        <p:sp>
          <p:nvSpPr>
            <p:cNvPr id="847" name="AutoShape 33"/>
            <p:cNvSpPr/>
            <p:nvPr/>
          </p:nvSpPr>
          <p:spPr>
            <a:xfrm>
              <a:off x="4044960" y="1930320"/>
              <a:ext cx="2023920" cy="60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Object 34"/>
                <p:cNvSpPr txBox="1"/>
                <p:nvPr/>
              </p:nvSpPr>
              <p:spPr>
                <a:xfrm>
                  <a:off x="4178160" y="1946160"/>
                  <a:ext cx="175752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9" name="Rectangle 37"/>
          <p:cNvSpPr/>
          <p:nvPr/>
        </p:nvSpPr>
        <p:spPr>
          <a:xfrm>
            <a:off x="595440" y="3352680"/>
            <a:ext cx="6505560" cy="1908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8"/>
          <p:cNvSpPr/>
          <p:nvPr/>
        </p:nvSpPr>
        <p:spPr>
          <a:xfrm>
            <a:off x="1709640" y="3406680"/>
            <a:ext cx="1258920" cy="136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9"/>
          <p:cNvSpPr/>
          <p:nvPr/>
        </p:nvSpPr>
        <p:spPr>
          <a:xfrm>
            <a:off x="3919680" y="3405240"/>
            <a:ext cx="1614240" cy="138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38280" y="3405240"/>
            <a:ext cx="62974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h,   y1, x1+h-a,  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2*h, y1, x1+2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+3*h, y1, x1+3*h-a, y2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2"/>
          <p:cNvSpPr/>
          <p:nvPr/>
        </p:nvSpPr>
        <p:spPr>
          <a:xfrm>
            <a:off x="2727360" y="4846680"/>
            <a:ext cx="468360" cy="415800"/>
          </a:xfrm>
          <a:prstGeom prst="wedgeRoundRectCallout">
            <a:avLst>
              <a:gd name="adj1" fmla="val -101185"/>
              <a:gd name="adj2" fmla="val -100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3"/>
          <p:cNvSpPr/>
          <p:nvPr/>
        </p:nvSpPr>
        <p:spPr>
          <a:xfrm>
            <a:off x="3730680" y="4892760"/>
            <a:ext cx="984240" cy="415800"/>
          </a:xfrm>
          <a:prstGeom prst="wedgeRoundRectCallout">
            <a:avLst>
              <a:gd name="adj1" fmla="val 32402"/>
              <a:gd name="adj2" fmla="val -1026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55"/>
          <p:cNvGrpSpPr/>
          <p:nvPr/>
        </p:nvGrpSpPr>
        <p:grpSpPr>
          <a:xfrm>
            <a:off x="5446800" y="4722840"/>
            <a:ext cx="3506760" cy="663480"/>
            <a:chOff x="5446800" y="4722840"/>
            <a:chExt cx="3506760" cy="663480"/>
          </a:xfrm>
        </p:grpSpPr>
        <p:sp>
          <p:nvSpPr>
            <p:cNvPr id="856" name="Text Box 56"/>
            <p:cNvSpPr/>
            <p:nvPr/>
          </p:nvSpPr>
          <p:spPr>
            <a:xfrm>
              <a:off x="5913720" y="4829040"/>
              <a:ext cx="3039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меняетс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7"/>
            <p:cNvSpPr/>
            <p:nvPr/>
          </p:nvSpPr>
          <p:spPr>
            <a:xfrm>
              <a:off x="5446800" y="4722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Прямоугольник 5"/>
          <p:cNvSpPr/>
          <p:nvPr/>
        </p:nvSpPr>
        <p:spPr>
          <a:xfrm>
            <a:off x="577440" y="5327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7"/>
          <p:cNvSpPr/>
          <p:nvPr/>
        </p:nvSpPr>
        <p:spPr>
          <a:xfrm>
            <a:off x="898560" y="5802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 +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5"/>
          <p:cNvSpPr/>
          <p:nvPr/>
        </p:nvSpPr>
        <p:spPr>
          <a:xfrm>
            <a:off x="3621600" y="5327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9"/>
          <p:cNvSpPr/>
          <p:nvPr/>
        </p:nvSpPr>
        <p:spPr>
          <a:xfrm>
            <a:off x="4043160" y="580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+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50"/>
          <p:cNvSpPr/>
          <p:nvPr/>
        </p:nvSpPr>
        <p:spPr>
          <a:xfrm>
            <a:off x="1320840" y="2514600"/>
            <a:ext cx="152280" cy="977760"/>
          </a:xfrm>
          <a:custGeom>
            <a:avLst/>
            <a:gdLst>
              <a:gd name="textAreaLeft" fmla="*/ 0 w 152280"/>
              <a:gd name="textAreaRight" fmla="*/ 152640 w 15228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чень сложная штрих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7FA4-E5EC-4826-A5E1-8F89B45D0A9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5"/>
          <p:cNvSpPr/>
          <p:nvPr/>
        </p:nvSpPr>
        <p:spPr>
          <a:xfrm>
            <a:off x="1298520" y="1420920"/>
            <a:ext cx="1839960" cy="24350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1300320" y="18320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9"/>
          <p:cNvSpPr/>
          <p:nvPr/>
        </p:nvSpPr>
        <p:spPr>
          <a:xfrm>
            <a:off x="1300320" y="2235240"/>
            <a:ext cx="61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0"/>
          <p:cNvSpPr/>
          <p:nvPr/>
        </p:nvSpPr>
        <p:spPr>
          <a:xfrm>
            <a:off x="1300320" y="2638440"/>
            <a:ext cx="90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1"/>
          <p:cNvSpPr/>
          <p:nvPr/>
        </p:nvSpPr>
        <p:spPr>
          <a:xfrm>
            <a:off x="1300320" y="304164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1300320" y="344484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882720" y="83196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2246400" y="395136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5"/>
          <p:cNvSpPr/>
          <p:nvPr/>
        </p:nvSpPr>
        <p:spPr>
          <a:xfrm>
            <a:off x="1251000" y="137628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6"/>
          <p:cNvSpPr/>
          <p:nvPr/>
        </p:nvSpPr>
        <p:spPr>
          <a:xfrm>
            <a:off x="3094200" y="3814920"/>
            <a:ext cx="8856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7"/>
          <p:cNvSpPr/>
          <p:nvPr/>
        </p:nvSpPr>
        <p:spPr>
          <a:xfrm flipV="1">
            <a:off x="1909800" y="179064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8"/>
          <p:cNvSpPr/>
          <p:nvPr/>
        </p:nvSpPr>
        <p:spPr>
          <a:xfrm flipV="1">
            <a:off x="2224080" y="1790640"/>
            <a:ext cx="0" cy="8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1862280" y="13352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0"/>
          <p:cNvSpPr/>
          <p:nvPr/>
        </p:nvSpPr>
        <p:spPr>
          <a:xfrm>
            <a:off x="1906560" y="1905120"/>
            <a:ext cx="3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1"/>
          <p:cNvSpPr/>
          <p:nvPr/>
        </p:nvSpPr>
        <p:spPr>
          <a:xfrm>
            <a:off x="2525760" y="304164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2"/>
          <p:cNvSpPr/>
          <p:nvPr/>
        </p:nvSpPr>
        <p:spPr>
          <a:xfrm>
            <a:off x="2230560" y="26370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3"/>
          <p:cNvSpPr/>
          <p:nvPr/>
        </p:nvSpPr>
        <p:spPr>
          <a:xfrm>
            <a:off x="2719440" y="26305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2843280" y="261144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34"/>
          <p:cNvGrpSpPr/>
          <p:nvPr/>
        </p:nvGrpSpPr>
        <p:grpSpPr>
          <a:xfrm>
            <a:off x="3448080" y="1789200"/>
            <a:ext cx="2180880" cy="1285560"/>
            <a:chOff x="3448080" y="1789200"/>
            <a:chExt cx="2180880" cy="1285560"/>
          </a:xfrm>
        </p:grpSpPr>
        <p:sp>
          <p:nvSpPr>
            <p:cNvPr id="884" name="AutoShape 35"/>
            <p:cNvSpPr/>
            <p:nvPr/>
          </p:nvSpPr>
          <p:spPr>
            <a:xfrm>
              <a:off x="3448080" y="1789200"/>
              <a:ext cx="21808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Object 36"/>
                <p:cNvSpPr txBox="1"/>
                <p:nvPr/>
              </p:nvSpPr>
              <p:spPr>
                <a:xfrm>
                  <a:off x="3615840" y="1964880"/>
                  <a:ext cx="174528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Group 37"/>
          <p:cNvGrpSpPr/>
          <p:nvPr/>
        </p:nvGrpSpPr>
        <p:grpSpPr>
          <a:xfrm>
            <a:off x="6014880" y="1789200"/>
            <a:ext cx="2182680" cy="1285560"/>
            <a:chOff x="6014880" y="1789200"/>
            <a:chExt cx="2182680" cy="1285560"/>
          </a:xfrm>
        </p:grpSpPr>
        <p:sp>
          <p:nvSpPr>
            <p:cNvPr id="887" name="AutoShape 38"/>
            <p:cNvSpPr/>
            <p:nvPr/>
          </p:nvSpPr>
          <p:spPr>
            <a:xfrm>
              <a:off x="6014880" y="1789200"/>
              <a:ext cx="2182680" cy="12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Object 39"/>
                <p:cNvSpPr txBox="1"/>
                <p:nvPr/>
              </p:nvSpPr>
              <p:spPr>
                <a:xfrm>
                  <a:off x="6154200" y="1964880"/>
                  <a:ext cx="180576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AutoShape 18"/>
          <p:cNvSpPr/>
          <p:nvPr/>
        </p:nvSpPr>
        <p:spPr>
          <a:xfrm>
            <a:off x="237960" y="2798640"/>
            <a:ext cx="735120" cy="482760"/>
          </a:xfrm>
          <a:prstGeom prst="wedgeRoundRectCallout">
            <a:avLst>
              <a:gd name="adj1" fmla="val 46416"/>
              <a:gd name="adj2" fmla="val -9575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21"/>
          <p:cNvGrpSpPr/>
          <p:nvPr/>
        </p:nvGrpSpPr>
        <p:grpSpPr>
          <a:xfrm>
            <a:off x="954000" y="1780920"/>
            <a:ext cx="307800" cy="1693800"/>
            <a:chOff x="954000" y="1780920"/>
            <a:chExt cx="307800" cy="1693800"/>
          </a:xfrm>
        </p:grpSpPr>
        <p:sp>
          <p:nvSpPr>
            <p:cNvPr id="891" name="Freeform 19"/>
            <p:cNvSpPr/>
            <p:nvPr/>
          </p:nvSpPr>
          <p:spPr>
            <a:xfrm rot="16200000">
              <a:off x="684720" y="2897640"/>
              <a:ext cx="848880" cy="30492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 flipH="1" rot="16200000">
              <a:off x="681840" y="2053080"/>
              <a:ext cx="848880" cy="304560"/>
            </a:xfrm>
            <a:custGeom>
              <a:avLst/>
              <a:gdLst>
                <a:gd name="textAreaLeft" fmla="*/ 360 w 848880"/>
                <a:gd name="textAreaRight" fmla="*/ 849600 w 8488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852" h="192">
                  <a:moveTo>
                    <a:pt x="4" y="192"/>
                  </a:moveTo>
                  <a:cubicBezTo>
                    <a:pt x="8" y="154"/>
                    <a:pt x="0" y="150"/>
                    <a:pt x="50" y="106"/>
                  </a:cubicBezTo>
                  <a:cubicBezTo>
                    <a:pt x="154" y="40"/>
                    <a:pt x="593" y="91"/>
                    <a:pt x="736" y="72"/>
                  </a:cubicBezTo>
                  <a:cubicBezTo>
                    <a:pt x="796" y="64"/>
                    <a:pt x="805" y="28"/>
                    <a:pt x="8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55"/>
          <p:cNvGrpSpPr/>
          <p:nvPr/>
        </p:nvGrpSpPr>
        <p:grpSpPr>
          <a:xfrm>
            <a:off x="3795840" y="946080"/>
            <a:ext cx="3983040" cy="663480"/>
            <a:chOff x="3795840" y="946080"/>
            <a:chExt cx="3983040" cy="663480"/>
          </a:xfrm>
        </p:grpSpPr>
        <p:sp>
          <p:nvSpPr>
            <p:cNvPr id="894" name="Text Box 56"/>
            <p:cNvSpPr/>
            <p:nvPr/>
          </p:nvSpPr>
          <p:spPr>
            <a:xfrm>
              <a:off x="4262760" y="1052280"/>
              <a:ext cx="351612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57"/>
            <p:cNvSpPr/>
            <p:nvPr/>
          </p:nvSpPr>
          <p:spPr>
            <a:xfrm>
              <a:off x="3795840" y="946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25"/>
          <p:cNvSpPr/>
          <p:nvPr/>
        </p:nvSpPr>
        <p:spPr>
          <a:xfrm>
            <a:off x="716040" y="4516560"/>
            <a:ext cx="7227720" cy="187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27"/>
          <p:cNvSpPr/>
          <p:nvPr/>
        </p:nvSpPr>
        <p:spPr>
          <a:xfrm>
            <a:off x="2568600" y="4592520"/>
            <a:ext cx="142092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28"/>
          <p:cNvSpPr/>
          <p:nvPr/>
        </p:nvSpPr>
        <p:spPr>
          <a:xfrm>
            <a:off x="4189320" y="4592520"/>
            <a:ext cx="14400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29"/>
          <p:cNvSpPr/>
          <p:nvPr/>
        </p:nvSpPr>
        <p:spPr>
          <a:xfrm>
            <a:off x="3395520" y="5969160"/>
            <a:ext cx="468360" cy="415800"/>
          </a:xfrm>
          <a:prstGeom prst="wedgeRoundRectCallout">
            <a:avLst>
              <a:gd name="adj1" fmla="val -37458"/>
              <a:gd name="adj2" fmla="val -95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1"/>
          <p:cNvSpPr/>
          <p:nvPr/>
        </p:nvSpPr>
        <p:spPr>
          <a:xfrm>
            <a:off x="5870520" y="4592520"/>
            <a:ext cx="140976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2"/>
          <p:cNvSpPr/>
          <p:nvPr/>
        </p:nvSpPr>
        <p:spPr>
          <a:xfrm>
            <a:off x="4795920" y="5996160"/>
            <a:ext cx="468360" cy="415800"/>
          </a:xfrm>
          <a:prstGeom prst="wedgeRoundRectCallout">
            <a:avLst>
              <a:gd name="adj1" fmla="val -57458"/>
              <a:gd name="adj2" fmla="val -102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3"/>
          <p:cNvSpPr/>
          <p:nvPr/>
        </p:nvSpPr>
        <p:spPr>
          <a:xfrm>
            <a:off x="6469200" y="6004080"/>
            <a:ext cx="468000" cy="415800"/>
          </a:xfrm>
          <a:prstGeom prst="wedgeRoundRectCallout">
            <a:avLst>
              <a:gd name="adj1" fmla="val -67287"/>
              <a:gd name="adj2" fmla="val -104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755640" y="4545000"/>
            <a:ext cx="7188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hy,   x1+hx,   y1+hy)  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2*hy, x1+2*hx, y1+2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( x1, y1+3*hy, x1+3*hx, y1+3*hy)</a:t>
            </a: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оугольник 5"/>
          <p:cNvSpPr/>
          <p:nvPr/>
        </p:nvSpPr>
        <p:spPr>
          <a:xfrm>
            <a:off x="3485520" y="309564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оугольник 43"/>
          <p:cNvSpPr/>
          <p:nvPr/>
        </p:nvSpPr>
        <p:spPr>
          <a:xfrm>
            <a:off x="3807720" y="3510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1+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1+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5"/>
          <p:cNvSpPr/>
          <p:nvPr/>
        </p:nvSpPr>
        <p:spPr>
          <a:xfrm>
            <a:off x="6137280" y="30956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45"/>
          <p:cNvSpPr/>
          <p:nvPr/>
        </p:nvSpPr>
        <p:spPr>
          <a:xfrm>
            <a:off x="6453720" y="35100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 h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+= 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олилиния 46"/>
          <p:cNvSpPr/>
          <p:nvPr/>
        </p:nvSpPr>
        <p:spPr>
          <a:xfrm>
            <a:off x="1371600" y="1841400"/>
            <a:ext cx="127080" cy="2793960"/>
          </a:xfrm>
          <a:custGeom>
            <a:avLst/>
            <a:gdLst>
              <a:gd name="textAreaLeft" fmla="*/ 0 w 127080"/>
              <a:gd name="textAreaRight" fmla="*/ 127440 w 127080"/>
              <a:gd name="textAreaTop" fmla="*/ 0 h 2793960"/>
              <a:gd name="textAreaBottom" fmla="*/ 2794320 h 2793960"/>
            </a:gdLst>
            <a:ahLst/>
            <a:rect l="textAreaLeft" t="textAreaTop" r="textAreaRight" b="textAreaBottom"/>
            <a:pathLst>
              <a:path w="152400" h="977900">
                <a:moveTo>
                  <a:pt x="0" y="977900"/>
                </a:move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4E13-271C-4CAB-9751-EE35223D68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369720" y="812880"/>
            <a:ext cx="8420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полнить штрихов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Группа 16"/>
          <p:cNvGrpSpPr/>
          <p:nvPr/>
        </p:nvGrpSpPr>
        <p:grpSpPr>
          <a:xfrm>
            <a:off x="3298320" y="4272120"/>
            <a:ext cx="2094120" cy="1801800"/>
            <a:chOff x="3298320" y="4272120"/>
            <a:chExt cx="2094120" cy="1801800"/>
          </a:xfrm>
        </p:grpSpPr>
        <p:sp>
          <p:nvSpPr>
            <p:cNvPr id="914" name="Rectangle 8"/>
            <p:cNvSpPr/>
            <p:nvPr/>
          </p:nvSpPr>
          <p:spPr>
            <a:xfrm rot="5400000">
              <a:off x="3449520" y="4131000"/>
              <a:ext cx="1801800" cy="208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1"/>
            <p:cNvSpPr/>
            <p:nvPr/>
          </p:nvSpPr>
          <p:spPr>
            <a:xfrm flipH="1">
              <a:off x="3298320" y="51685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3"/>
            <p:cNvSpPr/>
            <p:nvPr/>
          </p:nvSpPr>
          <p:spPr>
            <a:xfrm flipH="1">
              <a:off x="3298320" y="45673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14"/>
            <p:cNvSpPr/>
            <p:nvPr/>
          </p:nvSpPr>
          <p:spPr>
            <a:xfrm flipH="1">
              <a:off x="3298320" y="486792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5"/>
            <p:cNvSpPr/>
            <p:nvPr/>
          </p:nvSpPr>
          <p:spPr>
            <a:xfrm flipH="1">
              <a:off x="3298320" y="54680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6"/>
            <p:cNvSpPr/>
            <p:nvPr/>
          </p:nvSpPr>
          <p:spPr>
            <a:xfrm flipH="1">
              <a:off x="3298320" y="5768640"/>
              <a:ext cx="20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Группа 16"/>
          <p:cNvGrpSpPr/>
          <p:nvPr/>
        </p:nvGrpSpPr>
        <p:grpSpPr>
          <a:xfrm>
            <a:off x="3471480" y="1749240"/>
            <a:ext cx="1801800" cy="1430280"/>
            <a:chOff x="3471480" y="1749240"/>
            <a:chExt cx="1801800" cy="1430280"/>
          </a:xfrm>
        </p:grpSpPr>
        <p:sp>
          <p:nvSpPr>
            <p:cNvPr id="921" name="Rectangle 8"/>
            <p:cNvSpPr/>
            <p:nvPr/>
          </p:nvSpPr>
          <p:spPr>
            <a:xfrm rot="10800000">
              <a:off x="3471480" y="1756080"/>
              <a:ext cx="1801800" cy="142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 flipV="1">
              <a:off x="43768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13"/>
            <p:cNvSpPr/>
            <p:nvPr/>
          </p:nvSpPr>
          <p:spPr>
            <a:xfrm flipV="1">
              <a:off x="49780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 flipV="1">
              <a:off x="467748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 flipV="1">
              <a:off x="40773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6"/>
            <p:cNvSpPr/>
            <p:nvPr/>
          </p:nvSpPr>
          <p:spPr>
            <a:xfrm flipV="1">
              <a:off x="3776760" y="1749240"/>
              <a:ext cx="0" cy="14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1B34-E6E0-419E-8F3C-7392B98CFF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69720" y="85896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Picture 10" descr=""/>
          <p:cNvPicPr/>
          <p:nvPr/>
        </p:nvPicPr>
        <p:blipFill>
          <a:blip r:embed="rId1"/>
          <a:stretch/>
        </p:blipFill>
        <p:spPr>
          <a:xfrm>
            <a:off x="2505240" y="4611600"/>
            <a:ext cx="3776400" cy="177012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5"/>
          <p:cNvSpPr/>
          <p:nvPr/>
        </p:nvSpPr>
        <p:spPr>
          <a:xfrm>
            <a:off x="369720" y="3625920"/>
            <a:ext cx="842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сти с клавиатуры количество лини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ить фигу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9" descr=""/>
          <p:cNvPicPr/>
          <p:nvPr/>
        </p:nvPicPr>
        <p:blipFill>
          <a:blip r:embed="rId2"/>
          <a:stretch/>
        </p:blipFill>
        <p:spPr>
          <a:xfrm>
            <a:off x="3252960" y="1684440"/>
            <a:ext cx="2247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Закрашивание обла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F7E-5E2F-4AFD-967B-EC8E7272E8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Группа 29"/>
          <p:cNvGrpSpPr/>
          <p:nvPr/>
        </p:nvGrpSpPr>
        <p:grpSpPr>
          <a:xfrm>
            <a:off x="1770120" y="765000"/>
            <a:ext cx="1074600" cy="849600"/>
            <a:chOff x="1770120" y="765000"/>
            <a:chExt cx="1074600" cy="849600"/>
          </a:xfrm>
        </p:grpSpPr>
        <p:sp>
          <p:nvSpPr>
            <p:cNvPr id="937" name="Line 27"/>
            <p:cNvSpPr/>
            <p:nvPr/>
          </p:nvSpPr>
          <p:spPr>
            <a:xfrm flipV="1">
              <a:off x="194040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27"/>
            <p:cNvSpPr/>
            <p:nvPr/>
          </p:nvSpPr>
          <p:spPr>
            <a:xfrm flipV="1">
              <a:off x="2365920" y="118116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8"/>
            <p:cNvSpPr/>
            <p:nvPr/>
          </p:nvSpPr>
          <p:spPr>
            <a:xfrm>
              <a:off x="1770120" y="765000"/>
              <a:ext cx="3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8"/>
            <p:cNvSpPr/>
            <p:nvPr/>
          </p:nvSpPr>
          <p:spPr>
            <a:xfrm>
              <a:off x="2112480" y="76500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ливка разными цве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93ED-11A5-4D73-BB15-D3F928F6922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17"/>
          <p:cNvGrpSpPr/>
          <p:nvPr/>
        </p:nvGrpSpPr>
        <p:grpSpPr>
          <a:xfrm>
            <a:off x="658800" y="1363680"/>
            <a:ext cx="2558880" cy="1736640"/>
            <a:chOff x="658800" y="1363680"/>
            <a:chExt cx="2558880" cy="1736640"/>
          </a:xfrm>
        </p:grpSpPr>
        <p:sp>
          <p:nvSpPr>
            <p:cNvPr id="944" name="Rectangle 5"/>
            <p:cNvSpPr/>
            <p:nvPr/>
          </p:nvSpPr>
          <p:spPr>
            <a:xfrm>
              <a:off x="658800" y="1363680"/>
              <a:ext cx="428400" cy="1736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6"/>
            <p:cNvSpPr/>
            <p:nvPr/>
          </p:nvSpPr>
          <p:spPr>
            <a:xfrm>
              <a:off x="1084320" y="1363680"/>
              <a:ext cx="428400" cy="17366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7"/>
            <p:cNvSpPr/>
            <p:nvPr/>
          </p:nvSpPr>
          <p:spPr>
            <a:xfrm>
              <a:off x="1512720" y="1363680"/>
              <a:ext cx="428760" cy="17366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"/>
            <p:cNvSpPr/>
            <p:nvPr/>
          </p:nvSpPr>
          <p:spPr>
            <a:xfrm>
              <a:off x="1935000" y="1363680"/>
              <a:ext cx="428760" cy="17366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"/>
            <p:cNvSpPr/>
            <p:nvPr/>
          </p:nvSpPr>
          <p:spPr>
            <a:xfrm>
              <a:off x="2360520" y="1363680"/>
              <a:ext cx="428760" cy="17366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"/>
            <p:cNvSpPr/>
            <p:nvPr/>
          </p:nvSpPr>
          <p:spPr>
            <a:xfrm>
              <a:off x="2789280" y="1363680"/>
              <a:ext cx="428400" cy="173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Text Box 18"/>
          <p:cNvSpPr/>
          <p:nvPr/>
        </p:nvSpPr>
        <p:spPr>
          <a:xfrm>
            <a:off x="254160" y="765000"/>
            <a:ext cx="113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20"/>
          <p:cNvSpPr/>
          <p:nvPr/>
        </p:nvSpPr>
        <p:spPr>
          <a:xfrm>
            <a:off x="3135240" y="304632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21"/>
          <p:cNvSpPr/>
          <p:nvPr/>
        </p:nvSpPr>
        <p:spPr>
          <a:xfrm>
            <a:off x="617400" y="132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9"/>
          <p:cNvSpPr/>
          <p:nvPr/>
        </p:nvSpPr>
        <p:spPr>
          <a:xfrm>
            <a:off x="3294000" y="2867040"/>
            <a:ext cx="11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Группа 28"/>
          <p:cNvGrpSpPr/>
          <p:nvPr/>
        </p:nvGrpSpPr>
        <p:grpSpPr>
          <a:xfrm>
            <a:off x="1935000" y="3060720"/>
            <a:ext cx="424080" cy="850320"/>
            <a:chOff x="1935000" y="3060720"/>
            <a:chExt cx="424080" cy="850320"/>
          </a:xfrm>
        </p:grpSpPr>
        <p:sp>
          <p:nvSpPr>
            <p:cNvPr id="955" name="Line 25"/>
            <p:cNvSpPr/>
            <p:nvPr/>
          </p:nvSpPr>
          <p:spPr>
            <a:xfrm>
              <a:off x="1944360" y="3398760"/>
              <a:ext cx="41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26"/>
            <p:cNvSpPr/>
            <p:nvPr/>
          </p:nvSpPr>
          <p:spPr>
            <a:xfrm flipV="1">
              <a:off x="193500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27"/>
            <p:cNvSpPr/>
            <p:nvPr/>
          </p:nvSpPr>
          <p:spPr>
            <a:xfrm flipV="1">
              <a:off x="2359080" y="306072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8"/>
            <p:cNvSpPr/>
            <p:nvPr/>
          </p:nvSpPr>
          <p:spPr>
            <a:xfrm>
              <a:off x="1991160" y="3451320"/>
              <a:ext cx="36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Прямоугольник 23"/>
          <p:cNvSpPr/>
          <p:nvPr/>
        </p:nvSpPr>
        <p:spPr>
          <a:xfrm>
            <a:off x="1936800" y="1365120"/>
            <a:ext cx="425520" cy="17337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2"/>
          <p:cNvSpPr/>
          <p:nvPr/>
        </p:nvSpPr>
        <p:spPr>
          <a:xfrm>
            <a:off x="425520" y="3868560"/>
            <a:ext cx="6261120" cy="2493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x1; c =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 += h; c += h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22"/>
          <p:cNvSpPr/>
          <p:nvPr/>
        </p:nvSpPr>
        <p:spPr>
          <a:xfrm>
            <a:off x="4094280" y="1160640"/>
            <a:ext cx="4660920" cy="1551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c, c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x, y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x+h, y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18"/>
          <p:cNvSpPr/>
          <p:nvPr/>
        </p:nvSpPr>
        <p:spPr>
          <a:xfrm>
            <a:off x="5745240" y="434880"/>
            <a:ext cx="2651040" cy="482760"/>
          </a:xfrm>
          <a:prstGeom prst="wedgeRoundRectCallout">
            <a:avLst>
              <a:gd name="adj1" fmla="val -10393"/>
              <a:gd name="adj2" fmla="val 128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ый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G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8"/>
          <p:cNvSpPr/>
          <p:nvPr/>
        </p:nvSpPr>
        <p:spPr>
          <a:xfrm>
            <a:off x="2514600" y="1600200"/>
            <a:ext cx="1380960" cy="482760"/>
          </a:xfrm>
          <a:prstGeom prst="wedgeRoundRectCallout">
            <a:avLst>
              <a:gd name="adj1" fmla="val -44439"/>
              <a:gd name="adj2" fmla="val 140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5"/>
          <p:cNvSpPr/>
          <p:nvPr/>
        </p:nvSpPr>
        <p:spPr>
          <a:xfrm>
            <a:off x="4523400" y="277488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Шаг изменения ц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Прямоугольник 35"/>
          <p:cNvSpPr/>
          <p:nvPr/>
        </p:nvSpPr>
        <p:spPr>
          <a:xfrm>
            <a:off x="4843080" y="31892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c = 255 //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44"/>
          <p:cNvGrpSpPr/>
          <p:nvPr/>
        </p:nvGrpSpPr>
        <p:grpSpPr>
          <a:xfrm>
            <a:off x="5373720" y="2646360"/>
            <a:ext cx="1121760" cy="1224000"/>
            <a:chOff x="5373720" y="2646360"/>
            <a:chExt cx="1121760" cy="1224000"/>
          </a:xfrm>
        </p:grpSpPr>
        <p:sp>
          <p:nvSpPr>
            <p:cNvPr id="200" name="Line 17"/>
            <p:cNvSpPr/>
            <p:nvPr/>
          </p:nvSpPr>
          <p:spPr>
            <a:xfrm flipH="1">
              <a:off x="5373720" y="2655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 flipH="1">
              <a:off x="5373720" y="3870360"/>
              <a:ext cx="50400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5704920" y="264636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42"/>
            <p:cNvSpPr/>
            <p:nvPr/>
          </p:nvSpPr>
          <p:spPr>
            <a:xfrm>
              <a:off x="5720400" y="29678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Равнобедренный треугольник 11"/>
          <p:cNvSpPr/>
          <p:nvPr/>
        </p:nvSpPr>
        <p:spPr>
          <a:xfrm>
            <a:off x="2952720" y="2043000"/>
            <a:ext cx="2425680" cy="6066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Равнобедренный треугольник 12"/>
          <p:cNvSpPr/>
          <p:nvPr/>
        </p:nvSpPr>
        <p:spPr>
          <a:xfrm flipV="1">
            <a:off x="2952720" y="3870360"/>
            <a:ext cx="242568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13"/>
          <p:cNvSpPr/>
          <p:nvPr/>
        </p:nvSpPr>
        <p:spPr>
          <a:xfrm flipV="1" rot="5400000">
            <a:off x="204156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14"/>
          <p:cNvSpPr/>
          <p:nvPr/>
        </p:nvSpPr>
        <p:spPr>
          <a:xfrm flipH="1" flipV="1" rot="16200000">
            <a:off x="5072040" y="2951280"/>
            <a:ext cx="1225440" cy="606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6872-3A50-441B-9860-24F4815881E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1701720" y="1450800"/>
            <a:ext cx="613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1701720" y="1450800"/>
            <a:ext cx="0" cy="410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749160" y="1092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257960" y="9018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74600" y="5097600"/>
            <a:ext cx="4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952720" y="2654280"/>
            <a:ext cx="2425680" cy="121284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17"/>
          <p:cNvGrpSpPr/>
          <p:nvPr/>
        </p:nvGrpSpPr>
        <p:grpSpPr>
          <a:xfrm>
            <a:off x="2952720" y="2647800"/>
            <a:ext cx="2424240" cy="1224000"/>
            <a:chOff x="2952720" y="2647800"/>
            <a:chExt cx="2424240" cy="1224000"/>
          </a:xfrm>
        </p:grpSpPr>
        <p:sp>
          <p:nvSpPr>
            <p:cNvPr id="217" name="Полилиния 15"/>
            <p:cNvSpPr/>
            <p:nvPr/>
          </p:nvSpPr>
          <p:spPr>
            <a:xfrm>
              <a:off x="2952720" y="2647800"/>
              <a:ext cx="2424240" cy="1224000"/>
            </a:xfrm>
            <a:custGeom>
              <a:avLst/>
              <a:gdLst>
                <a:gd name="textAreaLeft" fmla="*/ 0 w 2424240"/>
                <a:gd name="textAreaRight" fmla="*/ 242460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олилиния 16"/>
            <p:cNvSpPr/>
            <p:nvPr/>
          </p:nvSpPr>
          <p:spPr>
            <a:xfrm flipH="1">
              <a:off x="2952720" y="2647800"/>
              <a:ext cx="2424240" cy="1224000"/>
            </a:xfrm>
            <a:custGeom>
              <a:avLst/>
              <a:gdLst>
                <a:gd name="textAreaLeft" fmla="*/ 360 w 2424240"/>
                <a:gd name="textAreaRight" fmla="*/ 2424960 w 242424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424113" h="1223963">
                  <a:moveTo>
                    <a:pt x="0" y="1223963"/>
                  </a:moveTo>
                  <a:lnTo>
                    <a:pt x="24241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1343160" y="209376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378240" y="15019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51160" y="44784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343160" y="3875040"/>
            <a:ext cx="17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330880" y="209376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272200" y="38750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2720" y="2970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012000" y="2970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327480" y="299880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7"/>
          <p:cNvSpPr/>
          <p:nvPr/>
        </p:nvSpPr>
        <p:spPr>
          <a:xfrm>
            <a:off x="500040" y="1604880"/>
            <a:ext cx="2363760" cy="515880"/>
          </a:xfrm>
          <a:prstGeom prst="wedgeRoundRectCallout">
            <a:avLst>
              <a:gd name="adj1" fmla="val 21157"/>
              <a:gd name="adj2" fmla="val 7229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ая прямоугольная выноска 28"/>
          <p:cNvSpPr/>
          <p:nvPr/>
        </p:nvSpPr>
        <p:spPr>
          <a:xfrm>
            <a:off x="2413080" y="4357800"/>
            <a:ext cx="612720" cy="506160"/>
          </a:xfrm>
          <a:prstGeom prst="wedgeRoundRectCallout">
            <a:avLst>
              <a:gd name="adj1" fmla="val 33958"/>
              <a:gd name="adj2" fmla="val -1434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ая прямоугольная выноска 29"/>
          <p:cNvSpPr/>
          <p:nvPr/>
        </p:nvSpPr>
        <p:spPr>
          <a:xfrm>
            <a:off x="5389560" y="4357800"/>
            <a:ext cx="612720" cy="50616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ая прямоугольная выноска 31"/>
          <p:cNvSpPr/>
          <p:nvPr/>
        </p:nvSpPr>
        <p:spPr>
          <a:xfrm>
            <a:off x="4075200" y="1284120"/>
            <a:ext cx="614160" cy="505080"/>
          </a:xfrm>
          <a:prstGeom prst="wedgeRoundRectCallout">
            <a:avLst>
              <a:gd name="adj1" fmla="val -37472"/>
              <a:gd name="adj2" fmla="val 102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ая прямоугольная выноска 32"/>
          <p:cNvSpPr/>
          <p:nvPr/>
        </p:nvSpPr>
        <p:spPr>
          <a:xfrm>
            <a:off x="6205680" y="2948040"/>
            <a:ext cx="612720" cy="504720"/>
          </a:xfrm>
          <a:prstGeom prst="wedgeRoundRectCallout">
            <a:avLst>
              <a:gd name="adj1" fmla="val -88263"/>
              <a:gd name="adj2" fmla="val 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ая прямоугольная выноска 33"/>
          <p:cNvSpPr/>
          <p:nvPr/>
        </p:nvSpPr>
        <p:spPr>
          <a:xfrm>
            <a:off x="1488960" y="2948040"/>
            <a:ext cx="612720" cy="504720"/>
          </a:xfrm>
          <a:prstGeom prst="wedgeRoundRectCallout">
            <a:avLst>
              <a:gd name="adj1" fmla="val 95861"/>
              <a:gd name="adj2" fmla="val 14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ая прямоугольная выноска 34"/>
          <p:cNvSpPr/>
          <p:nvPr/>
        </p:nvSpPr>
        <p:spPr>
          <a:xfrm>
            <a:off x="5427720" y="1916280"/>
            <a:ext cx="612720" cy="50472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43"/>
          <p:cNvGrpSpPr/>
          <p:nvPr/>
        </p:nvGrpSpPr>
        <p:grpSpPr>
          <a:xfrm>
            <a:off x="2962440" y="1857240"/>
            <a:ext cx="2427120" cy="795600"/>
            <a:chOff x="2962440" y="1857240"/>
            <a:chExt cx="2427120" cy="795600"/>
          </a:xfrm>
        </p:grpSpPr>
        <p:sp>
          <p:nvSpPr>
            <p:cNvPr id="236" name="Line 17"/>
            <p:cNvSpPr/>
            <p:nvPr/>
          </p:nvSpPr>
          <p:spPr>
            <a:xfrm>
              <a:off x="296244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5382000" y="2148480"/>
              <a:ext cx="0" cy="5043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2962800" y="2318760"/>
              <a:ext cx="24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Прямоугольник 38"/>
            <p:cNvSpPr/>
            <p:nvPr/>
          </p:nvSpPr>
          <p:spPr>
            <a:xfrm>
              <a:off x="3786120" y="1857240"/>
              <a:ext cx="77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Скругленная прямоугольная выноска 45"/>
          <p:cNvSpPr/>
          <p:nvPr/>
        </p:nvSpPr>
        <p:spPr>
          <a:xfrm>
            <a:off x="4197240" y="4913280"/>
            <a:ext cx="612720" cy="506520"/>
          </a:xfrm>
          <a:prstGeom prst="wedgeRoundRectCallout">
            <a:avLst>
              <a:gd name="adj1" fmla="val -53342"/>
              <a:gd name="adj2" fmla="val -14725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46"/>
          <p:cNvSpPr/>
          <p:nvPr/>
        </p:nvSpPr>
        <p:spPr>
          <a:xfrm>
            <a:off x="4224240" y="2529000"/>
            <a:ext cx="612720" cy="506160"/>
          </a:xfrm>
          <a:prstGeom prst="wedgeRoundRectCallout">
            <a:avLst>
              <a:gd name="adj1" fmla="val -58245"/>
              <a:gd name="adj2" fmla="val 91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47"/>
          <p:cNvSpPr/>
          <p:nvPr/>
        </p:nvSpPr>
        <p:spPr>
          <a:xfrm>
            <a:off x="2911320" y="2612880"/>
            <a:ext cx="98640" cy="100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250-0F29-4A58-8655-CBC60F9353D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11080"/>
            <a:ext cx="84204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3»: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17"/>
          <p:cNvGrpSpPr/>
          <p:nvPr/>
        </p:nvGrpSpPr>
        <p:grpSpPr>
          <a:xfrm>
            <a:off x="3053160" y="1757160"/>
            <a:ext cx="2765160" cy="1508040"/>
            <a:chOff x="3053160" y="1757160"/>
            <a:chExt cx="2765160" cy="1508040"/>
          </a:xfrm>
        </p:grpSpPr>
        <p:sp>
          <p:nvSpPr>
            <p:cNvPr id="971" name="Rectangle 5"/>
            <p:cNvSpPr/>
            <p:nvPr/>
          </p:nvSpPr>
          <p:spPr>
            <a:xfrm rot="10800000">
              <a:off x="5355360" y="1757160"/>
              <a:ext cx="462960" cy="1508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 rot="10800000">
              <a:off x="4895640" y="1757160"/>
              <a:ext cx="462960" cy="150804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 rot="10800000">
              <a:off x="4432320" y="1757160"/>
              <a:ext cx="463320" cy="150804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 rot="10800000">
              <a:off x="3975840" y="1757160"/>
              <a:ext cx="463320" cy="150804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 rot="10800000">
              <a:off x="3516120" y="1757160"/>
              <a:ext cx="463320" cy="150804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 rot="10800000">
              <a:off x="3053160" y="1757160"/>
              <a:ext cx="462960" cy="15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3300480" y="4181400"/>
            <a:ext cx="2376000" cy="2114280"/>
            <a:chOff x="3300480" y="4181400"/>
            <a:chExt cx="2376000" cy="2114280"/>
          </a:xfrm>
        </p:grpSpPr>
        <p:sp>
          <p:nvSpPr>
            <p:cNvPr id="978" name="Rectangle 5"/>
            <p:cNvSpPr/>
            <p:nvPr/>
          </p:nvSpPr>
          <p:spPr>
            <a:xfrm rot="5400000">
              <a:off x="4311360" y="3170160"/>
              <a:ext cx="353880" cy="2376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"/>
            <p:cNvSpPr/>
            <p:nvPr/>
          </p:nvSpPr>
          <p:spPr>
            <a:xfrm rot="5400000">
              <a:off x="4311360" y="3521520"/>
              <a:ext cx="353880" cy="2376000"/>
            </a:xfrm>
            <a:prstGeom prst="rect">
              <a:avLst/>
            </a:prstGeom>
            <a:solidFill>
              <a:srgbClr val="5f5f5f">
                <a:alpha val="7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 rot="5400000">
              <a:off x="4311360" y="3876120"/>
              <a:ext cx="354240" cy="2376000"/>
            </a:xfrm>
            <a:prstGeom prst="rect">
              <a:avLst/>
            </a:prstGeom>
            <a:solidFill>
              <a:srgbClr val="969696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"/>
            <p:cNvSpPr/>
            <p:nvPr/>
          </p:nvSpPr>
          <p:spPr>
            <a:xfrm rot="5400000">
              <a:off x="4311360" y="4224960"/>
              <a:ext cx="354240" cy="2376000"/>
            </a:xfrm>
            <a:prstGeom prst="rect">
              <a:avLst/>
            </a:prstGeom>
            <a:solidFill>
              <a:srgbClr val="c0c0c0">
                <a:alpha val="6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"/>
            <p:cNvSpPr/>
            <p:nvPr/>
          </p:nvSpPr>
          <p:spPr>
            <a:xfrm rot="5400000">
              <a:off x="4311360" y="4576680"/>
              <a:ext cx="354240" cy="2376000"/>
            </a:xfrm>
            <a:prstGeom prst="rect">
              <a:avLst/>
            </a:prstGeom>
            <a:solidFill>
              <a:srgbClr val="dddddd">
                <a:alpha val="5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"/>
            <p:cNvSpPr/>
            <p:nvPr/>
          </p:nvSpPr>
          <p:spPr>
            <a:xfrm rot="5400000">
              <a:off x="4311360" y="4930560"/>
              <a:ext cx="353880" cy="237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1" descr=""/>
          <p:cNvPicPr/>
          <p:nvPr/>
        </p:nvPicPr>
        <p:blipFill>
          <a:blip r:embed="rId1"/>
          <a:stretch/>
        </p:blipFill>
        <p:spPr>
          <a:xfrm>
            <a:off x="1454040" y="1563840"/>
            <a:ext cx="2303640" cy="215244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6A0B-B820-482A-BEE9-4060E024FC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6118200" y="83664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69720" y="811080"/>
            <a:ext cx="842040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6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сти с клавиатуры число полос и построить фигуру, залив все области разным ц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18" descr=""/>
          <p:cNvPicPr/>
          <p:nvPr/>
        </p:nvPicPr>
        <p:blipFill>
          <a:blip r:embed="rId2"/>
          <a:stretch/>
        </p:blipFill>
        <p:spPr>
          <a:xfrm>
            <a:off x="3639960" y="444816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9" descr=""/>
          <p:cNvPicPr/>
          <p:nvPr/>
        </p:nvPicPr>
        <p:blipFill>
          <a:blip r:embed="rId3"/>
          <a:stretch/>
        </p:blipFill>
        <p:spPr>
          <a:xfrm>
            <a:off x="4943520" y="1720800"/>
            <a:ext cx="1979640" cy="1962360"/>
          </a:xfrm>
          <a:prstGeom prst="rect">
            <a:avLst/>
          </a:prstGeom>
          <a:ln w="0">
            <a:noFill/>
          </a:ln>
        </p:spPr>
      </p:pic>
      <p:sp>
        <p:nvSpPr>
          <p:cNvPr id="991" name="Прямоугольник 9"/>
          <p:cNvSpPr/>
          <p:nvPr/>
        </p:nvSpPr>
        <p:spPr>
          <a:xfrm>
            <a:off x="3999600" y="251604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остроение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15B-ED71-4460-B675-89215AA368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ки функ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AF8-4ACF-468D-A2AF-4F11B0BA42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360360" y="844560"/>
            <a:ext cx="8420040" cy="46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Анализ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±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а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задана в математической системе координат, строить надо на экране, указывая координаты в пиксел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Группа 13"/>
          <p:cNvGrpSpPr/>
          <p:nvPr/>
        </p:nvGrpSpPr>
        <p:grpSpPr>
          <a:xfrm>
            <a:off x="5572080" y="1414440"/>
            <a:ext cx="2847960" cy="2678400"/>
            <a:chOff x="5572080" y="1414440"/>
            <a:chExt cx="2847960" cy="2678400"/>
          </a:xfrm>
        </p:grpSpPr>
        <p:sp>
          <p:nvSpPr>
            <p:cNvPr id="999" name="Line 5"/>
            <p:cNvSpPr/>
            <p:nvPr/>
          </p:nvSpPr>
          <p:spPr>
            <a:xfrm flipH="1" flipV="1">
              <a:off x="6977160" y="1681920"/>
              <a:ext cx="7200" cy="21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5572080" y="3638880"/>
              <a:ext cx="282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4"/>
            <p:cNvSpPr/>
            <p:nvPr/>
          </p:nvSpPr>
          <p:spPr>
            <a:xfrm>
              <a:off x="8083440" y="3633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5"/>
            <p:cNvSpPr/>
            <p:nvPr/>
          </p:nvSpPr>
          <p:spPr>
            <a:xfrm>
              <a:off x="6590520" y="1414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Полилиния 12"/>
            <p:cNvSpPr/>
            <p:nvPr/>
          </p:nvSpPr>
          <p:spPr>
            <a:xfrm>
              <a:off x="5826600" y="1857600"/>
              <a:ext cx="2327040" cy="1795680"/>
            </a:xfrm>
            <a:custGeom>
              <a:avLst/>
              <a:gdLst>
                <a:gd name="textAreaLeft" fmla="*/ 0 w 2327040"/>
                <a:gd name="textAreaRight" fmla="*/ 2327400 w 23270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AB5A-9423-4261-AC47-FDB72C55A4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0"/>
          <p:cNvSpPr/>
          <p:nvPr/>
        </p:nvSpPr>
        <p:spPr>
          <a:xfrm>
            <a:off x="2860560" y="305604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2"/>
          <p:cNvSpPr/>
          <p:nvPr/>
        </p:nvSpPr>
        <p:spPr>
          <a:xfrm flipV="1">
            <a:off x="2873520" y="3309840"/>
            <a:ext cx="0" cy="1044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3"/>
          <p:cNvSpPr/>
          <p:nvPr/>
        </p:nvSpPr>
        <p:spPr>
          <a:xfrm flipH="1">
            <a:off x="1927080" y="3290760"/>
            <a:ext cx="936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6"/>
          <p:cNvSpPr/>
          <p:nvPr/>
        </p:nvSpPr>
        <p:spPr>
          <a:xfrm>
            <a:off x="2232000" y="2865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7"/>
          <p:cNvSpPr/>
          <p:nvPr/>
        </p:nvSpPr>
        <p:spPr>
          <a:xfrm>
            <a:off x="3051000" y="363384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8"/>
          <p:cNvSpPr/>
          <p:nvPr/>
        </p:nvSpPr>
        <p:spPr>
          <a:xfrm>
            <a:off x="912960" y="853920"/>
            <a:ext cx="30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9"/>
          <p:cNvSpPr/>
          <p:nvPr/>
        </p:nvSpPr>
        <p:spPr>
          <a:xfrm>
            <a:off x="4930920" y="873000"/>
            <a:ext cx="39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ая система координат (пикс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0"/>
          <p:cNvSpPr/>
          <p:nvPr/>
        </p:nvSpPr>
        <p:spPr>
          <a:xfrm>
            <a:off x="5241960" y="2241720"/>
            <a:ext cx="3224160" cy="28558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6"/>
          <p:cNvSpPr/>
          <p:nvPr/>
        </p:nvSpPr>
        <p:spPr>
          <a:xfrm>
            <a:off x="7635960" y="3236760"/>
            <a:ext cx="12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28"/>
          <p:cNvSpPr/>
          <p:nvPr/>
        </p:nvSpPr>
        <p:spPr>
          <a:xfrm flipV="1">
            <a:off x="7704000" y="2234880"/>
            <a:ext cx="0" cy="101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29"/>
          <p:cNvSpPr/>
          <p:nvPr/>
        </p:nvSpPr>
        <p:spPr>
          <a:xfrm flipH="1">
            <a:off x="5230800" y="329724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30"/>
          <p:cNvSpPr/>
          <p:nvPr/>
        </p:nvSpPr>
        <p:spPr>
          <a:xfrm>
            <a:off x="6078600" y="2833560"/>
            <a:ext cx="49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1"/>
          <p:cNvSpPr/>
          <p:nvPr/>
        </p:nvSpPr>
        <p:spPr>
          <a:xfrm>
            <a:off x="7272360" y="2495520"/>
            <a:ext cx="49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32"/>
          <p:cNvSpPr/>
          <p:nvPr/>
        </p:nvSpPr>
        <p:spPr>
          <a:xfrm>
            <a:off x="4538520" y="1835280"/>
            <a:ext cx="8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33"/>
          <p:cNvSpPr/>
          <p:nvPr/>
        </p:nvSpPr>
        <p:spPr>
          <a:xfrm>
            <a:off x="1257480" y="433548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4"/>
          <p:cNvSpPr/>
          <p:nvPr/>
        </p:nvSpPr>
        <p:spPr>
          <a:xfrm flipV="1">
            <a:off x="5241960" y="18633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5"/>
          <p:cNvSpPr/>
          <p:nvPr/>
        </p:nvSpPr>
        <p:spPr>
          <a:xfrm flipV="1">
            <a:off x="6775560" y="187920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6"/>
          <p:cNvSpPr/>
          <p:nvPr/>
        </p:nvSpPr>
        <p:spPr>
          <a:xfrm>
            <a:off x="5254560" y="197316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7"/>
          <p:cNvSpPr/>
          <p:nvPr/>
        </p:nvSpPr>
        <p:spPr>
          <a:xfrm>
            <a:off x="5715000" y="1528920"/>
            <a:ext cx="4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8"/>
          <p:cNvSpPr/>
          <p:nvPr/>
        </p:nvSpPr>
        <p:spPr>
          <a:xfrm flipH="1">
            <a:off x="4638600" y="22446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9"/>
          <p:cNvSpPr/>
          <p:nvPr/>
        </p:nvSpPr>
        <p:spPr>
          <a:xfrm flipH="1">
            <a:off x="4638600" y="435924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40"/>
          <p:cNvSpPr/>
          <p:nvPr/>
        </p:nvSpPr>
        <p:spPr>
          <a:xfrm flipV="1">
            <a:off x="4762440" y="2235240"/>
            <a:ext cx="0" cy="212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1"/>
          <p:cNvSpPr/>
          <p:nvPr/>
        </p:nvSpPr>
        <p:spPr>
          <a:xfrm>
            <a:off x="4200480" y="2562120"/>
            <a:ext cx="5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2"/>
          <p:cNvSpPr/>
          <p:nvPr/>
        </p:nvSpPr>
        <p:spPr>
          <a:xfrm>
            <a:off x="479520" y="499104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сшта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ина изображения единичного отрезка на эк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3"/>
          <p:cNvSpPr/>
          <p:nvPr/>
        </p:nvSpPr>
        <p:spPr>
          <a:xfrm>
            <a:off x="5683320" y="5243400"/>
            <a:ext cx="2104920" cy="113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urier New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Группа 47"/>
          <p:cNvGrpSpPr/>
          <p:nvPr/>
        </p:nvGrpSpPr>
        <p:grpSpPr>
          <a:xfrm>
            <a:off x="390600" y="1946160"/>
            <a:ext cx="3089160" cy="2866320"/>
            <a:chOff x="390600" y="1946160"/>
            <a:chExt cx="3089160" cy="2866320"/>
          </a:xfrm>
        </p:grpSpPr>
        <p:sp>
          <p:nvSpPr>
            <p:cNvPr id="1032" name="Line 5"/>
            <p:cNvSpPr/>
            <p:nvPr/>
          </p:nvSpPr>
          <p:spPr>
            <a:xfrm flipH="1" flipV="1">
              <a:off x="191448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6"/>
            <p:cNvSpPr/>
            <p:nvPr/>
          </p:nvSpPr>
          <p:spPr>
            <a:xfrm>
              <a:off x="390600" y="4359240"/>
              <a:ext cx="306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14"/>
            <p:cNvSpPr/>
            <p:nvPr/>
          </p:nvSpPr>
          <p:spPr>
            <a:xfrm>
              <a:off x="3114720" y="43527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15"/>
            <p:cNvSpPr/>
            <p:nvPr/>
          </p:nvSpPr>
          <p:spPr>
            <a:xfrm>
              <a:off x="1495440" y="1946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лилиния 46"/>
            <p:cNvSpPr/>
            <p:nvPr/>
          </p:nvSpPr>
          <p:spPr>
            <a:xfrm>
              <a:off x="666720" y="2427120"/>
              <a:ext cx="2524320" cy="1947960"/>
            </a:xfrm>
            <a:custGeom>
              <a:avLst/>
              <a:gdLst>
                <a:gd name="textAreaLeft" fmla="*/ 0 w 2524320"/>
                <a:gd name="textAreaRight" fmla="*/ 2524680 w 25243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Группа 48"/>
          <p:cNvGrpSpPr/>
          <p:nvPr/>
        </p:nvGrpSpPr>
        <p:grpSpPr>
          <a:xfrm>
            <a:off x="5248440" y="2236680"/>
            <a:ext cx="3063600" cy="2379600"/>
            <a:chOff x="5248440" y="2236680"/>
            <a:chExt cx="3063600" cy="2379600"/>
          </a:xfrm>
        </p:grpSpPr>
        <p:sp>
          <p:nvSpPr>
            <p:cNvPr id="1038" name="Line 5"/>
            <p:cNvSpPr/>
            <p:nvPr/>
          </p:nvSpPr>
          <p:spPr>
            <a:xfrm flipH="1" flipV="1">
              <a:off x="6772320" y="2236680"/>
              <a:ext cx="7920" cy="23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6"/>
            <p:cNvSpPr/>
            <p:nvPr/>
          </p:nvSpPr>
          <p:spPr>
            <a:xfrm>
              <a:off x="5248440" y="4359240"/>
              <a:ext cx="306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Полилиния 53"/>
            <p:cNvSpPr/>
            <p:nvPr/>
          </p:nvSpPr>
          <p:spPr>
            <a:xfrm>
              <a:off x="5524560" y="2427120"/>
              <a:ext cx="2523960" cy="1947960"/>
            </a:xfrm>
            <a:custGeom>
              <a:avLst/>
              <a:gdLst>
                <a:gd name="textAreaLeft" fmla="*/ 0 w 2523960"/>
                <a:gd name="textAreaRight" fmla="*/ 2524320 w 252396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Oval 11"/>
          <p:cNvSpPr/>
          <p:nvPr/>
        </p:nvSpPr>
        <p:spPr>
          <a:xfrm>
            <a:off x="282744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1"/>
          <p:cNvSpPr/>
          <p:nvPr/>
        </p:nvSpPr>
        <p:spPr>
          <a:xfrm>
            <a:off x="7674120" y="32418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43"/>
          <p:cNvSpPr/>
          <p:nvPr/>
        </p:nvSpPr>
        <p:spPr>
          <a:xfrm>
            <a:off x="6456240" y="5165640"/>
            <a:ext cx="2105280" cy="1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4B25-CDAD-4E7E-9F77-23EEF5F0F47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16"/>
          <p:cNvGrpSpPr/>
          <p:nvPr/>
        </p:nvGrpSpPr>
        <p:grpSpPr>
          <a:xfrm>
            <a:off x="1036800" y="936720"/>
            <a:ext cx="4265280" cy="3568680"/>
            <a:chOff x="1036800" y="936720"/>
            <a:chExt cx="4265280" cy="3568680"/>
          </a:xfrm>
        </p:grpSpPr>
        <p:sp>
          <p:nvSpPr>
            <p:cNvPr id="1047" name="Rectangle 20"/>
            <p:cNvSpPr/>
            <p:nvPr/>
          </p:nvSpPr>
          <p:spPr>
            <a:xfrm>
              <a:off x="2077920" y="1649520"/>
              <a:ext cx="3224160" cy="28558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2"/>
            <p:cNvSpPr/>
            <p:nvPr/>
          </p:nvSpPr>
          <p:spPr>
            <a:xfrm>
              <a:off x="1374840" y="1243080"/>
              <a:ext cx="82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4"/>
            <p:cNvSpPr/>
            <p:nvPr/>
          </p:nvSpPr>
          <p:spPr>
            <a:xfrm flipV="1">
              <a:off x="2077920" y="127152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35"/>
            <p:cNvSpPr/>
            <p:nvPr/>
          </p:nvSpPr>
          <p:spPr>
            <a:xfrm flipV="1">
              <a:off x="3611520" y="1287360"/>
              <a:ext cx="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36"/>
            <p:cNvSpPr/>
            <p:nvPr/>
          </p:nvSpPr>
          <p:spPr>
            <a:xfrm>
              <a:off x="2090880" y="1380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7"/>
            <p:cNvSpPr/>
            <p:nvPr/>
          </p:nvSpPr>
          <p:spPr>
            <a:xfrm>
              <a:off x="2550960" y="936720"/>
              <a:ext cx="49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38"/>
            <p:cNvSpPr/>
            <p:nvPr/>
          </p:nvSpPr>
          <p:spPr>
            <a:xfrm flipH="1">
              <a:off x="1474560" y="1652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39"/>
            <p:cNvSpPr/>
            <p:nvPr/>
          </p:nvSpPr>
          <p:spPr>
            <a:xfrm flipH="1">
              <a:off x="1474560" y="3767400"/>
              <a:ext cx="61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40"/>
            <p:cNvSpPr/>
            <p:nvPr/>
          </p:nvSpPr>
          <p:spPr>
            <a:xfrm flipV="1">
              <a:off x="1598760" y="1643040"/>
              <a:ext cx="0" cy="21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Text Box 41"/>
            <p:cNvSpPr/>
            <p:nvPr/>
          </p:nvSpPr>
          <p:spPr>
            <a:xfrm>
              <a:off x="1036800" y="1970280"/>
              <a:ext cx="54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Группа 48"/>
            <p:cNvGrpSpPr/>
            <p:nvPr/>
          </p:nvGrpSpPr>
          <p:grpSpPr>
            <a:xfrm>
              <a:off x="2084400" y="1644480"/>
              <a:ext cx="3063600" cy="2379600"/>
              <a:chOff x="2084400" y="1644480"/>
              <a:chExt cx="3063600" cy="2379600"/>
            </a:xfrm>
          </p:grpSpPr>
          <p:sp>
            <p:nvSpPr>
              <p:cNvPr id="1058" name="Line 5"/>
              <p:cNvSpPr/>
              <p:nvPr/>
            </p:nvSpPr>
            <p:spPr>
              <a:xfrm flipH="1" flipV="1">
                <a:off x="3608280" y="1644480"/>
                <a:ext cx="7920" cy="237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6"/>
              <p:cNvSpPr/>
              <p:nvPr/>
            </p:nvSpPr>
            <p:spPr>
              <a:xfrm>
                <a:off x="2084400" y="3767040"/>
                <a:ext cx="306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0" name="AutoShape 18"/>
          <p:cNvSpPr/>
          <p:nvPr/>
        </p:nvSpPr>
        <p:spPr>
          <a:xfrm>
            <a:off x="870120" y="4005360"/>
            <a:ext cx="1077840" cy="555480"/>
          </a:xfrm>
          <a:prstGeom prst="wedgeRoundRectCallout">
            <a:avLst>
              <a:gd name="adj1" fmla="val 60342"/>
              <a:gd name="adj2" fmla="val -957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18"/>
          <p:cNvSpPr/>
          <p:nvPr/>
        </p:nvSpPr>
        <p:spPr>
          <a:xfrm>
            <a:off x="5203800" y="4005360"/>
            <a:ext cx="1862280" cy="555480"/>
          </a:xfrm>
          <a:prstGeom prst="wedgeRoundRectCallout">
            <a:avLst>
              <a:gd name="adj1" fmla="val -53708"/>
              <a:gd name="adj2" fmla="val -941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Группа 23"/>
          <p:cNvGrpSpPr/>
          <p:nvPr/>
        </p:nvGrpSpPr>
        <p:grpSpPr>
          <a:xfrm>
            <a:off x="3619440" y="2389320"/>
            <a:ext cx="1527120" cy="1364760"/>
            <a:chOff x="3619440" y="2389320"/>
            <a:chExt cx="1527120" cy="1364760"/>
          </a:xfrm>
        </p:grpSpPr>
        <p:grpSp>
          <p:nvGrpSpPr>
            <p:cNvPr id="1063" name="Группа 21"/>
            <p:cNvGrpSpPr/>
            <p:nvPr/>
          </p:nvGrpSpPr>
          <p:grpSpPr>
            <a:xfrm>
              <a:off x="3619440" y="3146760"/>
              <a:ext cx="1527120" cy="607320"/>
              <a:chOff x="3619440" y="3146760"/>
              <a:chExt cx="1527120" cy="607320"/>
            </a:xfrm>
          </p:grpSpPr>
          <p:sp>
            <p:nvSpPr>
              <p:cNvPr id="1064" name="Line 40"/>
              <p:cNvSpPr/>
              <p:nvPr/>
            </p:nvSpPr>
            <p:spPr>
              <a:xfrm flipV="1">
                <a:off x="5146560" y="3146760"/>
                <a:ext cx="0" cy="60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36"/>
              <p:cNvSpPr/>
              <p:nvPr/>
            </p:nvSpPr>
            <p:spPr>
              <a:xfrm>
                <a:off x="3619440" y="3375000"/>
                <a:ext cx="151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AutoShape 18"/>
            <p:cNvSpPr/>
            <p:nvPr/>
          </p:nvSpPr>
          <p:spPr>
            <a:xfrm>
              <a:off x="3944880" y="2389320"/>
              <a:ext cx="947880" cy="555480"/>
            </a:xfrm>
            <a:prstGeom prst="wedgeRoundRectCallout">
              <a:avLst>
                <a:gd name="adj1" fmla="val -22101"/>
                <a:gd name="adj2" fmla="val 126129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AutoShape 18"/>
          <p:cNvSpPr/>
          <p:nvPr/>
        </p:nvSpPr>
        <p:spPr>
          <a:xfrm>
            <a:off x="3957480" y="988920"/>
            <a:ext cx="1078200" cy="554040"/>
          </a:xfrm>
          <a:prstGeom prst="wedgeRoundRectCallout">
            <a:avLst>
              <a:gd name="adj1" fmla="val -80689"/>
              <a:gd name="adj2" fmla="val 7112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8"/>
          <p:cNvSpPr/>
          <p:nvPr/>
        </p:nvSpPr>
        <p:spPr>
          <a:xfrm>
            <a:off x="2876400" y="4444920"/>
            <a:ext cx="1613160" cy="554040"/>
          </a:xfrm>
          <a:prstGeom prst="wedgeRoundRectCallout">
            <a:avLst>
              <a:gd name="adj1" fmla="val -4953"/>
              <a:gd name="adj2" fmla="val -12352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2"/>
          <p:cNvSpPr/>
          <p:nvPr/>
        </p:nvSpPr>
        <p:spPr>
          <a:xfrm>
            <a:off x="903240" y="5257800"/>
            <a:ext cx="7302600" cy="1036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уем оси координ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3A51-DBD0-4771-84A8-75451AC9FF9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558720" y="934920"/>
            <a:ext cx="8240760" cy="4129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raph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 impor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о координат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0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k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масштаб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min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-2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; xmax =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 2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ределы по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, x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5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lin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0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x0, y0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0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0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0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10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10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10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оим по точк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90FB-2AF9-42C9-95D2-4498812224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474840" y="887400"/>
            <a:ext cx="7422840" cy="529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xmin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начальное значение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h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.02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шаг изменения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oin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e, ye)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точка на эк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к следующей точке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4"/>
          <p:cNvSpPr/>
          <p:nvPr/>
        </p:nvSpPr>
        <p:spPr>
          <a:xfrm>
            <a:off x="903240" y="3770280"/>
            <a:ext cx="3341880" cy="99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8"/>
          <p:cNvSpPr/>
          <p:nvPr/>
        </p:nvSpPr>
        <p:spPr>
          <a:xfrm>
            <a:off x="4954680" y="3719520"/>
            <a:ext cx="3619440" cy="876240"/>
          </a:xfrm>
          <a:prstGeom prst="wedgeRoundRectCallout">
            <a:avLst>
              <a:gd name="adj1" fmla="val -75416"/>
              <a:gd name="adj2" fmla="val 12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ные координа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пиксе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10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10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10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10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10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10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единяем точки лин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31A9-043D-4FA1-82C7-4F6735C889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369720" y="812880"/>
            <a:ext cx="842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: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создаём в памяти массив точ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соединяем точки линиями 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2"/>
          <p:cNvSpPr/>
          <p:nvPr/>
        </p:nvSpPr>
        <p:spPr>
          <a:xfrm>
            <a:off x="569880" y="1671480"/>
            <a:ext cx="742176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пустой масс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x &lt;= xm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x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e = x0 + k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e = y0 - k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+=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24"/>
          <p:cNvSpPr/>
          <p:nvPr/>
        </p:nvSpPr>
        <p:spPr>
          <a:xfrm>
            <a:off x="996840" y="4056120"/>
            <a:ext cx="5926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.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 (xe, ye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18"/>
          <p:cNvSpPr/>
          <p:nvPr/>
        </p:nvSpPr>
        <p:spPr>
          <a:xfrm>
            <a:off x="4741920" y="2865600"/>
            <a:ext cx="2811240" cy="874440"/>
          </a:xfrm>
          <a:prstGeom prst="wedgeRoundRectCallout">
            <a:avLst>
              <a:gd name="adj1" fmla="val -37351"/>
              <a:gd name="adj2" fmla="val 1024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ляем точку в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2"/>
          <p:cNvSpPr/>
          <p:nvPr/>
        </p:nvSpPr>
        <p:spPr>
          <a:xfrm>
            <a:off x="569880" y="5199120"/>
            <a:ext cx="7421760" cy="997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da-DK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polylin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points) </a:t>
            </a:r>
            <a:r>
              <a:rPr b="1" lang="da-DK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рисуем лини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рямоугольник 27"/>
          <p:cNvSpPr/>
          <p:nvPr/>
        </p:nvSpPr>
        <p:spPr>
          <a:xfrm>
            <a:off x="568440" y="1662120"/>
            <a:ext cx="2709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oints = [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1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1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10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10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10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45B-0193-42E6-AFAC-7FCF668C87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388800" y="835200"/>
            <a:ext cx="498816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 функции  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Группа 11"/>
          <p:cNvGrpSpPr/>
          <p:nvPr/>
        </p:nvGrpSpPr>
        <p:grpSpPr>
          <a:xfrm>
            <a:off x="5789520" y="966960"/>
            <a:ext cx="2189160" cy="1699920"/>
            <a:chOff x="5789520" y="966960"/>
            <a:chExt cx="2189160" cy="1699920"/>
          </a:xfrm>
        </p:grpSpPr>
        <p:sp>
          <p:nvSpPr>
            <p:cNvPr id="1091" name="Line 5"/>
            <p:cNvSpPr/>
            <p:nvPr/>
          </p:nvSpPr>
          <p:spPr>
            <a:xfrm flipH="1" flipV="1">
              <a:off x="6878160" y="966960"/>
              <a:ext cx="5400" cy="16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"/>
            <p:cNvSpPr/>
            <p:nvPr/>
          </p:nvSpPr>
          <p:spPr>
            <a:xfrm>
              <a:off x="5789520" y="116892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Полилиния 16"/>
            <p:cNvSpPr/>
            <p:nvPr/>
          </p:nvSpPr>
          <p:spPr>
            <a:xfrm flipV="1">
              <a:off x="5986800" y="1161000"/>
              <a:ext cx="1803600" cy="139140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-360 h 1391400"/>
                <a:gd name="textAreaBottom" fmla="*/ 1391400 h 139140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4" name="Object 7"/>
              <p:cNvSpPr txBox="1"/>
              <p:nvPr/>
            </p:nvSpPr>
            <p:spPr>
              <a:xfrm>
                <a:off x="2152800" y="141444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Object 3"/>
              <p:cNvSpPr txBox="1"/>
              <p:nvPr/>
            </p:nvSpPr>
            <p:spPr>
              <a:xfrm>
                <a:off x="1192320" y="4146480"/>
                <a:ext cx="9572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Object 4"/>
              <p:cNvSpPr txBox="1"/>
              <p:nvPr/>
            </p:nvSpPr>
            <p:spPr>
              <a:xfrm>
                <a:off x="2513160" y="4122720"/>
                <a:ext cx="1160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97" name="Группа 20"/>
          <p:cNvGrpSpPr/>
          <p:nvPr/>
        </p:nvGrpSpPr>
        <p:grpSpPr>
          <a:xfrm>
            <a:off x="5789520" y="2982600"/>
            <a:ext cx="2189160" cy="3048120"/>
            <a:chOff x="5789520" y="2982600"/>
            <a:chExt cx="2189160" cy="3048120"/>
          </a:xfrm>
        </p:grpSpPr>
        <p:sp>
          <p:nvSpPr>
            <p:cNvPr id="1098" name="Line 5"/>
            <p:cNvSpPr/>
            <p:nvPr/>
          </p:nvSpPr>
          <p:spPr>
            <a:xfrm flipV="1">
              <a:off x="6838200" y="29826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"/>
            <p:cNvSpPr/>
            <p:nvPr/>
          </p:nvSpPr>
          <p:spPr>
            <a:xfrm>
              <a:off x="5789520" y="4533480"/>
              <a:ext cx="218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Полилиния 23"/>
            <p:cNvSpPr/>
            <p:nvPr/>
          </p:nvSpPr>
          <p:spPr>
            <a:xfrm flipV="1">
              <a:off x="5943240" y="452340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Полилиния 24"/>
            <p:cNvSpPr/>
            <p:nvPr/>
          </p:nvSpPr>
          <p:spPr>
            <a:xfrm>
              <a:off x="5943240" y="3143880"/>
              <a:ext cx="1803600" cy="1391040"/>
            </a:xfrm>
            <a:custGeom>
              <a:avLst/>
              <a:gdLst>
                <a:gd name="textAreaLeft" fmla="*/ 0 w 1803600"/>
                <a:gd name="textAreaRight" fmla="*/ 1803600 w 18036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8B5C-B70A-4422-9DF5-ABBD5BF575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398160" y="809640"/>
            <a:ext cx="67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дключение графического моду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20640" y="1328760"/>
            <a:ext cx="64152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3"/>
          <p:cNvSpPr/>
          <p:nvPr/>
        </p:nvSpPr>
        <p:spPr>
          <a:xfrm>
            <a:off x="5130720" y="1469880"/>
            <a:ext cx="3733920" cy="744840"/>
          </a:xfrm>
          <a:prstGeom prst="wedgeRoundRectCallout">
            <a:avLst>
              <a:gd name="adj1" fmla="val -62407"/>
              <a:gd name="adj2" fmla="val -6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ить все функции моду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88800" y="188928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8"/>
          <p:cNvSpPr/>
          <p:nvPr/>
        </p:nvSpPr>
        <p:spPr>
          <a:xfrm>
            <a:off x="620640" y="2408400"/>
            <a:ext cx="4141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red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984240" y="3003480"/>
            <a:ext cx="79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te, black, gray, navy, blue, cyan, green, yellow, red, orange, brown, maroon, violet, purple, 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387720" y="5419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залив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1"/>
          <p:cNvSpPr/>
          <p:nvPr/>
        </p:nvSpPr>
        <p:spPr>
          <a:xfrm>
            <a:off x="620640" y="593892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3"/>
          <p:cNvSpPr/>
          <p:nvPr/>
        </p:nvSpPr>
        <p:spPr>
          <a:xfrm>
            <a:off x="5779080" y="4349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bit.ly/2mNrko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380520" y="434016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лщина ли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5"/>
          <p:cNvSpPr/>
          <p:nvPr/>
        </p:nvSpPr>
        <p:spPr>
          <a:xfrm>
            <a:off x="620640" y="4859280"/>
            <a:ext cx="5005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Siz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DA7B-83F4-407F-93BD-38D7DE0001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388800" y="835200"/>
            <a:ext cx="589284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2,2]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5" name="Object 7"/>
              <p:cNvSpPr txBox="1"/>
              <p:nvPr/>
            </p:nvSpPr>
            <p:spPr>
              <a:xfrm>
                <a:off x="1174680" y="1300320"/>
                <a:ext cx="95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3"/>
              <p:cNvSpPr txBox="1"/>
              <p:nvPr/>
            </p:nvSpPr>
            <p:spPr>
              <a:xfrm>
                <a:off x="2611440" y="1297080"/>
                <a:ext cx="1160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107" name="Группа 20"/>
          <p:cNvGrpSpPr/>
          <p:nvPr/>
        </p:nvGrpSpPr>
        <p:grpSpPr>
          <a:xfrm>
            <a:off x="1049400" y="2389320"/>
            <a:ext cx="3047760" cy="2187360"/>
            <a:chOff x="1049400" y="2389320"/>
            <a:chExt cx="3047760" cy="2187360"/>
          </a:xfrm>
        </p:grpSpPr>
        <p:sp>
          <p:nvSpPr>
            <p:cNvPr id="1108" name="Line 5"/>
            <p:cNvSpPr/>
            <p:nvPr/>
          </p:nvSpPr>
          <p:spPr>
            <a:xfrm>
              <a:off x="1049400" y="35287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6"/>
            <p:cNvSpPr/>
            <p:nvPr/>
          </p:nvSpPr>
          <p:spPr>
            <a:xfrm flipV="1">
              <a:off x="2547000" y="238932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Полилиния 23"/>
            <p:cNvSpPr/>
            <p:nvPr/>
          </p:nvSpPr>
          <p:spPr>
            <a:xfrm flipH="1" flipV="1" rot="5400000">
              <a:off x="9572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360 h 1391040"/>
                <a:gd name="textAreaBottom" fmla="*/ 139176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Полилиния 24"/>
            <p:cNvSpPr/>
            <p:nvPr/>
          </p:nvSpPr>
          <p:spPr>
            <a:xfrm flipH="1" rot="5400000">
              <a:off x="2339640" y="2826720"/>
              <a:ext cx="1802160" cy="1391040"/>
            </a:xfrm>
            <a:custGeom>
              <a:avLst/>
              <a:gdLst>
                <a:gd name="textAreaLeft" fmla="*/ 360 w 1802160"/>
                <a:gd name="textAreaRight" fmla="*/ 1802880 w 180216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2524125" h="2547937">
                  <a:moveTo>
                    <a:pt x="0" y="0"/>
                  </a:moveTo>
                  <a:cubicBezTo>
                    <a:pt x="146844" y="640556"/>
                    <a:pt x="693738" y="2528888"/>
                    <a:pt x="1247775" y="2524125"/>
                  </a:cubicBezTo>
                  <a:cubicBezTo>
                    <a:pt x="1820862" y="2547937"/>
                    <a:pt x="2172493" y="1259681"/>
                    <a:pt x="2524125" y="28575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ни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D4BC-28CE-4267-A0C7-AB0B2AA471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A97-3BDC-4C0B-8D48-1C34A9EAE6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360360" y="830160"/>
            <a:ext cx="594360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Анимация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animation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живление изображения на экра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и синего квадрата 400 на 400 пикселей слева направо двигается желтый квадрат 20 на 20 пикселей. Программа останавливается, если нажата клавиша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квадрат дошел до границы синей обла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10"/>
          <p:cNvGrpSpPr/>
          <p:nvPr/>
        </p:nvGrpSpPr>
        <p:grpSpPr>
          <a:xfrm>
            <a:off x="6389640" y="885960"/>
            <a:ext cx="2401920" cy="2401920"/>
            <a:chOff x="6389640" y="885960"/>
            <a:chExt cx="2401920" cy="2401920"/>
          </a:xfrm>
        </p:grpSpPr>
        <p:sp>
          <p:nvSpPr>
            <p:cNvPr id="1119" name="Rectangle 7"/>
            <p:cNvSpPr/>
            <p:nvPr/>
          </p:nvSpPr>
          <p:spPr>
            <a:xfrm>
              <a:off x="6389640" y="88596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8"/>
            <p:cNvSpPr/>
            <p:nvPr/>
          </p:nvSpPr>
          <p:spPr>
            <a:xfrm>
              <a:off x="6640560" y="242604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9"/>
            <p:cNvSpPr/>
            <p:nvPr/>
          </p:nvSpPr>
          <p:spPr>
            <a:xfrm flipH="1">
              <a:off x="7000200" y="24544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11"/>
          <p:cNvSpPr/>
          <p:nvPr/>
        </p:nvSpPr>
        <p:spPr>
          <a:xfrm>
            <a:off x="351000" y="5154480"/>
            <a:ext cx="75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ивязка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объе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ется координатам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Группа 25"/>
          <p:cNvGrpSpPr/>
          <p:nvPr/>
        </p:nvGrpSpPr>
        <p:grpSpPr>
          <a:xfrm>
            <a:off x="6137280" y="4253040"/>
            <a:ext cx="2651040" cy="1749240"/>
            <a:chOff x="6137280" y="4253040"/>
            <a:chExt cx="2651040" cy="1749240"/>
          </a:xfrm>
        </p:grpSpPr>
        <p:sp>
          <p:nvSpPr>
            <p:cNvPr id="1124" name="Rectangle 7"/>
            <p:cNvSpPr/>
            <p:nvPr/>
          </p:nvSpPr>
          <p:spPr>
            <a:xfrm>
              <a:off x="6137280" y="4253040"/>
              <a:ext cx="2651040" cy="1749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"/>
            <p:cNvSpPr/>
            <p:nvPr/>
          </p:nvSpPr>
          <p:spPr>
            <a:xfrm>
              <a:off x="6966720" y="4873320"/>
              <a:ext cx="519840" cy="51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8"/>
            <p:cNvSpPr/>
            <p:nvPr/>
          </p:nvSpPr>
          <p:spPr>
            <a:xfrm>
              <a:off x="6341760" y="4360320"/>
              <a:ext cx="95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9"/>
            <p:cNvSpPr/>
            <p:nvPr/>
          </p:nvSpPr>
          <p:spPr>
            <a:xfrm>
              <a:off x="6946560" y="48319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0"/>
            <p:cNvSpPr/>
            <p:nvPr/>
          </p:nvSpPr>
          <p:spPr>
            <a:xfrm>
              <a:off x="7459200" y="5359320"/>
              <a:ext cx="70200" cy="70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11"/>
            <p:cNvSpPr/>
            <p:nvPr/>
          </p:nvSpPr>
          <p:spPr>
            <a:xfrm>
              <a:off x="6763680" y="5495040"/>
              <a:ext cx="193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,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+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аним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5A53-ADE0-4352-919A-F01A1C74B4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Прямоугольник 3"/>
          <p:cNvSpPr/>
          <p:nvPr/>
        </p:nvSpPr>
        <p:spPr>
          <a:xfrm>
            <a:off x="393840" y="819000"/>
            <a:ext cx="735300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объект в точке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ержка на несколько миллисеку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ем координа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шагу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55"/>
          <p:cNvGrpSpPr/>
          <p:nvPr/>
        </p:nvGrpSpPr>
        <p:grpSpPr>
          <a:xfrm>
            <a:off x="685800" y="3359160"/>
            <a:ext cx="7543800" cy="1479960"/>
            <a:chOff x="685800" y="3359160"/>
            <a:chExt cx="7543800" cy="1479960"/>
          </a:xfrm>
        </p:grpSpPr>
        <p:sp>
          <p:nvSpPr>
            <p:cNvPr id="1134" name="Text Box 56"/>
            <p:cNvSpPr/>
            <p:nvPr/>
          </p:nvSpPr>
          <p:spPr>
            <a:xfrm>
              <a:off x="1152720" y="3465360"/>
              <a:ext cx="7076880" cy="13737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ython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се фигуры, из которых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состоит рисунок, –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ъекты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(умеют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перерисовывать себя сами)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57"/>
            <p:cNvSpPr/>
            <p:nvPr/>
          </p:nvSpPr>
          <p:spPr>
            <a:xfrm>
              <a:off x="685800" y="335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Прямоугольник 8"/>
          <p:cNvSpPr/>
          <p:nvPr/>
        </p:nvSpPr>
        <p:spPr>
          <a:xfrm>
            <a:off x="1428840" y="5770440"/>
            <a:ext cx="5514840" cy="52056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dx, 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8"/>
          <p:cNvSpPr/>
          <p:nvPr/>
        </p:nvSpPr>
        <p:spPr>
          <a:xfrm>
            <a:off x="5162400" y="5079960"/>
            <a:ext cx="3313440" cy="488880"/>
          </a:xfrm>
          <a:prstGeom prst="wedgeRoundRectCallout">
            <a:avLst>
              <a:gd name="adj1" fmla="val -28421"/>
              <a:gd name="adj2" fmla="val 1171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щения по ос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8"/>
          <p:cNvSpPr/>
          <p:nvPr/>
        </p:nvSpPr>
        <p:spPr>
          <a:xfrm>
            <a:off x="3362400" y="5079960"/>
            <a:ext cx="1441440" cy="488880"/>
          </a:xfrm>
          <a:prstGeom prst="wedgeRoundRectCallout">
            <a:avLst>
              <a:gd name="adj1" fmla="val 24138"/>
              <a:gd name="adj2" fmla="val 1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482-C9C1-4A3E-8FFF-854CF24EE2B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22"/>
          <p:cNvSpPr/>
          <p:nvPr/>
        </p:nvSpPr>
        <p:spPr>
          <a:xfrm>
            <a:off x="474840" y="887400"/>
            <a:ext cx="7422840" cy="474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8"/>
          <p:cNvSpPr/>
          <p:nvPr/>
        </p:nvSpPr>
        <p:spPr>
          <a:xfrm>
            <a:off x="6381720" y="1103400"/>
            <a:ext cx="1935360" cy="765000"/>
          </a:xfrm>
          <a:prstGeom prst="wedgeRoundRectCallout">
            <a:avLst>
              <a:gd name="adj1" fmla="val -78638"/>
              <a:gd name="adj2" fmla="val 667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и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8"/>
          <p:cNvSpPr/>
          <p:nvPr/>
        </p:nvSpPr>
        <p:spPr>
          <a:xfrm>
            <a:off x="2870280" y="2700360"/>
            <a:ext cx="2587680" cy="763560"/>
          </a:xfrm>
          <a:prstGeom prst="wedgeRoundRectCallout">
            <a:avLst>
              <a:gd name="adj1" fmla="val -79814"/>
              <a:gd name="adj2" fmla="val 22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8"/>
          <p:cNvSpPr/>
          <p:nvPr/>
        </p:nvSpPr>
        <p:spPr>
          <a:xfrm>
            <a:off x="5873760" y="3251160"/>
            <a:ext cx="1977840" cy="881280"/>
          </a:xfrm>
          <a:prstGeom prst="wedgeRoundRectCallout">
            <a:avLst>
              <a:gd name="adj1" fmla="val -54578"/>
              <a:gd name="adj2" fmla="val 106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ый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1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5D34-AA56-4C28-BB04-1791165C53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2"/>
          <p:cNvSpPr/>
          <p:nvPr/>
        </p:nvSpPr>
        <p:spPr>
          <a:xfrm>
            <a:off x="474840" y="887400"/>
            <a:ext cx="8466120" cy="3090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moveObject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oor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obj)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 &gt;=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380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s-E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если вы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            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 гран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da-DK" sz="28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da-DK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8"/>
          <p:cNvSpPr/>
          <p:nvPr/>
        </p:nvSpPr>
        <p:spPr>
          <a:xfrm>
            <a:off x="3645000" y="4308480"/>
            <a:ext cx="3543120" cy="966960"/>
          </a:xfrm>
          <a:prstGeom prst="wedgeRoundRectCallout">
            <a:avLst>
              <a:gd name="adj1" fmla="val -32444"/>
              <a:gd name="adj2" fmla="val -87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е 5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Полилиния 7"/>
          <p:cNvSpPr/>
          <p:nvPr/>
        </p:nvSpPr>
        <p:spPr>
          <a:xfrm>
            <a:off x="2133720" y="1346040"/>
            <a:ext cx="1193760" cy="2210040"/>
          </a:xfrm>
          <a:custGeom>
            <a:avLst/>
            <a:gdLst>
              <a:gd name="textAreaLeft" fmla="*/ 0 w 1193760"/>
              <a:gd name="textAreaRight" fmla="*/ 1194120 w 119376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8"/>
          <p:cNvSpPr/>
          <p:nvPr/>
        </p:nvSpPr>
        <p:spPr>
          <a:xfrm>
            <a:off x="469800" y="2847960"/>
            <a:ext cx="2552760" cy="555480"/>
          </a:xfrm>
          <a:prstGeom prst="wedgeRoundRectCallout">
            <a:avLst>
              <a:gd name="adj1" fmla="val -4083"/>
              <a:gd name="adj2" fmla="val -1654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орди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ход по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EB3F-49BE-43F4-9432-EA12E6A8B8F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5"/>
          <p:cNvSpPr/>
          <p:nvPr/>
        </p:nvSpPr>
        <p:spPr>
          <a:xfrm>
            <a:off x="360360" y="830160"/>
            <a:ext cx="8464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Событие (англ. </a:t>
            </a:r>
            <a:r>
              <a:rPr b="1" i="1" lang="en-US" sz="2600" spc="-1" strike="noStrike">
                <a:solidFill>
                  <a:srgbClr val="3333ff"/>
                </a:solidFill>
                <a:latin typeface="Arial"/>
              </a:rPr>
              <a:t>event</a:t>
            </a:r>
            <a:r>
              <a:rPr b="1" lang="ru-RU" sz="26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состояния какого-то объекта в программе (нажатие на клавишу, щелчок мышью, перемещение или изменение размеров окна и т.п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22"/>
          <p:cNvSpPr/>
          <p:nvPr/>
        </p:nvSpPr>
        <p:spPr>
          <a:xfrm>
            <a:off x="474840" y="3195720"/>
            <a:ext cx="8466120" cy="2054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event.keycode == VK_ESCA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los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800" spc="-1" strike="noStrike">
                <a:solidFill>
                  <a:srgbClr val="008000"/>
                </a:solidFill>
                <a:latin typeface="Courier New"/>
              </a:rPr>
              <a:t>закрыть окн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Полилиния 5"/>
          <p:cNvSpPr/>
          <p:nvPr/>
        </p:nvSpPr>
        <p:spPr>
          <a:xfrm>
            <a:off x="2395440" y="3614760"/>
            <a:ext cx="588960" cy="1262160"/>
          </a:xfrm>
          <a:custGeom>
            <a:avLst/>
            <a:gdLst>
              <a:gd name="textAreaLeft" fmla="*/ 0 w 588960"/>
              <a:gd name="textAreaRight" fmla="*/ 589320 w 58896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590248" h="1712686">
                <a:moveTo>
                  <a:pt x="580571" y="1712686"/>
                </a:moveTo>
                <a:cubicBezTo>
                  <a:pt x="585409" y="1303867"/>
                  <a:pt x="590248" y="895048"/>
                  <a:pt x="493486" y="609600"/>
                </a:cubicBezTo>
                <a:cubicBezTo>
                  <a:pt x="396724" y="324152"/>
                  <a:pt x="198362" y="162076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8"/>
          <p:cNvSpPr/>
          <p:nvPr/>
        </p:nvSpPr>
        <p:spPr>
          <a:xfrm>
            <a:off x="5060880" y="4600440"/>
            <a:ext cx="3299040" cy="1168560"/>
          </a:xfrm>
          <a:prstGeom prst="wedgeRoundRectCallout">
            <a:avLst>
              <a:gd name="adj1" fmla="val -78532"/>
              <a:gd name="adj2" fmla="val -22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ть при нажатии любой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8"/>
          <p:cNvSpPr/>
          <p:nvPr/>
        </p:nvSpPr>
        <p:spPr>
          <a:xfrm>
            <a:off x="1403280" y="2481120"/>
            <a:ext cx="3778200" cy="567000"/>
          </a:xfrm>
          <a:prstGeom prst="wedgeRoundRectCallout">
            <a:avLst>
              <a:gd name="adj1" fmla="val -37810"/>
              <a:gd name="adj2" fmla="val 103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8"/>
          <p:cNvSpPr/>
          <p:nvPr/>
        </p:nvSpPr>
        <p:spPr>
          <a:xfrm>
            <a:off x="750960" y="5529240"/>
            <a:ext cx="4038480" cy="900000"/>
          </a:xfrm>
          <a:prstGeom prst="wedgeRoundRectCallout">
            <a:avLst>
              <a:gd name="adj1" fmla="val -33472"/>
              <a:gd name="adj2" fmla="val -9309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ка обработчика 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8"/>
          <p:cNvSpPr/>
          <p:nvPr/>
        </p:nvSpPr>
        <p:spPr>
          <a:xfrm>
            <a:off x="6004080" y="2525760"/>
            <a:ext cx="2589120" cy="869760"/>
          </a:xfrm>
          <a:prstGeom prst="wedgeRoundRectCallout">
            <a:avLst>
              <a:gd name="adj1" fmla="val -44319"/>
              <a:gd name="adj2" fmla="val 9429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клавиш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1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1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500"/>
                                        <p:tgtEl>
                                          <p:spTgt spid="1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3AD8-C6C9-4C88-A73D-860C2567EE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22"/>
          <p:cNvSpPr/>
          <p:nvPr/>
        </p:nvSpPr>
        <p:spPr>
          <a:xfrm>
            <a:off x="474840" y="887400"/>
            <a:ext cx="70866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40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Группа 6"/>
          <p:cNvGrpSpPr/>
          <p:nvPr/>
        </p:nvGrpSpPr>
        <p:grpSpPr>
          <a:xfrm>
            <a:off x="4529160" y="1305000"/>
            <a:ext cx="3149640" cy="1476360"/>
            <a:chOff x="4529160" y="1305000"/>
            <a:chExt cx="3149640" cy="1476360"/>
          </a:xfrm>
        </p:grpSpPr>
        <p:sp>
          <p:nvSpPr>
            <p:cNvPr id="1164" name="Правая фигурная скобка 4"/>
            <p:cNvSpPr/>
            <p:nvPr/>
          </p:nvSpPr>
          <p:spPr>
            <a:xfrm>
              <a:off x="4529160" y="1305000"/>
              <a:ext cx="245880" cy="1476360"/>
            </a:xfrm>
            <a:custGeom>
              <a:avLst/>
              <a:gdLst>
                <a:gd name="textAreaLeft" fmla="*/ 0 w 245880"/>
                <a:gd name="textAreaRight" fmla="*/ 88920 w 245880"/>
                <a:gd name="textAreaTop" fmla="*/ 46800 h 1476360"/>
                <a:gd name="textAreaBottom" fmla="*/ 1429560 h 14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02"/>
                    <a:pt x="10800" y="2204"/>
                  </a:cubicBezTo>
                  <a:lnTo>
                    <a:pt x="10800" y="8596"/>
                  </a:lnTo>
                  <a:cubicBezTo>
                    <a:pt x="10800" y="9698"/>
                    <a:pt x="16200" y="10800"/>
                    <a:pt x="21600" y="10800"/>
                  </a:cubicBezTo>
                  <a:cubicBezTo>
                    <a:pt x="16200" y="10800"/>
                    <a:pt x="10800" y="11902"/>
                    <a:pt x="10800" y="13004"/>
                  </a:cubicBezTo>
                  <a:lnTo>
                    <a:pt x="10800" y="19396"/>
                  </a:lnTo>
                  <a:cubicBezTo>
                    <a:pt x="10800" y="2049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18"/>
            <p:cNvSpPr/>
            <p:nvPr/>
          </p:nvSpPr>
          <p:spPr>
            <a:xfrm>
              <a:off x="5294160" y="1725480"/>
              <a:ext cx="2384640" cy="666720"/>
            </a:xfrm>
            <a:prstGeom prst="wedgeRoundRectCallout">
              <a:avLst>
                <a:gd name="adj1" fmla="val -77069"/>
                <a:gd name="adj2" fmla="val -134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Группа 7"/>
          <p:cNvGrpSpPr/>
          <p:nvPr/>
        </p:nvGrpSpPr>
        <p:grpSpPr>
          <a:xfrm>
            <a:off x="3986280" y="5407200"/>
            <a:ext cx="3033720" cy="836280"/>
            <a:chOff x="3986280" y="5407200"/>
            <a:chExt cx="3033720" cy="836280"/>
          </a:xfrm>
        </p:grpSpPr>
        <p:sp>
          <p:nvSpPr>
            <p:cNvPr id="1167" name="Правая фигурная скобка 8"/>
            <p:cNvSpPr/>
            <p:nvPr/>
          </p:nvSpPr>
          <p:spPr>
            <a:xfrm>
              <a:off x="3986280" y="545940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AutoShape 18"/>
            <p:cNvSpPr/>
            <p:nvPr/>
          </p:nvSpPr>
          <p:spPr>
            <a:xfrm>
              <a:off x="4635360" y="5407200"/>
              <a:ext cx="2384640" cy="83628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1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1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1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1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1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B8F5-3E10-476C-A022-3A43287BCEF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92040" y="1587600"/>
            <a:ext cx="567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справа нале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Группа 16"/>
          <p:cNvGrpSpPr/>
          <p:nvPr/>
        </p:nvGrpSpPr>
        <p:grpSpPr>
          <a:xfrm>
            <a:off x="6338880" y="981000"/>
            <a:ext cx="2401920" cy="2401920"/>
            <a:chOff x="6338880" y="981000"/>
            <a:chExt cx="2401920" cy="2401920"/>
          </a:xfrm>
        </p:grpSpPr>
        <p:sp>
          <p:nvSpPr>
            <p:cNvPr id="1173" name="Rectangle 10"/>
            <p:cNvSpPr/>
            <p:nvPr/>
          </p:nvSpPr>
          <p:spPr>
            <a:xfrm>
              <a:off x="6338880" y="9810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3"/>
            <p:cNvSpPr/>
            <p:nvPr/>
          </p:nvSpPr>
          <p:spPr>
            <a:xfrm>
              <a:off x="8205840" y="18288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AutoShape 14"/>
            <p:cNvSpPr/>
            <p:nvPr/>
          </p:nvSpPr>
          <p:spPr>
            <a:xfrm>
              <a:off x="7707240" y="18381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6" name="Группа 17"/>
          <p:cNvGrpSpPr/>
          <p:nvPr/>
        </p:nvGrpSpPr>
        <p:grpSpPr>
          <a:xfrm>
            <a:off x="6338880" y="3792600"/>
            <a:ext cx="2401920" cy="2401920"/>
            <a:chOff x="6338880" y="3792600"/>
            <a:chExt cx="2401920" cy="2401920"/>
          </a:xfrm>
        </p:grpSpPr>
        <p:sp>
          <p:nvSpPr>
            <p:cNvPr id="1177" name="Rectangle 10"/>
            <p:cNvSpPr/>
            <p:nvPr/>
          </p:nvSpPr>
          <p:spPr>
            <a:xfrm>
              <a:off x="6338880" y="3792600"/>
              <a:ext cx="2401920" cy="2401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"/>
            <p:cNvSpPr/>
            <p:nvPr/>
          </p:nvSpPr>
          <p:spPr>
            <a:xfrm>
              <a:off x="6589440" y="533268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3"/>
            <p:cNvSpPr/>
            <p:nvPr/>
          </p:nvSpPr>
          <p:spPr>
            <a:xfrm>
              <a:off x="8205840" y="4640400"/>
              <a:ext cx="268200" cy="268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14"/>
            <p:cNvSpPr/>
            <p:nvPr/>
          </p:nvSpPr>
          <p:spPr>
            <a:xfrm>
              <a:off x="7707240" y="46497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15"/>
            <p:cNvSpPr/>
            <p:nvPr/>
          </p:nvSpPr>
          <p:spPr>
            <a:xfrm flipH="1">
              <a:off x="6949440" y="532296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200-8414-473D-856F-95DF26FE96C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69720" y="887400"/>
            <a:ext cx="8440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 двигаются в противоположных направлениях  и отталкиваются от стенок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6"/>
          <p:cNvSpPr/>
          <p:nvPr/>
        </p:nvSpPr>
        <p:spPr>
          <a:xfrm>
            <a:off x="3259080" y="227952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7"/>
          <p:cNvSpPr/>
          <p:nvPr/>
        </p:nvSpPr>
        <p:spPr>
          <a:xfrm>
            <a:off x="3510000" y="380988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8"/>
          <p:cNvSpPr/>
          <p:nvPr/>
        </p:nvSpPr>
        <p:spPr>
          <a:xfrm>
            <a:off x="5126040" y="312732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19"/>
          <p:cNvSpPr/>
          <p:nvPr/>
        </p:nvSpPr>
        <p:spPr>
          <a:xfrm>
            <a:off x="4637160" y="3154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20"/>
          <p:cNvSpPr/>
          <p:nvPr/>
        </p:nvSpPr>
        <p:spPr>
          <a:xfrm flipH="1">
            <a:off x="3869640" y="380988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21"/>
          <p:cNvSpPr/>
          <p:nvPr/>
        </p:nvSpPr>
        <p:spPr>
          <a:xfrm rot="16200000">
            <a:off x="3381480" y="28872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22"/>
          <p:cNvSpPr/>
          <p:nvPr/>
        </p:nvSpPr>
        <p:spPr>
          <a:xfrm flipH="1" flipV="1" rot="16200000">
            <a:off x="5155560" y="38088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цветом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5258-A0A2-4158-B792-69A9F0A2BB2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8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0"/>
          <p:cNvSpPr/>
          <p:nvPr/>
        </p:nvSpPr>
        <p:spPr>
          <a:xfrm>
            <a:off x="620640" y="330984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6372360" y="3098880"/>
            <a:ext cx="255564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magent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2"/>
          <p:cNvSpPr/>
          <p:nvPr/>
        </p:nvSpPr>
        <p:spPr>
          <a:xfrm>
            <a:off x="620640" y="402120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9"/>
          <p:cNvSpPr/>
          <p:nvPr/>
        </p:nvSpPr>
        <p:spPr>
          <a:xfrm>
            <a:off x="6477120" y="380988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cya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620640" y="4770360"/>
            <a:ext cx="62247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124760" y="457200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whi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620640" y="5506920"/>
            <a:ext cx="5907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6477120" y="5295960"/>
            <a:ext cx="1625400" cy="635040"/>
          </a:xfrm>
          <a:prstGeom prst="wedgeRoundRectCallout">
            <a:avLst>
              <a:gd name="adj1" fmla="val -105138"/>
              <a:gd name="adj2" fmla="val 2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black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клавиш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D870-1EF3-48ED-BAC0-1CB81E65DF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5"/>
          <p:cNvSpPr/>
          <p:nvPr/>
        </p:nvSpPr>
        <p:spPr>
          <a:xfrm>
            <a:off x="360360" y="825480"/>
            <a:ext cx="8420040" cy="26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ый квадрат внутри синего квадрата управляется клавишами-стрелками. Коды клавиш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 –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3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 –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40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бработчик событ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474840" y="3398760"/>
            <a:ext cx="8466120" cy="306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.keycode == VK_LEF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дальше – са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18"/>
          <p:cNvSpPr/>
          <p:nvPr/>
        </p:nvSpPr>
        <p:spPr>
          <a:xfrm>
            <a:off x="5467320" y="3076560"/>
            <a:ext cx="1093680" cy="56664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AutoShape 18"/>
          <p:cNvSpPr/>
          <p:nvPr/>
        </p:nvSpPr>
        <p:spPr>
          <a:xfrm>
            <a:off x="6178680" y="3948120"/>
            <a:ext cx="1093680" cy="565200"/>
          </a:xfrm>
          <a:prstGeom prst="wedgeRoundRectCallout">
            <a:avLst>
              <a:gd name="adj1" fmla="val -37745"/>
              <a:gd name="adj2" fmla="val 95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18"/>
          <p:cNvSpPr/>
          <p:nvPr/>
        </p:nvSpPr>
        <p:spPr>
          <a:xfrm>
            <a:off x="6222960" y="5065560"/>
            <a:ext cx="2718000" cy="95724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U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DOWN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AutoShape 18"/>
          <p:cNvSpPr/>
          <p:nvPr/>
        </p:nvSpPr>
        <p:spPr>
          <a:xfrm>
            <a:off x="6294600" y="2046240"/>
            <a:ext cx="2384280" cy="566640"/>
          </a:xfrm>
          <a:prstGeom prst="wedgeRoundRectCallout">
            <a:avLst>
              <a:gd name="adj1" fmla="val -20703"/>
              <a:gd name="adj2" fmla="val -76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K_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8" dur="indefinite" restart="never" nodeType="tmRoot">
          <p:childTnLst>
            <p:seq>
              <p:cTn id="1859" dur="indefinite" nodeType="mainSeq">
                <p:childTnLst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5" dur="5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1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5" dur="500"/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1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682B-E1EE-412F-B2F1-BEBE1AC9A1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2"/>
          <p:cNvSpPr/>
          <p:nvPr/>
        </p:nvSpPr>
        <p:spPr>
          <a:xfrm>
            <a:off x="369720" y="1076400"/>
            <a:ext cx="543744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в самом начале стоит в правом нижнем углу, и двигается при нажатии стрелок только вверх или вле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двигается при нажатии стрелок, однако не может выйти за границы синего квадрат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8370720" y="309888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8"/>
          <p:cNvSpPr/>
          <p:nvPr/>
        </p:nvSpPr>
        <p:spPr>
          <a:xfrm>
            <a:off x="7899480" y="312732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AutoShape 18"/>
          <p:cNvSpPr/>
          <p:nvPr/>
        </p:nvSpPr>
        <p:spPr>
          <a:xfrm flipH="1" rot="16200000">
            <a:off x="8337240" y="26964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12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23"/>
          <p:cNvSpPr/>
          <p:nvPr/>
        </p:nvSpPr>
        <p:spPr>
          <a:xfrm rot="2700000">
            <a:off x="7191000" y="610704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C13-A540-40AF-A239-9CB2AD94DC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"/>
          <p:cNvSpPr/>
          <p:nvPr/>
        </p:nvSpPr>
        <p:spPr>
          <a:xfrm>
            <a:off x="369720" y="922320"/>
            <a:ext cx="57024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квадрата, один управляется стрелками, второй – любыми другими клавишами. Оба не могут выйти за границы синего п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7"/>
          <p:cNvSpPr/>
          <p:nvPr/>
        </p:nvSpPr>
        <p:spPr>
          <a:xfrm>
            <a:off x="7053120" y="180180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8"/>
          <p:cNvSpPr/>
          <p:nvPr/>
        </p:nvSpPr>
        <p:spPr>
          <a:xfrm>
            <a:off x="658188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9"/>
          <p:cNvSpPr/>
          <p:nvPr/>
        </p:nvSpPr>
        <p:spPr>
          <a:xfrm flipH="1">
            <a:off x="7477920" y="183024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19"/>
          <p:cNvGrpSpPr/>
          <p:nvPr/>
        </p:nvGrpSpPr>
        <p:grpSpPr>
          <a:xfrm>
            <a:off x="7072200" y="1348200"/>
            <a:ext cx="211320" cy="1210680"/>
            <a:chOff x="7072200" y="1348200"/>
            <a:chExt cx="211320" cy="1210680"/>
          </a:xfrm>
        </p:grpSpPr>
        <p:sp>
          <p:nvSpPr>
            <p:cNvPr id="1226" name="AutoShape 17"/>
            <p:cNvSpPr/>
            <p:nvPr/>
          </p:nvSpPr>
          <p:spPr>
            <a:xfrm rot="16200000">
              <a:off x="7020720" y="22960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AutoShape 18"/>
            <p:cNvSpPr/>
            <p:nvPr/>
          </p:nvSpPr>
          <p:spPr>
            <a:xfrm flipH="1" rot="16200000">
              <a:off x="7020360" y="139968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AutoShape 20"/>
          <p:cNvSpPr/>
          <p:nvPr/>
        </p:nvSpPr>
        <p:spPr>
          <a:xfrm rot="2700000">
            <a:off x="6205320" y="2077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21"/>
          <p:cNvSpPr/>
          <p:nvPr/>
        </p:nvSpPr>
        <p:spPr>
          <a:xfrm rot="2700000">
            <a:off x="8561160" y="20970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22"/>
          <p:cNvSpPr/>
          <p:nvPr/>
        </p:nvSpPr>
        <p:spPr>
          <a:xfrm rot="2700000">
            <a:off x="7368840" y="32796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23"/>
          <p:cNvSpPr/>
          <p:nvPr/>
        </p:nvSpPr>
        <p:spPr>
          <a:xfrm rot="2700000">
            <a:off x="7305120" y="896760"/>
            <a:ext cx="36072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7"/>
          <p:cNvSpPr/>
          <p:nvPr/>
        </p:nvSpPr>
        <p:spPr>
          <a:xfrm>
            <a:off x="7939080" y="2583000"/>
            <a:ext cx="26820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8"/>
          <p:cNvSpPr/>
          <p:nvPr/>
        </p:nvSpPr>
        <p:spPr>
          <a:xfrm>
            <a:off x="74674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AutoShape 9"/>
          <p:cNvSpPr/>
          <p:nvPr/>
        </p:nvSpPr>
        <p:spPr>
          <a:xfrm flipH="1">
            <a:off x="8363880" y="261144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19"/>
          <p:cNvGrpSpPr/>
          <p:nvPr/>
        </p:nvGrpSpPr>
        <p:grpSpPr>
          <a:xfrm>
            <a:off x="7958160" y="2129040"/>
            <a:ext cx="210960" cy="1210680"/>
            <a:chOff x="7958160" y="2129040"/>
            <a:chExt cx="210960" cy="1210680"/>
          </a:xfrm>
        </p:grpSpPr>
        <p:sp>
          <p:nvSpPr>
            <p:cNvPr id="1236" name="AutoShape 17"/>
            <p:cNvSpPr/>
            <p:nvPr/>
          </p:nvSpPr>
          <p:spPr>
            <a:xfrm rot="16200000">
              <a:off x="7906320" y="30769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8"/>
            <p:cNvSpPr/>
            <p:nvPr/>
          </p:nvSpPr>
          <p:spPr>
            <a:xfrm flipH="1" rot="16200000">
              <a:off x="7906320" y="2180520"/>
              <a:ext cx="314280" cy="210960"/>
            </a:xfrm>
            <a:prstGeom prst="leftArrow">
              <a:avLst>
                <a:gd name="adj1" fmla="val 50000"/>
                <a:gd name="adj2" fmla="val 372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вление по требова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5"/>
          <p:cNvSpPr/>
          <p:nvPr/>
        </p:nvSpPr>
        <p:spPr>
          <a:xfrm>
            <a:off x="360360" y="812880"/>
            <a:ext cx="84200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ёлтый квадрат постоянно движется и меняет направление движения при нажатии клавиш-стрелок. При нажатии на пробел останавл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500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к изменять направление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901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709560" y="3013200"/>
            <a:ext cx="737388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obj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"/>
          <p:cNvGrpSpPr/>
          <p:nvPr/>
        </p:nvGrpSpPr>
        <p:grpSpPr>
          <a:xfrm>
            <a:off x="6130800" y="3540240"/>
            <a:ext cx="2733840" cy="663480"/>
            <a:chOff x="6130800" y="3540240"/>
            <a:chExt cx="2733840" cy="663480"/>
          </a:xfrm>
        </p:grpSpPr>
        <p:sp>
          <p:nvSpPr>
            <p:cNvPr id="1242" name="Text Box 8"/>
            <p:cNvSpPr/>
            <p:nvPr/>
          </p:nvSpPr>
          <p:spPr>
            <a:xfrm>
              <a:off x="6630840" y="3646800"/>
              <a:ext cx="223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меняе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Oval 9"/>
            <p:cNvSpPr/>
            <p:nvPr/>
          </p:nvSpPr>
          <p:spPr>
            <a:xfrm>
              <a:off x="6130800" y="354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7"/>
          <p:cNvGrpSpPr/>
          <p:nvPr/>
        </p:nvGrpSpPr>
        <p:grpSpPr>
          <a:xfrm>
            <a:off x="4657680" y="4734000"/>
            <a:ext cx="3851280" cy="932040"/>
            <a:chOff x="4657680" y="4734000"/>
            <a:chExt cx="3851280" cy="932040"/>
          </a:xfrm>
        </p:grpSpPr>
        <p:sp>
          <p:nvSpPr>
            <p:cNvPr id="1245" name="Text Box 8"/>
            <p:cNvSpPr/>
            <p:nvPr/>
          </p:nvSpPr>
          <p:spPr>
            <a:xfrm>
              <a:off x="5157720" y="4840560"/>
              <a:ext cx="3351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десь должны быть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переменны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9"/>
            <p:cNvSpPr/>
            <p:nvPr/>
          </p:nvSpPr>
          <p:spPr>
            <a:xfrm>
              <a:off x="4657680" y="4734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41C5-1189-4492-9D90-965274DC13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Группа 17"/>
          <p:cNvGrpSpPr/>
          <p:nvPr/>
        </p:nvGrpSpPr>
        <p:grpSpPr>
          <a:xfrm>
            <a:off x="4292640" y="3898800"/>
            <a:ext cx="1498320" cy="1054080"/>
            <a:chOff x="4292640" y="3898800"/>
            <a:chExt cx="1498320" cy="1054080"/>
          </a:xfrm>
        </p:grpSpPr>
        <p:sp>
          <p:nvSpPr>
            <p:cNvPr id="1249" name="Прямоугольник 11"/>
            <p:cNvSpPr/>
            <p:nvPr/>
          </p:nvSpPr>
          <p:spPr>
            <a:xfrm>
              <a:off x="429264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Прямоугольник 12"/>
            <p:cNvSpPr/>
            <p:nvPr/>
          </p:nvSpPr>
          <p:spPr>
            <a:xfrm>
              <a:off x="5016960" y="3898800"/>
              <a:ext cx="5079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Полилиния 15"/>
            <p:cNvSpPr/>
            <p:nvPr/>
          </p:nvSpPr>
          <p:spPr>
            <a:xfrm flipH="1">
              <a:off x="5422320" y="4254480"/>
              <a:ext cx="368280" cy="698400"/>
            </a:xfrm>
            <a:custGeom>
              <a:avLst/>
              <a:gdLst>
                <a:gd name="textAreaLeft" fmla="*/ -360 w 368280"/>
                <a:gd name="textAreaRight" fmla="*/ 368280 w 36828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Полилиния 16"/>
            <p:cNvSpPr/>
            <p:nvPr/>
          </p:nvSpPr>
          <p:spPr>
            <a:xfrm flipH="1">
              <a:off x="4800600" y="4279680"/>
              <a:ext cx="977760" cy="660600"/>
            </a:xfrm>
            <a:custGeom>
              <a:avLst/>
              <a:gdLst>
                <a:gd name="textAreaLeft" fmla="*/ 360 w 977760"/>
                <a:gd name="textAreaRight" fmla="*/ 978480 w 9777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209550" h="538163">
                  <a:moveTo>
                    <a:pt x="0" y="538163"/>
                  </a:moveTo>
                  <a:lnTo>
                    <a:pt x="20955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6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1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1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«поймать» нажатие клавиш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15CA-8281-44D7-8272-C1D7B6F737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7"/>
          <p:cNvSpPr/>
          <p:nvPr/>
        </p:nvSpPr>
        <p:spPr>
          <a:xfrm>
            <a:off x="415800" y="1454040"/>
            <a:ext cx="7374240" cy="3176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Прямоугольник 4"/>
          <p:cNvSpPr/>
          <p:nvPr/>
        </p:nvSpPr>
        <p:spPr>
          <a:xfrm>
            <a:off x="2149560" y="278136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5"/>
          <p:cNvSpPr/>
          <p:nvPr/>
        </p:nvSpPr>
        <p:spPr>
          <a:xfrm>
            <a:off x="2149560" y="3162240"/>
            <a:ext cx="507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7"/>
          <p:cNvGrpSpPr/>
          <p:nvPr/>
        </p:nvGrpSpPr>
        <p:grpSpPr>
          <a:xfrm>
            <a:off x="3174840" y="3144960"/>
            <a:ext cx="5032440" cy="663480"/>
            <a:chOff x="3174840" y="3144960"/>
            <a:chExt cx="5032440" cy="663480"/>
          </a:xfrm>
        </p:grpSpPr>
        <p:sp>
          <p:nvSpPr>
            <p:cNvPr id="1259" name="Text Box 8"/>
            <p:cNvSpPr/>
            <p:nvPr/>
          </p:nvSpPr>
          <p:spPr>
            <a:xfrm>
              <a:off x="3674880" y="325152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для остальных клавиш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3174840" y="31449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AutoShape 11"/>
          <p:cNvSpPr/>
          <p:nvPr/>
        </p:nvSpPr>
        <p:spPr>
          <a:xfrm>
            <a:off x="3625920" y="4475160"/>
            <a:ext cx="3597120" cy="662040"/>
          </a:xfrm>
          <a:prstGeom prst="wedgeRoundRectCallout">
            <a:avLst>
              <a:gd name="adj1" fmla="val -55648"/>
              <a:gd name="adj2" fmla="val -14216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ел: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VK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11"/>
          <p:cNvSpPr/>
          <p:nvPr/>
        </p:nvSpPr>
        <p:spPr>
          <a:xfrm>
            <a:off x="5137200" y="911160"/>
            <a:ext cx="3022560" cy="906480"/>
          </a:xfrm>
          <a:prstGeom prst="wedgeRoundRectCallout">
            <a:avLst>
              <a:gd name="adj1" fmla="val -104129"/>
              <a:gd name="adj2" fmla="val 88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глобальные перемен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6" dur="indefinite" restart="never" nodeType="tmRoot">
          <p:childTnLst>
            <p:seq>
              <p:cTn id="1967" dur="indefinite" nodeType="mainSeq">
                <p:childTnLst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3" dur="500"/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1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500"/>
                            </p:stCondLst>
                            <p:childTnLst>
                              <p:par>
                                <p:cTn id="2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6E5D-FA1F-4827-82A9-45587E40A41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2"/>
          <p:cNvSpPr/>
          <p:nvPr/>
        </p:nvSpPr>
        <p:spPr>
          <a:xfrm>
            <a:off x="474840" y="849240"/>
            <a:ext cx="7086600" cy="5637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6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6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(x, y, x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, y+</a:t>
            </a:r>
            <a:r>
              <a:rPr b="1" lang="es-ES" sz="26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es-E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6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6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6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Группа 6"/>
          <p:cNvGrpSpPr/>
          <p:nvPr/>
        </p:nvGrpSpPr>
        <p:grpSpPr>
          <a:xfrm>
            <a:off x="4923000" y="1241280"/>
            <a:ext cx="3174840" cy="1654200"/>
            <a:chOff x="4923000" y="1241280"/>
            <a:chExt cx="3174840" cy="1654200"/>
          </a:xfrm>
        </p:grpSpPr>
        <p:sp>
          <p:nvSpPr>
            <p:cNvPr id="1267" name="Правая фигурная скобка 4"/>
            <p:cNvSpPr/>
            <p:nvPr/>
          </p:nvSpPr>
          <p:spPr>
            <a:xfrm>
              <a:off x="4923000" y="1241280"/>
              <a:ext cx="240120" cy="1654200"/>
            </a:xfrm>
            <a:custGeom>
              <a:avLst/>
              <a:gdLst>
                <a:gd name="textAreaLeft" fmla="*/ 0 w 240120"/>
                <a:gd name="textAreaRight" fmla="*/ 86760 w 240120"/>
                <a:gd name="textAreaTop" fmla="*/ 45720 h 1654200"/>
                <a:gd name="textAreaBottom" fmla="*/ 1608480 h 165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1"/>
                    <a:pt x="10800" y="1921"/>
                  </a:cubicBezTo>
                  <a:lnTo>
                    <a:pt x="10800" y="8879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1"/>
                    <a:pt x="10800" y="12721"/>
                  </a:cubicBezTo>
                  <a:lnTo>
                    <a:pt x="10800" y="19679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AutoShape 18"/>
            <p:cNvSpPr/>
            <p:nvPr/>
          </p:nvSpPr>
          <p:spPr>
            <a:xfrm>
              <a:off x="5713560" y="1661760"/>
              <a:ext cx="2384280" cy="666720"/>
            </a:xfrm>
            <a:prstGeom prst="wedgeRoundRectCallout">
              <a:avLst>
                <a:gd name="adj1" fmla="val -72277"/>
                <a:gd name="adj2" fmla="val 265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Группа 7"/>
          <p:cNvGrpSpPr/>
          <p:nvPr/>
        </p:nvGrpSpPr>
        <p:grpSpPr>
          <a:xfrm>
            <a:off x="4379760" y="5356080"/>
            <a:ext cx="3033720" cy="836640"/>
            <a:chOff x="4379760" y="5356080"/>
            <a:chExt cx="3033720" cy="836640"/>
          </a:xfrm>
        </p:grpSpPr>
        <p:sp>
          <p:nvSpPr>
            <p:cNvPr id="1270" name="Правая фигурная скобка 8"/>
            <p:cNvSpPr/>
            <p:nvPr/>
          </p:nvSpPr>
          <p:spPr>
            <a:xfrm>
              <a:off x="4379760" y="540828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AutoShape 18"/>
            <p:cNvSpPr/>
            <p:nvPr/>
          </p:nvSpPr>
          <p:spPr>
            <a:xfrm>
              <a:off x="5028840" y="5356080"/>
              <a:ext cx="2384640" cy="836640"/>
            </a:xfrm>
            <a:prstGeom prst="wedgeRoundRectCallout">
              <a:avLst>
                <a:gd name="adj1" fmla="val -72277"/>
                <a:gd name="adj2" fmla="val -11648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обработка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Группа 10"/>
          <p:cNvGrpSpPr/>
          <p:nvPr/>
        </p:nvGrpSpPr>
        <p:grpSpPr>
          <a:xfrm>
            <a:off x="3832200" y="3333600"/>
            <a:ext cx="3567240" cy="836640"/>
            <a:chOff x="3832200" y="3333600"/>
            <a:chExt cx="3567240" cy="836640"/>
          </a:xfrm>
        </p:grpSpPr>
        <p:sp>
          <p:nvSpPr>
            <p:cNvPr id="1273" name="Правая фигурная скобка 11"/>
            <p:cNvSpPr/>
            <p:nvPr/>
          </p:nvSpPr>
          <p:spPr>
            <a:xfrm>
              <a:off x="3832200" y="3385800"/>
              <a:ext cx="145080" cy="59544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440"/>
                <a:gd name="textAreaBottom" fmla="*/ 58644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18"/>
            <p:cNvSpPr/>
            <p:nvPr/>
          </p:nvSpPr>
          <p:spPr>
            <a:xfrm>
              <a:off x="4481280" y="3333600"/>
              <a:ext cx="2918160" cy="836640"/>
            </a:xfrm>
            <a:prstGeom prst="wedgeRoundRectCallout">
              <a:avLst>
                <a:gd name="adj1" fmla="val -65888"/>
                <a:gd name="adj2" fmla="val -884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глобальные переме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1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4" dur="500"/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1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1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1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8" dur="500"/>
                                        <p:tgtEl>
                                          <p:spTgt spid="1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3" dur="500"/>
                                        <p:tgtEl>
                                          <p:spTgt spid="1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6" dur="500"/>
                                        <p:tgtEl>
                                          <p:spTgt spid="1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"/>
          <p:cNvSpPr/>
          <p:nvPr/>
        </p:nvSpPr>
        <p:spPr>
          <a:xfrm>
            <a:off x="369720" y="1236600"/>
            <a:ext cx="543744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не может выйти за границы синего квадрата, сразу останавливается при столкновении со стен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5"/>
          <p:cNvSpPr/>
          <p:nvPr/>
        </p:nvSpPr>
        <p:spPr>
          <a:xfrm>
            <a:off x="6254640" y="9810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6254640" y="388476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7262640" y="491652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8"/>
          <p:cNvSpPr/>
          <p:nvPr/>
        </p:nvSpPr>
        <p:spPr>
          <a:xfrm>
            <a:off x="679140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9"/>
          <p:cNvSpPr/>
          <p:nvPr/>
        </p:nvSpPr>
        <p:spPr>
          <a:xfrm flipH="1">
            <a:off x="7687440" y="494496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Group 19"/>
          <p:cNvGrpSpPr/>
          <p:nvPr/>
        </p:nvGrpSpPr>
        <p:grpSpPr>
          <a:xfrm>
            <a:off x="7281720" y="4462920"/>
            <a:ext cx="211320" cy="1210680"/>
            <a:chOff x="7281720" y="4462920"/>
            <a:chExt cx="211320" cy="1210680"/>
          </a:xfrm>
        </p:grpSpPr>
        <p:sp>
          <p:nvSpPr>
            <p:cNvPr id="1283" name="AutoShape 17"/>
            <p:cNvSpPr/>
            <p:nvPr/>
          </p:nvSpPr>
          <p:spPr>
            <a:xfrm rot="16200000">
              <a:off x="7230240" y="5410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AutoShape 18"/>
            <p:cNvSpPr/>
            <p:nvPr/>
          </p:nvSpPr>
          <p:spPr>
            <a:xfrm flipH="1" rot="16200000">
              <a:off x="7229880" y="45144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2"/>
          <p:cNvSpPr/>
          <p:nvPr/>
        </p:nvSpPr>
        <p:spPr>
          <a:xfrm rot="2700000">
            <a:off x="7254360" y="608976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7"/>
          <p:cNvSpPr/>
          <p:nvPr/>
        </p:nvSpPr>
        <p:spPr>
          <a:xfrm>
            <a:off x="7402680" y="1969920"/>
            <a:ext cx="268200" cy="26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>
            <a:off x="693108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9"/>
          <p:cNvSpPr/>
          <p:nvPr/>
        </p:nvSpPr>
        <p:spPr>
          <a:xfrm flipH="1">
            <a:off x="7827120" y="1998720"/>
            <a:ext cx="314280" cy="210960"/>
          </a:xfrm>
          <a:prstGeom prst="leftArrow">
            <a:avLst>
              <a:gd name="adj1" fmla="val 50000"/>
              <a:gd name="adj2" fmla="val 3724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Group 19"/>
          <p:cNvGrpSpPr/>
          <p:nvPr/>
        </p:nvGrpSpPr>
        <p:grpSpPr>
          <a:xfrm>
            <a:off x="7421400" y="1516320"/>
            <a:ext cx="211320" cy="1210680"/>
            <a:chOff x="7421400" y="1516320"/>
            <a:chExt cx="211320" cy="1210680"/>
          </a:xfrm>
        </p:grpSpPr>
        <p:sp>
          <p:nvSpPr>
            <p:cNvPr id="1293" name="AutoShape 17"/>
            <p:cNvSpPr/>
            <p:nvPr/>
          </p:nvSpPr>
          <p:spPr>
            <a:xfrm rot="16200000">
              <a:off x="7369920" y="24642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AutoShape 18"/>
            <p:cNvSpPr/>
            <p:nvPr/>
          </p:nvSpPr>
          <p:spPr>
            <a:xfrm flipH="1" rot="16200000">
              <a:off x="7369560" y="156780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F8C8-E172-43B1-83B6-51EA7793F7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"/>
          <p:cNvSpPr/>
          <p:nvPr/>
        </p:nvSpPr>
        <p:spPr>
          <a:xfrm>
            <a:off x="369720" y="1122480"/>
            <a:ext cx="602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5"/>
          <p:cNvSpPr/>
          <p:nvPr/>
        </p:nvSpPr>
        <p:spPr>
          <a:xfrm>
            <a:off x="6369120" y="1074600"/>
            <a:ext cx="2401920" cy="24019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7456320" y="2176560"/>
            <a:ext cx="268560" cy="26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8"/>
          <p:cNvSpPr/>
          <p:nvPr/>
        </p:nvSpPr>
        <p:spPr>
          <a:xfrm>
            <a:off x="698508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9"/>
          <p:cNvSpPr/>
          <p:nvPr/>
        </p:nvSpPr>
        <p:spPr>
          <a:xfrm flipH="1">
            <a:off x="7881120" y="2205000"/>
            <a:ext cx="314280" cy="211320"/>
          </a:xfrm>
          <a:prstGeom prst="leftArrow">
            <a:avLst>
              <a:gd name="adj1" fmla="val 50000"/>
              <a:gd name="adj2" fmla="val 371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19"/>
          <p:cNvGrpSpPr/>
          <p:nvPr/>
        </p:nvGrpSpPr>
        <p:grpSpPr>
          <a:xfrm>
            <a:off x="7475400" y="1722960"/>
            <a:ext cx="211320" cy="1210680"/>
            <a:chOff x="7475400" y="1722960"/>
            <a:chExt cx="211320" cy="1210680"/>
          </a:xfrm>
        </p:grpSpPr>
        <p:sp>
          <p:nvSpPr>
            <p:cNvPr id="1303" name="AutoShape 17"/>
            <p:cNvSpPr/>
            <p:nvPr/>
          </p:nvSpPr>
          <p:spPr>
            <a:xfrm rot="16200000">
              <a:off x="7423920" y="26708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AutoShape 18"/>
            <p:cNvSpPr/>
            <p:nvPr/>
          </p:nvSpPr>
          <p:spPr>
            <a:xfrm flipH="1" rot="16200000">
              <a:off x="7423560" y="1774440"/>
              <a:ext cx="314280" cy="211320"/>
            </a:xfrm>
            <a:prstGeom prst="leftArrow">
              <a:avLst>
                <a:gd name="adj1" fmla="val 50000"/>
                <a:gd name="adj2" fmla="val 3718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AutoShape 21"/>
          <p:cNvSpPr/>
          <p:nvPr/>
        </p:nvSpPr>
        <p:spPr>
          <a:xfrm rot="16200000">
            <a:off x="6424560" y="19778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22"/>
          <p:cNvSpPr/>
          <p:nvPr/>
        </p:nvSpPr>
        <p:spPr>
          <a:xfrm flipH="1" flipV="1" rot="16200000">
            <a:off x="8363880" y="222624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1"/>
          <p:cNvSpPr/>
          <p:nvPr/>
        </p:nvSpPr>
        <p:spPr>
          <a:xfrm>
            <a:off x="7529400" y="108900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21"/>
          <p:cNvSpPr/>
          <p:nvPr/>
        </p:nvSpPr>
        <p:spPr>
          <a:xfrm flipH="1" flipV="1">
            <a:off x="7274880" y="3044160"/>
            <a:ext cx="360360" cy="461880"/>
          </a:xfrm>
          <a:custGeom>
            <a:avLst/>
            <a:gdLst>
              <a:gd name="textAreaLeft" fmla="*/ 0 w 360360"/>
              <a:gd name="textAreaRight" fmla="*/ 101880 w 360360"/>
              <a:gd name="textAreaTop" fmla="*/ 17748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"/>
          <p:cNvSpPr/>
          <p:nvPr/>
        </p:nvSpPr>
        <p:spPr>
          <a:xfrm>
            <a:off x="369720" y="3700440"/>
            <a:ext cx="6021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 может ходить по диагоналям (используйте ещё 4 клавиши) и отталкивается от ст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6A4B-E185-48D4-BFEA-AA4BB78EC3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Змей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E0F1-E085-44B8-A1AF-45ACC8E5C4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5"/>
          <p:cNvSpPr/>
          <p:nvPr/>
        </p:nvSpPr>
        <p:spPr>
          <a:xfrm>
            <a:off x="360360" y="812880"/>
            <a:ext cx="68659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змейка состоит из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ы и нескольких секц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а, постоянно движется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ет направле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я при нажат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виш-стрелок. При нажат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бел останавл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1749"/>
              </a:spcBef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Пробл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как хранить данные о змей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как двигать её в нужную сторо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2" descr=""/>
          <p:cNvPicPr/>
          <p:nvPr/>
        </p:nvPicPr>
        <p:blipFill>
          <a:blip r:embed="rId1"/>
          <a:stretch/>
        </p:blipFill>
        <p:spPr>
          <a:xfrm>
            <a:off x="5994360" y="914400"/>
            <a:ext cx="2819520" cy="281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1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2" dur="500"/>
                                        <p:tgtEl>
                                          <p:spTgt spid="1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храни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46D4-6686-4804-90AF-24F8BC0462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2743200" y="1681200"/>
          <a:ext cx="270036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18" name="Прямоугольник 4"/>
          <p:cNvSpPr/>
          <p:nvPr/>
        </p:nvSpPr>
        <p:spPr>
          <a:xfrm>
            <a:off x="437760" y="831960"/>
            <a:ext cx="66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= массив из звеньев-квад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Группа 11"/>
          <p:cNvGrpSpPr/>
          <p:nvPr/>
        </p:nvGrpSpPr>
        <p:grpSpPr>
          <a:xfrm>
            <a:off x="515160" y="2205000"/>
            <a:ext cx="5895720" cy="981360"/>
            <a:chOff x="515160" y="2205000"/>
            <a:chExt cx="5895720" cy="981360"/>
          </a:xfrm>
        </p:grpSpPr>
        <p:sp>
          <p:nvSpPr>
            <p:cNvPr id="1320" name="Прямоугольник 5"/>
            <p:cNvSpPr/>
            <p:nvPr/>
          </p:nvSpPr>
          <p:spPr>
            <a:xfrm>
              <a:off x="515160" y="2665800"/>
              <a:ext cx="58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nake = [obj0, obj1, obj2, obj3, obj4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Полилиния 6"/>
            <p:cNvSpPr/>
            <p:nvPr/>
          </p:nvSpPr>
          <p:spPr>
            <a:xfrm>
              <a:off x="2408760" y="2205000"/>
              <a:ext cx="609480" cy="514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Полилиния 7"/>
            <p:cNvSpPr/>
            <p:nvPr/>
          </p:nvSpPr>
          <p:spPr>
            <a:xfrm>
              <a:off x="3266280" y="2223720"/>
              <a:ext cx="295200" cy="495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Полилиния 8"/>
            <p:cNvSpPr/>
            <p:nvPr/>
          </p:nvSpPr>
          <p:spPr>
            <a:xfrm flipH="1">
              <a:off x="4104000" y="2233440"/>
              <a:ext cx="360" cy="514440"/>
            </a:xfrm>
            <a:custGeom>
              <a:avLst/>
              <a:gdLst/>
              <a:ahLst/>
              <a:rect l="l" t="t" r="r" b="b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Полилиния 9"/>
            <p:cNvSpPr/>
            <p:nvPr/>
          </p:nvSpPr>
          <p:spPr>
            <a:xfrm flipH="1">
              <a:off x="4609440" y="2205000"/>
              <a:ext cx="342720" cy="552600"/>
            </a:xfrm>
            <a:custGeom>
              <a:avLst/>
              <a:gdLst>
                <a:gd name="textAreaLeft" fmla="*/ 360 w 342720"/>
                <a:gd name="textAreaRight" fmla="*/ 343440 w 34272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Полилиния 10"/>
            <p:cNvSpPr/>
            <p:nvPr/>
          </p:nvSpPr>
          <p:spPr>
            <a:xfrm flipH="1">
              <a:off x="5171040" y="2223720"/>
              <a:ext cx="685800" cy="5526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19075" h="504825">
                  <a:moveTo>
                    <a:pt x="0" y="504825"/>
                  </a:moveTo>
                  <a:lnTo>
                    <a:pt x="0" y="504825"/>
                  </a:lnTo>
                  <a:lnTo>
                    <a:pt x="21907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Группа 17"/>
          <p:cNvGrpSpPr/>
          <p:nvPr/>
        </p:nvGrpSpPr>
        <p:grpSpPr>
          <a:xfrm>
            <a:off x="5445000" y="1663560"/>
            <a:ext cx="831960" cy="567360"/>
            <a:chOff x="5445000" y="1663560"/>
            <a:chExt cx="831960" cy="567360"/>
          </a:xfrm>
        </p:grpSpPr>
        <p:sp>
          <p:nvSpPr>
            <p:cNvPr id="1327" name="Прямоугольник 13"/>
            <p:cNvSpPr/>
            <p:nvPr/>
          </p:nvSpPr>
          <p:spPr>
            <a:xfrm>
              <a:off x="5813280" y="1663560"/>
              <a:ext cx="46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Полилиния 14"/>
            <p:cNvSpPr/>
            <p:nvPr/>
          </p:nvSpPr>
          <p:spPr>
            <a:xfrm>
              <a:off x="5445000" y="167544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Полилиния 15"/>
            <p:cNvSpPr/>
            <p:nvPr/>
          </p:nvSpPr>
          <p:spPr>
            <a:xfrm>
              <a:off x="5445000" y="2230560"/>
              <a:ext cx="330120" cy="36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Полилиния 16"/>
            <p:cNvSpPr/>
            <p:nvPr/>
          </p:nvSpPr>
          <p:spPr>
            <a:xfrm>
              <a:off x="5669280" y="1672200"/>
              <a:ext cx="360" cy="552240"/>
            </a:xfrm>
            <a:custGeom>
              <a:avLst/>
              <a:gdLst/>
              <a:ahLst/>
              <a:rect l="l" t="t" r="r" b="b"/>
              <a:pathLst>
                <a:path w="330200" h="9525">
                  <a:moveTo>
                    <a:pt x="0" y="9525"/>
                  </a:moveTo>
                  <a:lnTo>
                    <a:pt x="3302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Группа 19"/>
          <p:cNvGrpSpPr/>
          <p:nvPr/>
        </p:nvGrpSpPr>
        <p:grpSpPr>
          <a:xfrm>
            <a:off x="1851120" y="1270080"/>
            <a:ext cx="977760" cy="520560"/>
            <a:chOff x="1851120" y="1270080"/>
            <a:chExt cx="977760" cy="520560"/>
          </a:xfrm>
        </p:grpSpPr>
        <p:sp>
          <p:nvSpPr>
            <p:cNvPr id="1332" name="Прямоугольник 12"/>
            <p:cNvSpPr/>
            <p:nvPr/>
          </p:nvSpPr>
          <p:spPr>
            <a:xfrm>
              <a:off x="1851120" y="1270080"/>
              <a:ext cx="97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Овал 18"/>
            <p:cNvSpPr/>
            <p:nvPr/>
          </p:nvSpPr>
          <p:spPr>
            <a:xfrm>
              <a:off x="2686320" y="1634040"/>
              <a:ext cx="104760" cy="104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Rectangle 7"/>
          <p:cNvSpPr/>
          <p:nvPr/>
        </p:nvSpPr>
        <p:spPr>
          <a:xfrm>
            <a:off x="426960" y="3330720"/>
            <a:ext cx="8550360" cy="3046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 =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+i*a, y, x+i*a+a, y+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ke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11"/>
          <p:cNvSpPr/>
          <p:nvPr/>
        </p:nvSpPr>
        <p:spPr>
          <a:xfrm>
            <a:off x="4738680" y="3416400"/>
            <a:ext cx="4002120" cy="90648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границы и заливки для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11"/>
          <p:cNvSpPr/>
          <p:nvPr/>
        </p:nvSpPr>
        <p:spPr>
          <a:xfrm>
            <a:off x="4892760" y="5653080"/>
            <a:ext cx="3371760" cy="534960"/>
          </a:xfrm>
          <a:prstGeom prst="wedgeRoundRectCallout">
            <a:avLst>
              <a:gd name="adj1" fmla="val -64500"/>
              <a:gd name="adj2" fmla="val 1783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зелё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4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7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0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5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2" dur="500"/>
                                        <p:tgtEl>
                                          <p:spTgt spid="1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1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9635-3C98-4565-9C58-8B1C139692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4"/>
          <p:cNvGrpSpPr/>
          <p:nvPr/>
        </p:nvGrpSpPr>
        <p:grpSpPr>
          <a:xfrm>
            <a:off x="744480" y="2058840"/>
            <a:ext cx="2763720" cy="1126080"/>
            <a:chOff x="744480" y="2058840"/>
            <a:chExt cx="2763720" cy="1126080"/>
          </a:xfrm>
        </p:grpSpPr>
        <p:sp>
          <p:nvSpPr>
            <p:cNvPr id="276" name="Line 5"/>
            <p:cNvSpPr/>
            <p:nvPr/>
          </p:nvSpPr>
          <p:spPr>
            <a:xfrm>
              <a:off x="1157400" y="2565360"/>
              <a:ext cx="1203120" cy="558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744480" y="20588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2378160" y="267480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8"/>
          <p:cNvSpPr/>
          <p:nvPr/>
        </p:nvSpPr>
        <p:spPr>
          <a:xfrm>
            <a:off x="4148280" y="251316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 y1, x2, 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1417680" y="1014480"/>
            <a:ext cx="1130400" cy="581040"/>
            <a:chOff x="1417680" y="1014480"/>
            <a:chExt cx="1130400" cy="581040"/>
          </a:xfrm>
        </p:grpSpPr>
        <p:sp>
          <p:nvSpPr>
            <p:cNvPr id="281" name="Text Box 12"/>
            <p:cNvSpPr/>
            <p:nvPr/>
          </p:nvSpPr>
          <p:spPr>
            <a:xfrm>
              <a:off x="1417680" y="101448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2190600" y="1501920"/>
              <a:ext cx="93960" cy="93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15"/>
          <p:cNvSpPr/>
          <p:nvPr/>
        </p:nvSpPr>
        <p:spPr>
          <a:xfrm>
            <a:off x="4148280" y="1081080"/>
            <a:ext cx="4564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5"/>
          <p:cNvGrpSpPr/>
          <p:nvPr/>
        </p:nvGrpSpPr>
        <p:grpSpPr>
          <a:xfrm>
            <a:off x="476280" y="3713040"/>
            <a:ext cx="3343320" cy="2817000"/>
            <a:chOff x="476280" y="3713040"/>
            <a:chExt cx="3343320" cy="2817000"/>
          </a:xfrm>
        </p:grpSpPr>
        <p:sp>
          <p:nvSpPr>
            <p:cNvPr id="285" name="Freeform 16"/>
            <p:cNvSpPr/>
            <p:nvPr/>
          </p:nvSpPr>
          <p:spPr>
            <a:xfrm>
              <a:off x="1176480" y="4257720"/>
              <a:ext cx="1520640" cy="1771560"/>
            </a:xfrm>
            <a:custGeom>
              <a:avLst/>
              <a:gdLst>
                <a:gd name="textAreaLeft" fmla="*/ 0 w 1520640"/>
                <a:gd name="textAreaRight" fmla="*/ 1521000 w 152064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958" h="1116">
                  <a:moveTo>
                    <a:pt x="6" y="29"/>
                  </a:moveTo>
                  <a:lnTo>
                    <a:pt x="712" y="0"/>
                  </a:lnTo>
                  <a:lnTo>
                    <a:pt x="958" y="611"/>
                  </a:lnTo>
                  <a:lnTo>
                    <a:pt x="612" y="1116"/>
                  </a:lnTo>
                  <a:lnTo>
                    <a:pt x="0" y="77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7"/>
            <p:cNvSpPr/>
            <p:nvPr/>
          </p:nvSpPr>
          <p:spPr>
            <a:xfrm>
              <a:off x="476280" y="37306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2044800" y="3713040"/>
              <a:ext cx="113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2689200" y="483408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2025720" y="601992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1"/>
            <p:cNvSpPr/>
            <p:nvPr/>
          </p:nvSpPr>
          <p:spPr>
            <a:xfrm>
              <a:off x="495360" y="4937040"/>
              <a:ext cx="113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22"/>
          <p:cNvSpPr/>
          <p:nvPr/>
        </p:nvSpPr>
        <p:spPr>
          <a:xfrm>
            <a:off x="4148280" y="3944880"/>
            <a:ext cx="4638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1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) </a:t>
            </a:r>
            <a:br>
              <a:rPr sz="2400"/>
            </a:b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2,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3, y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4, y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5, y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7" name=""/>
          <p:cNvGraphicFramePr/>
          <p:nvPr/>
        </p:nvGraphicFramePr>
        <p:xfrm>
          <a:off x="1187280" y="957240"/>
          <a:ext cx="540000" cy="539640"/>
        </p:xfrm>
        <a:graphic>
          <a:graphicData uri="http://schemas.openxmlformats.org/drawingml/2006/table">
            <a:tbl>
              <a:tblPr/>
              <a:tblGrid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BDCE-F8FC-4D7C-9BB7-B515BC0C9E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1187280" y="1503360"/>
          <a:ext cx="270036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14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41" name="Стрелка вправо 4"/>
          <p:cNvSpPr/>
          <p:nvPr/>
        </p:nvSpPr>
        <p:spPr>
          <a:xfrm>
            <a:off x="4235400" y="1614600"/>
            <a:ext cx="461880" cy="2728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Стрелка вправо 5"/>
          <p:cNvSpPr/>
          <p:nvPr/>
        </p:nvSpPr>
        <p:spPr>
          <a:xfrm rot="16200000">
            <a:off x="1211040" y="1377720"/>
            <a:ext cx="463680" cy="2732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Стрелка вправо 12"/>
          <p:cNvSpPr/>
          <p:nvPr/>
        </p:nvSpPr>
        <p:spPr>
          <a:xfrm rot="10800000">
            <a:off x="15253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Стрелка вправо 13"/>
          <p:cNvSpPr/>
          <p:nvPr/>
        </p:nvSpPr>
        <p:spPr>
          <a:xfrm rot="10800000">
            <a:off x="206856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Стрелка вправо 14"/>
          <p:cNvSpPr/>
          <p:nvPr/>
        </p:nvSpPr>
        <p:spPr>
          <a:xfrm rot="10800000">
            <a:off x="2601720" y="1638360"/>
            <a:ext cx="463320" cy="27288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Стрелка вправо 15"/>
          <p:cNvSpPr/>
          <p:nvPr/>
        </p:nvSpPr>
        <p:spPr>
          <a:xfrm rot="10800000">
            <a:off x="3135240" y="1638360"/>
            <a:ext cx="463680" cy="272880"/>
          </a:xfrm>
          <a:prstGeom prst="rightArrow">
            <a:avLst>
              <a:gd name="adj1" fmla="val 50000"/>
              <a:gd name="adj2" fmla="val 5010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5083200" y="957240"/>
          <a:ext cx="539640" cy="539640"/>
        </p:xfrm>
        <a:graphic>
          <a:graphicData uri="http://schemas.openxmlformats.org/drawingml/2006/table">
            <a:tbl>
              <a:tblPr/>
              <a:tblGrid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5083200" y="1503360"/>
          <a:ext cx="21607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414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f7f7f"/>
                      </a:solidFill>
                    </a:lnL>
                    <a:lnR w="13680">
                      <a:solidFill>
                        <a:srgbClr val="7f7f7f"/>
                      </a:solidFill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pSp>
        <p:nvGrpSpPr>
          <p:cNvPr id="1349" name="Group 7"/>
          <p:cNvGrpSpPr/>
          <p:nvPr/>
        </p:nvGrpSpPr>
        <p:grpSpPr>
          <a:xfrm>
            <a:off x="584280" y="2357280"/>
            <a:ext cx="7924680" cy="932040"/>
            <a:chOff x="584280" y="2357280"/>
            <a:chExt cx="7924680" cy="932040"/>
          </a:xfrm>
        </p:grpSpPr>
        <p:sp>
          <p:nvSpPr>
            <p:cNvPr id="1350" name="Text Box 8"/>
            <p:cNvSpPr/>
            <p:nvPr/>
          </p:nvSpPr>
          <p:spPr>
            <a:xfrm>
              <a:off x="1084320" y="2463840"/>
              <a:ext cx="74246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ждое следующее звено перемещается на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место предыдущег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9"/>
            <p:cNvSpPr/>
            <p:nvPr/>
          </p:nvSpPr>
          <p:spPr>
            <a:xfrm>
              <a:off x="584280" y="2357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Group 7"/>
          <p:cNvGrpSpPr/>
          <p:nvPr/>
        </p:nvGrpSpPr>
        <p:grpSpPr>
          <a:xfrm>
            <a:off x="584280" y="5481720"/>
            <a:ext cx="6324480" cy="663480"/>
            <a:chOff x="584280" y="5481720"/>
            <a:chExt cx="6324480" cy="663480"/>
          </a:xfrm>
        </p:grpSpPr>
        <p:sp>
          <p:nvSpPr>
            <p:cNvPr id="1353" name="Text Box 8"/>
            <p:cNvSpPr/>
            <p:nvPr/>
          </p:nvSpPr>
          <p:spPr>
            <a:xfrm>
              <a:off x="1084320" y="5588280"/>
              <a:ext cx="5824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каком порядке перебирать звень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9"/>
            <p:cNvSpPr/>
            <p:nvPr/>
          </p:nvSpPr>
          <p:spPr>
            <a:xfrm>
              <a:off x="584280" y="5481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5" name="Прямоугольник 24"/>
          <p:cNvSpPr/>
          <p:nvPr/>
        </p:nvSpPr>
        <p:spPr>
          <a:xfrm>
            <a:off x="605880" y="34099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о зв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7"/>
          <p:cNvSpPr/>
          <p:nvPr/>
        </p:nvSpPr>
        <p:spPr>
          <a:xfrm>
            <a:off x="660240" y="3978360"/>
            <a:ext cx="7912440" cy="1305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11"/>
          <p:cNvSpPr/>
          <p:nvPr/>
        </p:nvSpPr>
        <p:spPr>
          <a:xfrm>
            <a:off x="6048360" y="6008760"/>
            <a:ext cx="2625840" cy="534960"/>
          </a:xfrm>
          <a:prstGeom prst="wedgeRoundRectCallout">
            <a:avLst>
              <a:gd name="adj1" fmla="val -70787"/>
              <a:gd name="adj2" fmla="val -4861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следн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11"/>
          <p:cNvSpPr/>
          <p:nvPr/>
        </p:nvSpPr>
        <p:spPr>
          <a:xfrm>
            <a:off x="6442200" y="3214800"/>
            <a:ext cx="2307960" cy="1116000"/>
          </a:xfrm>
          <a:prstGeom prst="wedgeRoundRectCallout">
            <a:avLst>
              <a:gd name="adj1" fmla="val -70393"/>
              <a:gd name="adj2" fmla="val 35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оордина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едыдущего з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7" dur="500"/>
                                        <p:tgtEl>
                                          <p:spTgt spid="1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29A9-A498-4047-A800-EB57D8E232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24"/>
          <p:cNvSpPr/>
          <p:nvPr/>
        </p:nvSpPr>
        <p:spPr>
          <a:xfrm>
            <a:off x="423360" y="83196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я змей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7"/>
          <p:cNvSpPr/>
          <p:nvPr/>
        </p:nvSpPr>
        <p:spPr>
          <a:xfrm>
            <a:off x="660240" y="1413000"/>
            <a:ext cx="7912440" cy="3997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)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-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nake[k], 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Coord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(snake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</a:rPr>
              <a:t>], xNew, yNew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x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y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AutoShape 11"/>
          <p:cNvSpPr/>
          <p:nvPr/>
        </p:nvSpPr>
        <p:spPr>
          <a:xfrm>
            <a:off x="5883120" y="966960"/>
            <a:ext cx="2740320" cy="1116000"/>
          </a:xfrm>
          <a:prstGeom prst="wedgeRoundRectCallout">
            <a:avLst>
              <a:gd name="adj1" fmla="val -38902"/>
              <a:gd name="adj2" fmla="val 73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еребор с последнего, кроме го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11"/>
          <p:cNvSpPr/>
          <p:nvPr/>
        </p:nvSpPr>
        <p:spPr>
          <a:xfrm>
            <a:off x="3838680" y="4637160"/>
            <a:ext cx="2612880" cy="620640"/>
          </a:xfrm>
          <a:prstGeom prst="wedgeRoundRectCallout">
            <a:avLst>
              <a:gd name="adj1" fmla="val -52342"/>
              <a:gd name="adj2" fmla="val -99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вигаем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4" dur="500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2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1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1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0" dur="500"/>
                                        <p:tgtEl>
                                          <p:spTgt spid="1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8" dur="500"/>
                                        <p:tgtEl>
                                          <p:spTgt spid="1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двигать змей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6C34-35F5-4D47-AEFF-2D37B261694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Group 7"/>
          <p:cNvGrpSpPr/>
          <p:nvPr/>
        </p:nvGrpSpPr>
        <p:grpSpPr>
          <a:xfrm>
            <a:off x="393840" y="934920"/>
            <a:ext cx="6146280" cy="687960"/>
            <a:chOff x="393840" y="934920"/>
            <a:chExt cx="6146280" cy="687960"/>
          </a:xfrm>
        </p:grpSpPr>
        <p:sp>
          <p:nvSpPr>
            <p:cNvPr id="1368" name="Text Box 8"/>
            <p:cNvSpPr/>
            <p:nvPr/>
          </p:nvSpPr>
          <p:spPr>
            <a:xfrm>
              <a:off x="893520" y="1041480"/>
              <a:ext cx="5646600" cy="58140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аг перемещения всегда равен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9"/>
            <p:cNvSpPr/>
            <p:nvPr/>
          </p:nvSpPr>
          <p:spPr>
            <a:xfrm>
              <a:off x="393840" y="9349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Прямоугольник 6"/>
          <p:cNvSpPr/>
          <p:nvPr/>
        </p:nvSpPr>
        <p:spPr>
          <a:xfrm>
            <a:off x="545400" y="169560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о так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, d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1, 0 или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7"/>
          <p:cNvSpPr/>
          <p:nvPr/>
        </p:nvSpPr>
        <p:spPr>
          <a:xfrm>
            <a:off x="593640" y="2343240"/>
            <a:ext cx="7318440" cy="4006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globa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,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vent.keycode =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VK_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-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moveSnak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y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Прямоугольник 8"/>
          <p:cNvSpPr/>
          <p:nvPr/>
        </p:nvSpPr>
        <p:spPr>
          <a:xfrm>
            <a:off x="608436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y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Прямоугольник 9"/>
          <p:cNvSpPr/>
          <p:nvPr/>
        </p:nvSpPr>
        <p:spPr>
          <a:xfrm>
            <a:off x="4065120" y="568944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x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1"/>
          <p:cNvSpPr/>
          <p:nvPr/>
        </p:nvSpPr>
        <p:spPr>
          <a:xfrm>
            <a:off x="3673440" y="4216320"/>
            <a:ext cx="3032280" cy="876240"/>
          </a:xfrm>
          <a:prstGeom prst="wedgeRoundRectCallout">
            <a:avLst>
              <a:gd name="adj1" fmla="val -66773"/>
              <a:gd name="adj2" fmla="val 97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оба нули, двигать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8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7" dur="500"/>
                                        <p:tgtEl>
                                          <p:spTgt spid="1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1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4" dur="500"/>
                                        <p:tgtEl>
                                          <p:spTgt spid="1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2" dur="500"/>
                                        <p:tgtEl>
                                          <p:spTgt spid="1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5" dur="500"/>
                                        <p:tgtEl>
                                          <p:spTgt spid="1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8" dur="500"/>
                                        <p:tgtEl>
                                          <p:spTgt spid="1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1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B247-2899-4492-8F92-719E58BD975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22"/>
          <p:cNvSpPr/>
          <p:nvPr/>
        </p:nvSpPr>
        <p:spPr>
          <a:xfrm>
            <a:off x="474840" y="887400"/>
            <a:ext cx="8377200" cy="521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move</a:t>
            </a: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Snak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xNew, yNew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ff"/>
                </a:solidFill>
                <a:latin typeface="Courier New"/>
              </a:rPr>
              <a:t>def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(event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синий квадра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координаты голов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dx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s-ES" sz="2100" spc="-1" strike="noStrike">
                <a:solidFill>
                  <a:srgbClr val="000000"/>
                </a:solidFill>
                <a:latin typeface="Courier New"/>
              </a:rPr>
              <a:t>; dy = </a:t>
            </a:r>
            <a:r>
              <a:rPr b="1" lang="es-ES" sz="21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100" spc="-1" strike="noStrike">
                <a:solidFill>
                  <a:srgbClr val="00b0f0"/>
                </a:solidFill>
                <a:latin typeface="Courier New"/>
              </a:rPr>
              <a:t>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в начале стоит на мес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 N = </a:t>
            </a:r>
            <a:r>
              <a:rPr b="1" lang="en-US" sz="2100" spc="-1" strike="noStrike">
                <a:solidFill>
                  <a:srgbClr val="00b0f0"/>
                </a:solidFill>
                <a:latin typeface="Courier New"/>
              </a:rPr>
              <a:t>20   </a:t>
            </a: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азмер и количество звенье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100" spc="-1" strike="noStrike">
                <a:solidFill>
                  <a:srgbClr val="008000"/>
                </a:solidFill>
                <a:latin typeface="Courier New"/>
              </a:rPr>
              <a:t>рисуем змейку в начальном положе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Key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keyPressed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100" spc="-1" strike="noStrike">
                <a:solidFill>
                  <a:srgbClr val="0070c0"/>
                </a:solidFill>
                <a:latin typeface="Courier New"/>
              </a:rPr>
              <a:t>onTimer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100" spc="-1" strike="noStrike">
                <a:solidFill>
                  <a:srgbClr val="0070c0"/>
                </a:solidFill>
                <a:latin typeface="Courier New"/>
              </a:rPr>
              <a:t>update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sq-AL" sz="21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q-AL" sz="2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8" dur="indefinite" restart="never" nodeType="tmRoot">
          <p:childTnLst>
            <p:seq>
              <p:cTn id="2359" dur="indefinite" nodeType="mainSeq">
                <p:childTnLst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2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3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3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3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2" descr=""/>
          <p:cNvPicPr/>
          <p:nvPr/>
        </p:nvPicPr>
        <p:blipFill>
          <a:blip r:embed="rId1"/>
          <a:stretch/>
        </p:blipFill>
        <p:spPr>
          <a:xfrm>
            <a:off x="6226200" y="3878280"/>
            <a:ext cx="2363760" cy="2255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"/>
          <p:cNvSpPr/>
          <p:nvPr/>
        </p:nvSpPr>
        <p:spPr>
          <a:xfrm>
            <a:off x="369720" y="1236600"/>
            <a:ext cx="5437440" cy="34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и запустить програм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не может выйти за пределы синего квад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авливается у стен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B76A-20FF-4FE8-B083-2C2A101C6F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2"/>
          <a:stretch/>
        </p:blipFill>
        <p:spPr>
          <a:xfrm>
            <a:off x="6226200" y="1058760"/>
            <a:ext cx="2363760" cy="225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83" name="AutoShape 20"/>
          <p:cNvSpPr/>
          <p:nvPr/>
        </p:nvSpPr>
        <p:spPr>
          <a:xfrm rot="2700000">
            <a:off x="6090840" y="488808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AutoShape 21"/>
          <p:cNvSpPr/>
          <p:nvPr/>
        </p:nvSpPr>
        <p:spPr>
          <a:xfrm rot="2700000">
            <a:off x="8446680" y="490680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22"/>
          <p:cNvSpPr/>
          <p:nvPr/>
        </p:nvSpPr>
        <p:spPr>
          <a:xfrm rot="2700000">
            <a:off x="7254360" y="59371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23"/>
          <p:cNvSpPr/>
          <p:nvPr/>
        </p:nvSpPr>
        <p:spPr>
          <a:xfrm rot="2700000">
            <a:off x="7191000" y="3706920"/>
            <a:ext cx="360360" cy="360360"/>
          </a:xfrm>
          <a:prstGeom prst="plus">
            <a:avLst>
              <a:gd name="adj" fmla="val 38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2"/>
          <p:cNvSpPr/>
          <p:nvPr/>
        </p:nvSpPr>
        <p:spPr>
          <a:xfrm>
            <a:off x="369720" y="112248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ка при столкновении с границей поля начинает ползти вдоль этой г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2"/>
          <p:cNvSpPr/>
          <p:nvPr/>
        </p:nvSpPr>
        <p:spPr>
          <a:xfrm>
            <a:off x="369720" y="3700440"/>
            <a:ext cx="483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6»: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мейка пересекает сама себя, игра закан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0B03-7677-48D3-9055-9478D234D25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Picture 2" descr=""/>
          <p:cNvPicPr/>
          <p:nvPr/>
        </p:nvPicPr>
        <p:blipFill>
          <a:blip r:embed="rId1"/>
          <a:stretch/>
        </p:blipFill>
        <p:spPr>
          <a:xfrm>
            <a:off x="5943600" y="990720"/>
            <a:ext cx="2641680" cy="2590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92" name="Стрелка углом 17"/>
          <p:cNvSpPr/>
          <p:nvPr/>
        </p:nvSpPr>
        <p:spPr>
          <a:xfrm rot="16200000">
            <a:off x="6146640" y="2181240"/>
            <a:ext cx="466560" cy="447480"/>
          </a:xfrm>
          <a:custGeom>
            <a:avLst/>
            <a:gdLst/>
            <a:ahLst/>
            <a:rect l="l" t="t" r="r" b="b"/>
            <a:pathLst>
              <a:path w="466725" h="447675">
                <a:moveTo>
                  <a:pt x="0" y="447675"/>
                </a:moveTo>
                <a:lnTo>
                  <a:pt x="0" y="221295"/>
                </a:lnTo>
                <a:lnTo>
                  <a:pt x="0" y="221295"/>
                </a:lnTo>
                <a:arcTo wR="195858" hR="195858" stAng="10800000" swAng="5400000"/>
                <a:lnTo>
                  <a:pt x="307326" y="25437"/>
                </a:lnTo>
                <a:lnTo>
                  <a:pt x="307326" y="0"/>
                </a:lnTo>
                <a:lnTo>
                  <a:pt x="466725" y="47480"/>
                </a:lnTo>
                <a:lnTo>
                  <a:pt x="307326" y="94961"/>
                </a:lnTo>
                <a:lnTo>
                  <a:pt x="307326" y="69524"/>
                </a:lnTo>
                <a:lnTo>
                  <a:pt x="195858" y="69524"/>
                </a:lnTo>
                <a:lnTo>
                  <a:pt x="195858" y="69524"/>
                </a:lnTo>
                <a:arcTo wR="151771" hR="151771" stAng="-5400000" swAng="-5400000"/>
                <a:lnTo>
                  <a:pt x="44087" y="4476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65FD-722B-40C7-BCBE-5D33521414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Прямоугольник 6"/>
          <p:cNvSpPr/>
          <p:nvPr/>
        </p:nvSpPr>
        <p:spPr>
          <a:xfrm>
            <a:off x="532080" y="814320"/>
            <a:ext cx="390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тить друга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ть таре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1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ть в лотер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Прямоугольник 6"/>
          <p:cNvSpPr/>
          <p:nvPr/>
        </p:nvSpPr>
        <p:spPr>
          <a:xfrm>
            <a:off x="5070600" y="814320"/>
            <a:ext cx="325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учайный выбор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ребьевк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авшие номе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отер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2" descr=""/>
          <p:cNvPicPr/>
          <p:nvPr/>
        </p:nvPicPr>
        <p:blipFill>
          <a:blip r:embed="rId1"/>
          <a:stretch/>
        </p:blipFill>
        <p:spPr>
          <a:xfrm>
            <a:off x="2652840" y="3371760"/>
            <a:ext cx="2170080" cy="107784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3" descr=""/>
          <p:cNvPicPr/>
          <p:nvPr/>
        </p:nvPicPr>
        <p:blipFill>
          <a:blip r:embed="rId2"/>
          <a:stretch/>
        </p:blipFill>
        <p:spPr>
          <a:xfrm>
            <a:off x="5222880" y="3416400"/>
            <a:ext cx="895320" cy="95256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" descr=""/>
          <p:cNvPicPr/>
          <p:nvPr/>
        </p:nvPicPr>
        <p:blipFill>
          <a:blip r:embed="rId3"/>
          <a:stretch/>
        </p:blipFill>
        <p:spPr>
          <a:xfrm>
            <a:off x="5253120" y="4614840"/>
            <a:ext cx="2765520" cy="1844640"/>
          </a:xfrm>
          <a:prstGeom prst="rect">
            <a:avLst/>
          </a:prstGeom>
          <a:ln w="0">
            <a:noFill/>
          </a:ln>
        </p:spPr>
      </p:pic>
      <p:sp>
        <p:nvSpPr>
          <p:cNvPr id="1400" name="Прямоугольник 6"/>
          <p:cNvSpPr/>
          <p:nvPr/>
        </p:nvSpPr>
        <p:spPr>
          <a:xfrm>
            <a:off x="483480" y="281772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получить случай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3" descr=""/>
          <p:cNvPicPr/>
          <p:nvPr/>
        </p:nvPicPr>
        <p:blipFill>
          <a:blip r:embed="rId4"/>
          <a:stretch/>
        </p:blipFill>
        <p:spPr>
          <a:xfrm>
            <a:off x="915840" y="4649760"/>
            <a:ext cx="1927440" cy="182088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4" descr=""/>
          <p:cNvPicPr/>
          <p:nvPr/>
        </p:nvPicPr>
        <p:blipFill>
          <a:blip r:embed="rId5"/>
          <a:stretch/>
        </p:blipFill>
        <p:spPr>
          <a:xfrm>
            <a:off x="3166920" y="4622760"/>
            <a:ext cx="18226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500"/>
                            </p:stCondLst>
                            <p:childTnLst>
                              <p:par>
                                <p:cTn id="2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4" dur="500"/>
                                        <p:tgtEl>
                                          <p:spTgt spid="1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1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500"/>
                            </p:stCondLst>
                            <p:childTnLst>
                              <p:par>
                                <p:cTn id="2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3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 на компьют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B0A5-3D00-40C0-85FB-C22B9F31370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олилиния 4"/>
          <p:cNvSpPr/>
          <p:nvPr/>
        </p:nvSpPr>
        <p:spPr>
          <a:xfrm>
            <a:off x="915840" y="5589720"/>
            <a:ext cx="2281320" cy="83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520"/>
              <a:gd name="textAreaBottom" fmla="*/ 839880 h 83952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Прямоугольник 6"/>
          <p:cNvSpPr/>
          <p:nvPr/>
        </p:nvSpPr>
        <p:spPr>
          <a:xfrm>
            <a:off x="394920" y="8064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ый 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Picture 5" descr=""/>
          <p:cNvPicPr/>
          <p:nvPr/>
        </p:nvPicPr>
        <p:blipFill>
          <a:blip r:embed="rId1"/>
          <a:stretch/>
        </p:blipFill>
        <p:spPr>
          <a:xfrm>
            <a:off x="971640" y="1266840"/>
            <a:ext cx="1596960" cy="896760"/>
          </a:xfrm>
          <a:prstGeom prst="rect">
            <a:avLst/>
          </a:prstGeom>
          <a:ln w="0">
            <a:noFill/>
          </a:ln>
        </p:spPr>
      </p:pic>
      <p:grpSp>
        <p:nvGrpSpPr>
          <p:cNvPr id="1408" name="Group 26"/>
          <p:cNvGrpSpPr/>
          <p:nvPr/>
        </p:nvGrpSpPr>
        <p:grpSpPr>
          <a:xfrm>
            <a:off x="3279600" y="1325520"/>
            <a:ext cx="395640" cy="395280"/>
            <a:chOff x="3279600" y="1325520"/>
            <a:chExt cx="395640" cy="395280"/>
          </a:xfrm>
        </p:grpSpPr>
        <p:sp>
          <p:nvSpPr>
            <p:cNvPr id="1409" name="Oval 27"/>
            <p:cNvSpPr/>
            <p:nvPr/>
          </p:nvSpPr>
          <p:spPr>
            <a:xfrm>
              <a:off x="3279600" y="132552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28"/>
            <p:cNvSpPr/>
            <p:nvPr/>
          </p:nvSpPr>
          <p:spPr>
            <a:xfrm>
              <a:off x="3330360" y="14763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Rectangle 30"/>
          <p:cNvSpPr/>
          <p:nvPr/>
        </p:nvSpPr>
        <p:spPr>
          <a:xfrm>
            <a:off x="3805200" y="1335240"/>
            <a:ext cx="49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специаль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льзя воспроизвести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олилиния 4"/>
          <p:cNvSpPr/>
          <p:nvPr/>
        </p:nvSpPr>
        <p:spPr>
          <a:xfrm>
            <a:off x="906480" y="4743360"/>
            <a:ext cx="2281320" cy="8398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281287" h="603316">
                <a:moveTo>
                  <a:pt x="0" y="603316"/>
                </a:moveTo>
                <a:lnTo>
                  <a:pt x="0" y="306371"/>
                </a:lnTo>
                <a:lnTo>
                  <a:pt x="523188" y="0"/>
                </a:lnTo>
                <a:lnTo>
                  <a:pt x="1814660" y="0"/>
                </a:lnTo>
                <a:lnTo>
                  <a:pt x="2281287" y="306371"/>
                </a:lnTo>
                <a:lnTo>
                  <a:pt x="2281287" y="603315"/>
                </a:lnTo>
                <a:lnTo>
                  <a:pt x="0" y="603316"/>
                </a:lnTo>
                <a:close/>
              </a:path>
            </a:pathLst>
          </a:custGeom>
          <a:solidFill>
            <a:srgbClr val="ffff66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5"/>
          <p:cNvSpPr/>
          <p:nvPr/>
        </p:nvSpPr>
        <p:spPr>
          <a:xfrm>
            <a:off x="899640" y="5133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184581910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6"/>
          <p:cNvSpPr/>
          <p:nvPr/>
        </p:nvSpPr>
        <p:spPr>
          <a:xfrm>
            <a:off x="1455840" y="4327560"/>
            <a:ext cx="128736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6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Прямоугольник 7"/>
          <p:cNvSpPr/>
          <p:nvPr/>
        </p:nvSpPr>
        <p:spPr>
          <a:xfrm>
            <a:off x="899640" y="598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99389924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Прямоугольник 9"/>
          <p:cNvSpPr/>
          <p:nvPr/>
        </p:nvSpPr>
        <p:spPr>
          <a:xfrm>
            <a:off x="1532160" y="5129280"/>
            <a:ext cx="1098000" cy="448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58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10"/>
          <p:cNvSpPr/>
          <p:nvPr/>
        </p:nvSpPr>
        <p:spPr>
          <a:xfrm>
            <a:off x="1530720" y="6022800"/>
            <a:ext cx="1134000" cy="4021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" tIns="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38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Group 26"/>
          <p:cNvGrpSpPr/>
          <p:nvPr/>
        </p:nvGrpSpPr>
        <p:grpSpPr>
          <a:xfrm>
            <a:off x="4057560" y="4338720"/>
            <a:ext cx="395280" cy="395280"/>
            <a:chOff x="4057560" y="4338720"/>
            <a:chExt cx="395280" cy="395280"/>
          </a:xfrm>
        </p:grpSpPr>
        <p:sp>
          <p:nvSpPr>
            <p:cNvPr id="1419" name="Oval 27"/>
            <p:cNvSpPr/>
            <p:nvPr/>
          </p:nvSpPr>
          <p:spPr>
            <a:xfrm>
              <a:off x="4057560" y="43387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28"/>
            <p:cNvSpPr/>
            <p:nvPr/>
          </p:nvSpPr>
          <p:spPr>
            <a:xfrm>
              <a:off x="4108320" y="44895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Rectangle 30"/>
          <p:cNvSpPr/>
          <p:nvPr/>
        </p:nvSpPr>
        <p:spPr>
          <a:xfrm>
            <a:off x="4583160" y="4348080"/>
            <a:ext cx="39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период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ледовательность повторяется через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исе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16"/>
          <p:cNvSpPr/>
          <p:nvPr/>
        </p:nvSpPr>
        <p:spPr>
          <a:xfrm>
            <a:off x="464400" y="362268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середины квадр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ж. фон Нейм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Скругленная прямоугольная выноска 42"/>
          <p:cNvSpPr/>
          <p:nvPr/>
        </p:nvSpPr>
        <p:spPr>
          <a:xfrm>
            <a:off x="3065400" y="4282920"/>
            <a:ext cx="1677960" cy="522360"/>
          </a:xfrm>
          <a:prstGeom prst="wedgeRoundRectCallout">
            <a:avLst>
              <a:gd name="adj1" fmla="val -51041"/>
              <a:gd name="adj2" fmla="val 110087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вад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Прямоугольник 43"/>
          <p:cNvSpPr/>
          <p:nvPr/>
        </p:nvSpPr>
        <p:spPr>
          <a:xfrm>
            <a:off x="382680" y="237960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случайные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ладают свойствами случайных чисел, но каждое следующее число вычисляется по заданной форм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ая прямоугольная выноска 44"/>
          <p:cNvSpPr/>
          <p:nvPr/>
        </p:nvSpPr>
        <p:spPr>
          <a:xfrm>
            <a:off x="208080" y="4137120"/>
            <a:ext cx="1114200" cy="522360"/>
          </a:xfrm>
          <a:prstGeom prst="wedgeRoundRectCallout">
            <a:avLst>
              <a:gd name="adj1" fmla="val 63592"/>
              <a:gd name="adj2" fmla="val 23416"/>
              <a:gd name="adj3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8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7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2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нейный конгруэнтный генер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1B0-455A-424A-A1D6-6844D38511E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>
            <a:off x="442800" y="950760"/>
            <a:ext cx="78026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a*X + b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) %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c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442800" y="1546200"/>
            <a:ext cx="780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+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 %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b0f0"/>
                </a:solidFill>
                <a:latin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</a:rPr>
              <a:t>интервал от 0 до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5"/>
          <p:cNvSpPr/>
          <p:nvPr/>
        </p:nvSpPr>
        <p:spPr>
          <a:xfrm>
            <a:off x="442800" y="2019240"/>
            <a:ext cx="12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Скругленная прямоугольная выноска 6"/>
          <p:cNvSpPr/>
          <p:nvPr/>
        </p:nvSpPr>
        <p:spPr>
          <a:xfrm>
            <a:off x="407880" y="2774880"/>
            <a:ext cx="1271520" cy="560520"/>
          </a:xfrm>
          <a:prstGeom prst="wedgeRoundRectCallout">
            <a:avLst>
              <a:gd name="adj1" fmla="val 17319"/>
              <a:gd name="adj2" fmla="val -1231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5"/>
          <p:cNvSpPr/>
          <p:nvPr/>
        </p:nvSpPr>
        <p:spPr>
          <a:xfrm>
            <a:off x="153504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5"/>
          <p:cNvSpPr/>
          <p:nvPr/>
        </p:nvSpPr>
        <p:spPr>
          <a:xfrm>
            <a:off x="229392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13200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5"/>
          <p:cNvSpPr/>
          <p:nvPr/>
        </p:nvSpPr>
        <p:spPr>
          <a:xfrm>
            <a:off x="3870360" y="20080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4619520" y="200808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"/>
          <p:cNvSpPr/>
          <p:nvPr/>
        </p:nvSpPr>
        <p:spPr>
          <a:xfrm>
            <a:off x="5378400" y="200808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5"/>
          <p:cNvSpPr/>
          <p:nvPr/>
        </p:nvSpPr>
        <p:spPr>
          <a:xfrm>
            <a:off x="5411880" y="261468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ая прямоугольная выноска 14"/>
          <p:cNvSpPr/>
          <p:nvPr/>
        </p:nvSpPr>
        <p:spPr>
          <a:xfrm>
            <a:off x="6423120" y="2389320"/>
            <a:ext cx="2522520" cy="560160"/>
          </a:xfrm>
          <a:prstGeom prst="wedgeRoundRectCallout">
            <a:avLst>
              <a:gd name="adj1" fmla="val -62439"/>
              <a:gd name="adj2" fmla="val 282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цик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2687760" y="2625840"/>
            <a:ext cx="58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3065400" y="2625840"/>
            <a:ext cx="9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5"/>
          <p:cNvSpPr/>
          <p:nvPr/>
        </p:nvSpPr>
        <p:spPr>
          <a:xfrm>
            <a:off x="3868560" y="2625840"/>
            <a:ext cx="9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5"/>
          <p:cNvSpPr/>
          <p:nvPr/>
        </p:nvSpPr>
        <p:spPr>
          <a:xfrm>
            <a:off x="4640400" y="2625840"/>
            <a:ext cx="96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Group 55"/>
          <p:cNvGrpSpPr/>
          <p:nvPr/>
        </p:nvGrpSpPr>
        <p:grpSpPr>
          <a:xfrm>
            <a:off x="1328760" y="3603600"/>
            <a:ext cx="7102080" cy="931680"/>
            <a:chOff x="1328760" y="3603600"/>
            <a:chExt cx="7102080" cy="931680"/>
          </a:xfrm>
        </p:grpSpPr>
        <p:sp>
          <p:nvSpPr>
            <p:cNvPr id="1445" name="Text Box 56"/>
            <p:cNvSpPr/>
            <p:nvPr/>
          </p:nvSpPr>
          <p:spPr>
            <a:xfrm>
              <a:off x="1511640" y="3709800"/>
              <a:ext cx="691920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2800" indent="-268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ажен правильный выбор параметров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Oval 57"/>
            <p:cNvSpPr/>
            <p:nvPr/>
          </p:nvSpPr>
          <p:spPr>
            <a:xfrm>
              <a:off x="1328760" y="3603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Прямоугольник 22"/>
          <p:cNvSpPr/>
          <p:nvPr/>
        </p:nvSpPr>
        <p:spPr>
          <a:xfrm>
            <a:off x="1742400" y="45655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мпилятор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351524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2" dur="indefinite" restart="never" nodeType="tmRoot">
          <p:childTnLst>
            <p:seq>
              <p:cTn id="2573" dur="indefinite" nodeType="mainSeq">
                <p:childTnLst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8" dur="500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6" dur="500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1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9" dur="50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4" dur="5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4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500"/>
                            </p:stCondLst>
                            <p:childTnLst>
                              <p:par>
                                <p:cTn id="2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D712-5B2D-4E27-931E-21A05B2E123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388800" y="33512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5"/>
          <p:cNvSpPr/>
          <p:nvPr/>
        </p:nvSpPr>
        <p:spPr>
          <a:xfrm>
            <a:off x="806400" y="3859200"/>
            <a:ext cx="8109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388800" y="163368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5"/>
          <p:cNvSpPr/>
          <p:nvPr/>
        </p:nvSpPr>
        <p:spPr>
          <a:xfrm>
            <a:off x="806400" y="2166840"/>
            <a:ext cx="814716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9"/>
          <p:cNvSpPr/>
          <p:nvPr/>
        </p:nvSpPr>
        <p:spPr>
          <a:xfrm>
            <a:off x="405360" y="946080"/>
            <a:ext cx="255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AutoShape 17"/>
          <p:cNvSpPr/>
          <p:nvPr/>
        </p:nvSpPr>
        <p:spPr>
          <a:xfrm>
            <a:off x="3505320" y="876240"/>
            <a:ext cx="4427280" cy="528840"/>
          </a:xfrm>
          <a:prstGeom prst="wedgeRoundRectCallout">
            <a:avLst>
              <a:gd name="adj1" fmla="val -64046"/>
              <a:gd name="adj2" fmla="val -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1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итивы (простейшие фигур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C0B1-C2E2-4C2C-961B-EB01EFB143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118200" y="884160"/>
            <a:ext cx="673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7"/>
          <p:cNvGrpSpPr/>
          <p:nvPr/>
        </p:nvGrpSpPr>
        <p:grpSpPr>
          <a:xfrm>
            <a:off x="390600" y="1081080"/>
            <a:ext cx="2622600" cy="1702800"/>
            <a:chOff x="390600" y="1081080"/>
            <a:chExt cx="2622600" cy="1702800"/>
          </a:xfrm>
        </p:grpSpPr>
        <p:sp>
          <p:nvSpPr>
            <p:cNvPr id="296" name="Text Box 5"/>
            <p:cNvSpPr/>
            <p:nvPr/>
          </p:nvSpPr>
          <p:spPr>
            <a:xfrm>
              <a:off x="390600" y="1081080"/>
              <a:ext cx="13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10, 2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1638360" y="23241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998640" y="1641600"/>
              <a:ext cx="1157040" cy="644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2090880" y="223056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942840" y="15876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10"/>
          <p:cNvSpPr/>
          <p:nvPr/>
        </p:nvSpPr>
        <p:spPr>
          <a:xfrm>
            <a:off x="3225960" y="128268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yello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2155320" y="1549440"/>
            <a:ext cx="105732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>
            <a:off x="1604520" y="1905120"/>
            <a:ext cx="160812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0"/>
          <p:cNvSpPr/>
          <p:nvPr/>
        </p:nvSpPr>
        <p:spPr>
          <a:xfrm>
            <a:off x="3189240" y="5068800"/>
            <a:ext cx="57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Группа 25"/>
          <p:cNvGrpSpPr/>
          <p:nvPr/>
        </p:nvGrpSpPr>
        <p:grpSpPr>
          <a:xfrm>
            <a:off x="1054080" y="5092560"/>
            <a:ext cx="1181160" cy="1181160"/>
            <a:chOff x="1054080" y="5092560"/>
            <a:chExt cx="1181160" cy="1181160"/>
          </a:xfrm>
        </p:grpSpPr>
        <p:sp>
          <p:nvSpPr>
            <p:cNvPr id="306" name="Овал 22"/>
            <p:cNvSpPr/>
            <p:nvPr/>
          </p:nvSpPr>
          <p:spPr>
            <a:xfrm>
              <a:off x="1054080" y="5092560"/>
              <a:ext cx="1181160" cy="11811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1600200" y="56386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Группа 30"/>
          <p:cNvGrpSpPr/>
          <p:nvPr/>
        </p:nvGrpSpPr>
        <p:grpSpPr>
          <a:xfrm>
            <a:off x="165240" y="4495680"/>
            <a:ext cx="1447560" cy="1143000"/>
            <a:chOff x="165240" y="4495680"/>
            <a:chExt cx="1447560" cy="1143000"/>
          </a:xfrm>
        </p:grpSpPr>
        <p:sp>
          <p:nvSpPr>
            <p:cNvPr id="309" name="Text Box 6"/>
            <p:cNvSpPr/>
            <p:nvPr/>
          </p:nvSpPr>
          <p:spPr>
            <a:xfrm>
              <a:off x="165240" y="449568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Полилиния 26"/>
            <p:cNvSpPr/>
            <p:nvPr/>
          </p:nvSpPr>
          <p:spPr>
            <a:xfrm>
              <a:off x="279360" y="4965480"/>
              <a:ext cx="1333440" cy="673200"/>
            </a:xfrm>
            <a:custGeom>
              <a:avLst/>
              <a:gdLst>
                <a:gd name="textAreaLeft" fmla="*/ 0 w 1333440"/>
                <a:gd name="textAreaRight" fmla="*/ 1333440 w 1333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31"/>
          <p:cNvGrpSpPr/>
          <p:nvPr/>
        </p:nvGrpSpPr>
        <p:grpSpPr>
          <a:xfrm>
            <a:off x="1676520" y="4851360"/>
            <a:ext cx="1479600" cy="844560"/>
            <a:chOff x="1676520" y="4851360"/>
            <a:chExt cx="1479600" cy="844560"/>
          </a:xfrm>
        </p:grpSpPr>
        <p:sp>
          <p:nvSpPr>
            <p:cNvPr id="312" name="Полилиния 27"/>
            <p:cNvSpPr/>
            <p:nvPr/>
          </p:nvSpPr>
          <p:spPr>
            <a:xfrm>
              <a:off x="1676520" y="5689800"/>
              <a:ext cx="565200" cy="360"/>
            </a:xfrm>
            <a:custGeom>
              <a:avLst/>
              <a:gdLst/>
              <a:ahLst/>
              <a:rect l="l" t="t" r="r" b="b"/>
              <a:pathLst>
                <a:path w="565150" h="0">
                  <a:moveTo>
                    <a:pt x="0" y="0"/>
                  </a:moveTo>
                  <a:lnTo>
                    <a:pt x="0" y="0"/>
                  </a:lnTo>
                  <a:lnTo>
                    <a:pt x="5651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олилиния 28"/>
            <p:cNvSpPr/>
            <p:nvPr/>
          </p:nvSpPr>
          <p:spPr>
            <a:xfrm flipH="1">
              <a:off x="1924200" y="5251320"/>
              <a:ext cx="1130400" cy="4446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1333500" h="673100">
                  <a:moveTo>
                    <a:pt x="0" y="0"/>
                  </a:moveTo>
                  <a:lnTo>
                    <a:pt x="958850" y="0"/>
                  </a:lnTo>
                  <a:lnTo>
                    <a:pt x="1333500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2197080" y="4851360"/>
              <a:ext cx="95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=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3225960" y="2933640"/>
            <a:ext cx="5715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cya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magent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8"/>
          <p:cNvGrpSpPr/>
          <p:nvPr/>
        </p:nvGrpSpPr>
        <p:grpSpPr>
          <a:xfrm>
            <a:off x="228600" y="2552760"/>
            <a:ext cx="2886120" cy="1983600"/>
            <a:chOff x="228600" y="2552760"/>
            <a:chExt cx="2886120" cy="1983600"/>
          </a:xfrm>
        </p:grpSpPr>
        <p:sp>
          <p:nvSpPr>
            <p:cNvPr id="317" name="Прямоугольный треугольник 34"/>
            <p:cNvSpPr/>
            <p:nvPr/>
          </p:nvSpPr>
          <p:spPr>
            <a:xfrm>
              <a:off x="990360" y="2997000"/>
              <a:ext cx="1054080" cy="1054080"/>
            </a:xfrm>
            <a:prstGeom prst="rtTriangle">
              <a:avLst/>
            </a:prstGeom>
            <a:solidFill>
              <a:srgbClr val="ff00ff"/>
            </a:solidFill>
            <a:ln w="1908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"/>
            <p:cNvSpPr/>
            <p:nvPr/>
          </p:nvSpPr>
          <p:spPr>
            <a:xfrm>
              <a:off x="228600" y="255276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22860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1739880" y="4076640"/>
              <a:ext cx="13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енератор случай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5C2C-DA7E-441B-B4D7-E475563DD5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4"/>
          <p:cNvSpPr/>
          <p:nvPr/>
        </p:nvSpPr>
        <p:spPr>
          <a:xfrm>
            <a:off x="388800" y="425916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Генератор на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0,1)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5"/>
          <p:cNvSpPr/>
          <p:nvPr/>
        </p:nvSpPr>
        <p:spPr>
          <a:xfrm>
            <a:off x="806400" y="4767120"/>
            <a:ext cx="7802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3333ff"/>
                </a:solidFill>
                <a:latin typeface="Courier New"/>
              </a:rPr>
              <a:t>ndo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() 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388800" y="2598840"/>
            <a:ext cx="842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6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Целые числа на отрезке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,b]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>
            <a:off x="806400" y="3132000"/>
            <a:ext cx="7802640" cy="927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псевдослучай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</a:rPr>
              <a:t>это уже другое чис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9"/>
          <p:cNvSpPr/>
          <p:nvPr/>
        </p:nvSpPr>
        <p:spPr>
          <a:xfrm>
            <a:off x="410400" y="895320"/>
            <a:ext cx="3838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ndom </a:t>
            </a:r>
            <a:r>
              <a:rPr b="1" lang="en-US" sz="2400" spc="-1" strike="noStrike">
                <a:solidFill>
                  <a:srgbClr val="3333ff"/>
                </a:solidFill>
                <a:latin typeface="Courier New"/>
                <a:ea typeface="Times New Roman"/>
              </a:rPr>
              <a:t>impo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17"/>
          <p:cNvSpPr/>
          <p:nvPr/>
        </p:nvSpPr>
        <p:spPr>
          <a:xfrm>
            <a:off x="596880" y="1778040"/>
            <a:ext cx="5222880" cy="528480"/>
          </a:xfrm>
          <a:prstGeom prst="wedgeRoundRectCallout">
            <a:avLst>
              <a:gd name="adj1" fmla="val -29912"/>
              <a:gd name="adj2" fmla="val -13960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17"/>
          <p:cNvSpPr/>
          <p:nvPr/>
        </p:nvSpPr>
        <p:spPr>
          <a:xfrm>
            <a:off x="4716360" y="1054080"/>
            <a:ext cx="3124440" cy="528480"/>
          </a:xfrm>
          <a:prstGeom prst="wedgeRoundRectCallout">
            <a:avLst>
              <a:gd name="adj1" fmla="val -69888"/>
              <a:gd name="adj2" fmla="val -3870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ить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1" dur="indefinite" restart="never" nodeType="tmRoot">
          <p:childTnLst>
            <p:seq>
              <p:cTn id="2692" dur="indefinite" nodeType="mainSeq">
                <p:childTnLst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6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9" dur="500"/>
                                        <p:tgtEl>
                                          <p:spTgt spid="1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0" dur="500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3" dur="500"/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лучайные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203-5A4F-4AFD-9FF6-78EB046078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388800" y="826920"/>
            <a:ext cx="864108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дач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прямоугольник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 пикселей равномерн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ми случайн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получить случайные координаты то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49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добиться равномер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524"/>
              </a:spcBef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ся автоматически пр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rand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Picture 6" descr=""/>
          <p:cNvPicPr/>
          <p:nvPr/>
        </p:nvPicPr>
        <p:blipFill>
          <a:blip r:embed="rId1"/>
          <a:stretch/>
        </p:blipFill>
        <p:spPr>
          <a:xfrm>
            <a:off x="6523200" y="950760"/>
            <a:ext cx="1617480" cy="1214640"/>
          </a:xfrm>
          <a:prstGeom prst="rect">
            <a:avLst/>
          </a:prstGeom>
          <a:ln w="0">
            <a:noFill/>
          </a:ln>
        </p:spPr>
      </p:pic>
      <p:sp>
        <p:nvSpPr>
          <p:cNvPr id="1469" name="Rectangle 5"/>
          <p:cNvSpPr/>
          <p:nvPr/>
        </p:nvSpPr>
        <p:spPr>
          <a:xfrm>
            <a:off x="704880" y="2928960"/>
            <a:ext cx="66834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99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0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3" dur="50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4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из спис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572-3DF0-48AD-A3C3-CB51965EF0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428760" y="925560"/>
            <a:ext cx="8367480" cy="428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ol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???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Прямоугольник 8"/>
          <p:cNvSpPr/>
          <p:nvPr/>
        </p:nvSpPr>
        <p:spPr>
          <a:xfrm>
            <a:off x="2574000" y="4195800"/>
            <a:ext cx="820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7"/>
          <p:cNvSpPr/>
          <p:nvPr/>
        </p:nvSpPr>
        <p:spPr>
          <a:xfrm>
            <a:off x="5294160" y="1481040"/>
            <a:ext cx="3124440" cy="682560"/>
          </a:xfrm>
          <a:prstGeom prst="wedgeRoundRectCallout">
            <a:avLst>
              <a:gd name="adj1" fmla="val -39694"/>
              <a:gd name="adj2" fmla="val 10955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17"/>
          <p:cNvSpPr/>
          <p:nvPr/>
        </p:nvSpPr>
        <p:spPr>
          <a:xfrm>
            <a:off x="5351400" y="3570120"/>
            <a:ext cx="2457360" cy="1060560"/>
          </a:xfrm>
          <a:prstGeom prst="wedgeRoundRectCallout">
            <a:avLst>
              <a:gd name="adj1" fmla="val -76171"/>
              <a:gd name="adj2" fmla="val -271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й вы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17"/>
          <p:cNvSpPr/>
          <p:nvPr/>
        </p:nvSpPr>
        <p:spPr>
          <a:xfrm>
            <a:off x="3522600" y="4992840"/>
            <a:ext cx="3124440" cy="682560"/>
          </a:xfrm>
          <a:prstGeom prst="wedgeRoundRectCallout">
            <a:avLst>
              <a:gd name="adj1" fmla="val -72208"/>
              <a:gd name="adj2" fmla="val -5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ить точ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4" dur="500"/>
                                        <p:tgtEl>
                                          <p:spTgt spid="1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7" dur="500"/>
                                        <p:tgtEl>
                                          <p:spTgt spid="1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9" dur="500"/>
                                        <p:tgtEl>
                                          <p:spTgt spid="1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1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500"/>
                            </p:stCondLst>
                            <p:childTnLst>
                              <p:par>
                                <p:cTn id="2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0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очка случайного цвета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C54-1758-4156-89CA-ACFF1AB651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5"/>
          <p:cNvSpPr/>
          <p:nvPr/>
        </p:nvSpPr>
        <p:spPr>
          <a:xfrm>
            <a:off x="631800" y="3247920"/>
            <a:ext cx="6683400" cy="2523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  ???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Прямоугольник 7"/>
          <p:cNvSpPr/>
          <p:nvPr/>
        </p:nvSpPr>
        <p:spPr>
          <a:xfrm>
            <a:off x="2773440" y="4746600"/>
            <a:ext cx="1674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, g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Прямоугольник 5"/>
          <p:cNvSpPr/>
          <p:nvPr/>
        </p:nvSpPr>
        <p:spPr>
          <a:xfrm>
            <a:off x="392040" y="83520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вет в формат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8"/>
          <p:cNvSpPr/>
          <p:nvPr/>
        </p:nvSpPr>
        <p:spPr>
          <a:xfrm>
            <a:off x="620640" y="1353960"/>
            <a:ext cx="53863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enCol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255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Скругленный прямоугольник 9"/>
          <p:cNvSpPr/>
          <p:nvPr/>
        </p:nvSpPr>
        <p:spPr>
          <a:xfrm>
            <a:off x="2743200" y="1359000"/>
            <a:ext cx="2514600" cy="507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7"/>
          <p:cNvSpPr/>
          <p:nvPr/>
        </p:nvSpPr>
        <p:spPr>
          <a:xfrm>
            <a:off x="1703520" y="1952640"/>
            <a:ext cx="1396800" cy="1036800"/>
          </a:xfrm>
          <a:prstGeom prst="wedgeRoundRectCallout">
            <a:avLst>
              <a:gd name="adj1" fmla="val 50050"/>
              <a:gd name="adj2" fmla="val -7235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8"/>
          <p:cNvSpPr/>
          <p:nvPr/>
        </p:nvSpPr>
        <p:spPr>
          <a:xfrm>
            <a:off x="3324240" y="1952640"/>
            <a:ext cx="1881000" cy="1036800"/>
          </a:xfrm>
          <a:prstGeom prst="wedgeRoundRectCallout">
            <a:avLst>
              <a:gd name="adj1" fmla="val -6569"/>
              <a:gd name="adj2" fmla="val -73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9"/>
          <p:cNvSpPr/>
          <p:nvPr/>
        </p:nvSpPr>
        <p:spPr>
          <a:xfrm>
            <a:off x="5369040" y="1943280"/>
            <a:ext cx="1946160" cy="1041120"/>
          </a:xfrm>
          <a:prstGeom prst="wedgeRoundRectCallout">
            <a:avLst>
              <a:gd name="adj1" fmla="val -57393"/>
              <a:gd name="adj2" fmla="val -737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9"/>
          <p:cNvSpPr/>
          <p:nvPr/>
        </p:nvSpPr>
        <p:spPr>
          <a:xfrm>
            <a:off x="5546880" y="812880"/>
            <a:ext cx="1908000" cy="635040"/>
          </a:xfrm>
          <a:prstGeom prst="wedgeRoundRectCallout">
            <a:avLst>
              <a:gd name="adj1" fmla="val -68708"/>
              <a:gd name="adj2" fmla="val 482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"yellow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4" dur="indefinite" restart="never" nodeType="tmRoot">
          <p:childTnLst>
            <p:seq>
              <p:cTn id="2815" dur="indefinite" nodeType="mainSeq">
                <p:childTnLst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7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1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3" dur="500"/>
                                        <p:tgtEl>
                                          <p:spTgt spid="1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8" dur="500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9D2-7888-4B15-9F9B-9E51D76B343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428760" y="838080"/>
            <a:ext cx="8280360" cy="5532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s = [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re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gree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ue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FFFF00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fr-FR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and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fr-FR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99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l =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hoi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ors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 co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newPo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Группа 4"/>
          <p:cNvGrpSpPr/>
          <p:nvPr/>
        </p:nvGrpSpPr>
        <p:grpSpPr>
          <a:xfrm>
            <a:off x="3716280" y="5283360"/>
            <a:ext cx="3454560" cy="1131840"/>
            <a:chOff x="3716280" y="5283360"/>
            <a:chExt cx="3454560" cy="1131840"/>
          </a:xfrm>
        </p:grpSpPr>
        <p:sp>
          <p:nvSpPr>
            <p:cNvPr id="1492" name="Правая фигурная скобка 5"/>
            <p:cNvSpPr/>
            <p:nvPr/>
          </p:nvSpPr>
          <p:spPr>
            <a:xfrm>
              <a:off x="3716280" y="5384880"/>
              <a:ext cx="145080" cy="59508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5080"/>
                <a:gd name="textAreaBottom" fmla="*/ 586080 h 59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AutoShape 18"/>
            <p:cNvSpPr/>
            <p:nvPr/>
          </p:nvSpPr>
          <p:spPr>
            <a:xfrm>
              <a:off x="4365360" y="5283360"/>
              <a:ext cx="2805480" cy="1131840"/>
            </a:xfrm>
            <a:prstGeom prst="wedgeRoundRectCallout">
              <a:avLst>
                <a:gd name="adj1" fmla="val -66069"/>
                <a:gd name="adj2" fmla="val -1968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становка обработчиков  событ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Группа 7"/>
          <p:cNvGrpSpPr/>
          <p:nvPr/>
        </p:nvGrpSpPr>
        <p:grpSpPr>
          <a:xfrm>
            <a:off x="4354560" y="2249640"/>
            <a:ext cx="3454200" cy="1930320"/>
            <a:chOff x="4354560" y="2249640"/>
            <a:chExt cx="3454200" cy="1930320"/>
          </a:xfrm>
        </p:grpSpPr>
        <p:sp>
          <p:nvSpPr>
            <p:cNvPr id="1495" name="Правая фигурная скобка 8"/>
            <p:cNvSpPr/>
            <p:nvPr/>
          </p:nvSpPr>
          <p:spPr>
            <a:xfrm>
              <a:off x="4354560" y="2351160"/>
              <a:ext cx="217440" cy="1828800"/>
            </a:xfrm>
            <a:custGeom>
              <a:avLst/>
              <a:gdLst>
                <a:gd name="textAreaLeft" fmla="*/ 0 w 217440"/>
                <a:gd name="textAreaRight" fmla="*/ 78480 w 217440"/>
                <a:gd name="textAreaTop" fmla="*/ 13680 h 1828800"/>
                <a:gd name="textAreaBottom" fmla="*/ 181512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61"/>
                    <a:pt x="10800" y="521"/>
                  </a:cubicBezTo>
                  <a:lnTo>
                    <a:pt x="10800" y="10279"/>
                  </a:lnTo>
                  <a:cubicBezTo>
                    <a:pt x="10800" y="10540"/>
                    <a:pt x="16200" y="10800"/>
                    <a:pt x="21600" y="10800"/>
                  </a:cubicBezTo>
                  <a:cubicBezTo>
                    <a:pt x="16200" y="10800"/>
                    <a:pt x="10800" y="11061"/>
                    <a:pt x="10800" y="11321"/>
                  </a:cubicBezTo>
                  <a:lnTo>
                    <a:pt x="10800" y="21079"/>
                  </a:lnTo>
                  <a:cubicBezTo>
                    <a:pt x="10800" y="2134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AutoShape 18"/>
            <p:cNvSpPr/>
            <p:nvPr/>
          </p:nvSpPr>
          <p:spPr>
            <a:xfrm>
              <a:off x="5003640" y="2249640"/>
              <a:ext cx="2805120" cy="1131840"/>
            </a:xfrm>
            <a:prstGeom prst="wedgeRoundRectCallout">
              <a:avLst>
                <a:gd name="adj1" fmla="val -65032"/>
                <a:gd name="adj2" fmla="val 35439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овая точка через 10 м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Группа 10"/>
          <p:cNvGrpSpPr/>
          <p:nvPr/>
        </p:nvGrpSpPr>
        <p:grpSpPr>
          <a:xfrm>
            <a:off x="5443560" y="4035600"/>
            <a:ext cx="2698560" cy="1029960"/>
            <a:chOff x="5443560" y="4035600"/>
            <a:chExt cx="2698560" cy="1029960"/>
          </a:xfrm>
        </p:grpSpPr>
        <p:sp>
          <p:nvSpPr>
            <p:cNvPr id="1498" name="Правая фигурная скобка 11"/>
            <p:cNvSpPr/>
            <p:nvPr/>
          </p:nvSpPr>
          <p:spPr>
            <a:xfrm>
              <a:off x="5443560" y="4470840"/>
              <a:ext cx="145080" cy="594720"/>
            </a:xfrm>
            <a:custGeom>
              <a:avLst/>
              <a:gdLst>
                <a:gd name="textAreaLeft" fmla="*/ 0 w 145080"/>
                <a:gd name="textAreaRight" fmla="*/ 52200 w 145080"/>
                <a:gd name="textAreaTop" fmla="*/ 9000 h 594720"/>
                <a:gd name="textAreaBottom" fmla="*/ 58572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34"/>
                    <a:pt x="10800" y="1067"/>
                  </a:cubicBezTo>
                  <a:lnTo>
                    <a:pt x="10800" y="9733"/>
                  </a:lnTo>
                  <a:cubicBezTo>
                    <a:pt x="10800" y="10267"/>
                    <a:pt x="16200" y="10800"/>
                    <a:pt x="21600" y="10800"/>
                  </a:cubicBezTo>
                  <a:cubicBezTo>
                    <a:pt x="16200" y="10800"/>
                    <a:pt x="10800" y="11334"/>
                    <a:pt x="10800" y="11867"/>
                  </a:cubicBezTo>
                  <a:lnTo>
                    <a:pt x="10800" y="20533"/>
                  </a:lnTo>
                  <a:cubicBezTo>
                    <a:pt x="10800" y="21067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AutoShape 18"/>
            <p:cNvSpPr/>
            <p:nvPr/>
          </p:nvSpPr>
          <p:spPr>
            <a:xfrm>
              <a:off x="6033960" y="4035600"/>
              <a:ext cx="2108160" cy="812520"/>
            </a:xfrm>
            <a:prstGeom prst="wedgeRoundRectCallout">
              <a:avLst>
                <a:gd name="adj1" fmla="val -70199"/>
                <a:gd name="adj2" fmla="val 3209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ыход по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ca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3" dur="50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6" dur="50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1" dur="500"/>
                                        <p:tgtEl>
                                          <p:spTgt spid="1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4" dur="500"/>
                                        <p:tgtEl>
                                          <p:spTgt spid="1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1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8" dur="500"/>
                                        <p:tgtEl>
                                          <p:spTgt spid="1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1" dur="500"/>
                                        <p:tgtEl>
                                          <p:spTgt spid="1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4" dur="500"/>
                                        <p:tgtEl>
                                          <p:spTgt spid="1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1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4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2" dur="500"/>
                                        <p:tgtEl>
                                          <p:spTgt spid="14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5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A5C-C83D-4D78-BB36-FE63DB3B3F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2"/>
          <p:cNvSpPr/>
          <p:nvPr/>
        </p:nvSpPr>
        <p:spPr>
          <a:xfrm>
            <a:off x="369720" y="844560"/>
            <a:ext cx="840924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квадрат точками случайного цвета. размер квадрата ввести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ведите размер квад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urier New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4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две области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Picture 3" descr=""/>
          <p:cNvPicPr/>
          <p:nvPr/>
        </p:nvPicPr>
        <p:blipFill>
          <a:blip r:embed="rId1"/>
          <a:srcRect l="0" t="0" r="54925" b="0"/>
          <a:stretch/>
        </p:blipFill>
        <p:spPr>
          <a:xfrm>
            <a:off x="6568920" y="1768320"/>
            <a:ext cx="1568520" cy="15368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3" descr=""/>
          <p:cNvPicPr/>
          <p:nvPr/>
        </p:nvPicPr>
        <p:blipFill>
          <a:blip r:embed="rId2"/>
          <a:stretch/>
        </p:blipFill>
        <p:spPr>
          <a:xfrm>
            <a:off x="2557440" y="4811760"/>
            <a:ext cx="3479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323-8E92-4048-B125-63B64D95ED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2"/>
          <p:cNvSpPr/>
          <p:nvPr/>
        </p:nvSpPr>
        <p:spPr>
          <a:xfrm>
            <a:off x="369720" y="812880"/>
            <a:ext cx="8409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лнить область точками случайного ц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Picture 4" descr=""/>
          <p:cNvPicPr/>
          <p:nvPr/>
        </p:nvPicPr>
        <p:blipFill>
          <a:blip r:embed="rId1"/>
          <a:stretch/>
        </p:blipFill>
        <p:spPr>
          <a:xfrm>
            <a:off x="1674720" y="2151000"/>
            <a:ext cx="1928880" cy="18464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29" descr=""/>
          <p:cNvPicPr/>
          <p:nvPr/>
        </p:nvPicPr>
        <p:blipFill>
          <a:blip r:embed="rId2"/>
          <a:stretch/>
        </p:blipFill>
        <p:spPr>
          <a:xfrm>
            <a:off x="4743360" y="2036880"/>
            <a:ext cx="3489480" cy="2020680"/>
          </a:xfrm>
          <a:prstGeom prst="rect">
            <a:avLst/>
          </a:prstGeom>
          <a:ln w="0">
            <a:noFill/>
          </a:ln>
        </p:spPr>
      </p:pic>
      <p:sp>
        <p:nvSpPr>
          <p:cNvPr id="1510" name="Прямоугольник 8"/>
          <p:cNvSpPr/>
          <p:nvPr/>
        </p:nvSpPr>
        <p:spPr>
          <a:xfrm>
            <a:off x="4150440" y="264168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</a:t>
            </a:r>
            <a:r>
              <a:rPr b="1" lang="sq-AL" sz="6000" spc="-1" strike="noStrike">
                <a:solidFill>
                  <a:srgbClr val="ceceef"/>
                </a:solidFill>
                <a:latin typeface="Arial"/>
              </a:rPr>
              <a:t>Python: </a:t>
            </a: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граф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617400" y="4358880"/>
            <a:ext cx="79092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3565-2E6E-4D6A-A3AF-7C6F481A6F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Группа 43"/>
          <p:cNvGrpSpPr/>
          <p:nvPr/>
        </p:nvGrpSpPr>
        <p:grpSpPr>
          <a:xfrm>
            <a:off x="183600" y="809640"/>
            <a:ext cx="4329720" cy="3679920"/>
            <a:chOff x="183600" y="809640"/>
            <a:chExt cx="4329720" cy="3679920"/>
          </a:xfrm>
        </p:grpSpPr>
        <p:sp>
          <p:nvSpPr>
            <p:cNvPr id="1515" name="Прямоугольник 14"/>
            <p:cNvSpPr/>
            <p:nvPr/>
          </p:nvSpPr>
          <p:spPr>
            <a:xfrm>
              <a:off x="772920" y="1282680"/>
              <a:ext cx="3740400" cy="320688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Прямоугольник 27"/>
            <p:cNvSpPr/>
            <p:nvPr/>
          </p:nvSpPr>
          <p:spPr>
            <a:xfrm>
              <a:off x="183600" y="80964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нк с вращающейся пушк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2B3-24E4-4FA6-A10A-3C81D07821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Группа 42"/>
          <p:cNvGrpSpPr/>
          <p:nvPr/>
        </p:nvGrpSpPr>
        <p:grpSpPr>
          <a:xfrm>
            <a:off x="1873080" y="1861560"/>
            <a:ext cx="1403640" cy="1980360"/>
            <a:chOff x="1873080" y="1861560"/>
            <a:chExt cx="1403640" cy="1980360"/>
          </a:xfrm>
        </p:grpSpPr>
        <p:sp>
          <p:nvSpPr>
            <p:cNvPr id="1520" name="Прямоугольник 10"/>
            <p:cNvSpPr/>
            <p:nvPr/>
          </p:nvSpPr>
          <p:spPr>
            <a:xfrm>
              <a:off x="1873080" y="2041200"/>
              <a:ext cx="900000" cy="1800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Прямоугольник 11"/>
            <p:cNvSpPr/>
            <p:nvPr/>
          </p:nvSpPr>
          <p:spPr>
            <a:xfrm rot="2407200">
              <a:off x="2779200" y="1773360"/>
              <a:ext cx="145080" cy="114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Овал 12"/>
            <p:cNvSpPr/>
            <p:nvPr/>
          </p:nvSpPr>
          <p:spPr>
            <a:xfrm>
              <a:off x="1873080" y="2491560"/>
              <a:ext cx="900000" cy="9003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Группа 44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24" name="Полилиния 13"/>
            <p:cNvSpPr/>
            <p:nvPr/>
          </p:nvSpPr>
          <p:spPr>
            <a:xfrm>
              <a:off x="806760" y="294552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Полилиния 15"/>
            <p:cNvSpPr/>
            <p:nvPr/>
          </p:nvSpPr>
          <p:spPr>
            <a:xfrm rot="16200000">
              <a:off x="72000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Прямоугольник 16"/>
            <p:cNvSpPr/>
            <p:nvPr/>
          </p:nvSpPr>
          <p:spPr>
            <a:xfrm>
              <a:off x="20887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Прямоугольник 17"/>
            <p:cNvSpPr/>
            <p:nvPr/>
          </p:nvSpPr>
          <p:spPr>
            <a:xfrm>
              <a:off x="283320" y="267480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Полилиния 18"/>
          <p:cNvSpPr/>
          <p:nvPr/>
        </p:nvSpPr>
        <p:spPr>
          <a:xfrm>
            <a:off x="1163520" y="1128600"/>
            <a:ext cx="2732040" cy="3157560"/>
          </a:xfrm>
          <a:custGeom>
            <a:avLst/>
            <a:gdLst>
              <a:gd name="textAreaLeft" fmla="*/ 0 w 2732040"/>
              <a:gd name="textAreaRight" fmla="*/ 2732400 w 273204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3538847" h="35626">
                <a:moveTo>
                  <a:pt x="0" y="35626"/>
                </a:moveTo>
                <a:lnTo>
                  <a:pt x="3538847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Дуга 19"/>
          <p:cNvSpPr/>
          <p:nvPr/>
        </p:nvSpPr>
        <p:spPr>
          <a:xfrm>
            <a:off x="1241280" y="1874880"/>
            <a:ext cx="2160720" cy="2158920"/>
          </a:xfrm>
          <a:custGeom>
            <a:avLst/>
            <a:gdLst>
              <a:gd name="textAreaLeft" fmla="*/ 1818720 w 2160720"/>
              <a:gd name="textAreaRight" fmla="*/ 2161080 w 2160720"/>
              <a:gd name="textAreaTop" fmla="*/ 291240 h 2158920"/>
              <a:gd name="textAreaBottom" fmla="*/ 1079640 h 2158920"/>
            </a:gdLst>
            <a:ahLst/>
            <a:rect l="textAreaLeft" t="textAreaTop" r="textAreaRight" b="textAreaBottom"/>
            <a:pathLst>
              <a:path stroke="0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  <a:lnTo>
                  <a:pt x="1080294" y="1079500"/>
                </a:lnTo>
                <a:close/>
              </a:path>
              <a:path fill="none" w="2160588" h="2159000">
                <a:moveTo>
                  <a:pt x="1818371" y="291234"/>
                </a:moveTo>
                <a:lnTo>
                  <a:pt x="1818371" y="291234"/>
                </a:lnTo>
                <a:arcTo wR="1080294" hR="1079500" stAng="-2812999" swAng="2813008"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Прямоугольник 20"/>
          <p:cNvSpPr/>
          <p:nvPr/>
        </p:nvSpPr>
        <p:spPr>
          <a:xfrm>
            <a:off x="3409920" y="21877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18"/>
          <p:cNvSpPr/>
          <p:nvPr/>
        </p:nvSpPr>
        <p:spPr>
          <a:xfrm>
            <a:off x="3519360" y="1057320"/>
            <a:ext cx="1266840" cy="638280"/>
          </a:xfrm>
          <a:prstGeom prst="wedgeRoundRectCallout">
            <a:avLst>
              <a:gd name="adj1" fmla="val -74347"/>
              <a:gd name="adj2" fmla="val 878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Object 2"/>
              <p:cNvSpPr txBox="1"/>
              <p:nvPr/>
            </p:nvSpPr>
            <p:spPr>
              <a:xfrm>
                <a:off x="5186520" y="1633680"/>
                <a:ext cx="313848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33" name="Группа 46"/>
          <p:cNvGrpSpPr/>
          <p:nvPr/>
        </p:nvGrpSpPr>
        <p:grpSpPr>
          <a:xfrm>
            <a:off x="283320" y="750960"/>
            <a:ext cx="4063320" cy="3738600"/>
            <a:chOff x="283320" y="750960"/>
            <a:chExt cx="4063320" cy="3738600"/>
          </a:xfrm>
        </p:grpSpPr>
        <p:sp>
          <p:nvSpPr>
            <p:cNvPr id="1534" name="Полилиния 23"/>
            <p:cNvSpPr/>
            <p:nvPr/>
          </p:nvSpPr>
          <p:spPr>
            <a:xfrm>
              <a:off x="806760" y="1947960"/>
              <a:ext cx="353988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Прямоугольник 24"/>
            <p:cNvSpPr/>
            <p:nvPr/>
          </p:nvSpPr>
          <p:spPr>
            <a:xfrm>
              <a:off x="283320" y="171288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Полилиния 25"/>
            <p:cNvSpPr/>
            <p:nvPr/>
          </p:nvSpPr>
          <p:spPr>
            <a:xfrm rot="16200000">
              <a:off x="1563480" y="2880000"/>
              <a:ext cx="3218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Прямоугольник 26"/>
            <p:cNvSpPr/>
            <p:nvPr/>
          </p:nvSpPr>
          <p:spPr>
            <a:xfrm>
              <a:off x="294408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Rectangle 5"/>
          <p:cNvSpPr/>
          <p:nvPr/>
        </p:nvSpPr>
        <p:spPr>
          <a:xfrm>
            <a:off x="739800" y="5065560"/>
            <a:ext cx="6681600" cy="1065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0+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Группа 45"/>
          <p:cNvGrpSpPr/>
          <p:nvPr/>
        </p:nvGrpSpPr>
        <p:grpSpPr>
          <a:xfrm>
            <a:off x="906480" y="2043000"/>
            <a:ext cx="1871640" cy="2754360"/>
            <a:chOff x="906480" y="2043000"/>
            <a:chExt cx="1871640" cy="2754360"/>
          </a:xfrm>
        </p:grpSpPr>
        <p:sp>
          <p:nvSpPr>
            <p:cNvPr id="1540" name="Правая фигурная скобка 29"/>
            <p:cNvSpPr/>
            <p:nvPr/>
          </p:nvSpPr>
          <p:spPr>
            <a:xfrm flipH="1">
              <a:off x="1626840" y="2043000"/>
              <a:ext cx="249120" cy="179280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1792800"/>
                <a:gd name="textAreaBottom" fmla="*/ 1748880 h 179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52"/>
                    <a:pt x="10800" y="1704"/>
                  </a:cubicBezTo>
                  <a:lnTo>
                    <a:pt x="10800" y="9096"/>
                  </a:lnTo>
                  <a:cubicBezTo>
                    <a:pt x="10800" y="9948"/>
                    <a:pt x="16200" y="10800"/>
                    <a:pt x="21600" y="10800"/>
                  </a:cubicBezTo>
                  <a:cubicBezTo>
                    <a:pt x="16200" y="10800"/>
                    <a:pt x="10800" y="11652"/>
                    <a:pt x="10800" y="12504"/>
                  </a:cubicBezTo>
                  <a:lnTo>
                    <a:pt x="10800" y="19896"/>
                  </a:lnTo>
                  <a:cubicBezTo>
                    <a:pt x="10800" y="2074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AutoShape 18"/>
            <p:cNvSpPr/>
            <p:nvPr/>
          </p:nvSpPr>
          <p:spPr>
            <a:xfrm>
              <a:off x="906480" y="2090520"/>
              <a:ext cx="636480" cy="522360"/>
            </a:xfrm>
            <a:prstGeom prst="wedgeRoundRectCallout">
              <a:avLst>
                <a:gd name="adj1" fmla="val 65328"/>
                <a:gd name="adj2" fmla="val 110615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AutoShape 18"/>
            <p:cNvSpPr/>
            <p:nvPr/>
          </p:nvSpPr>
          <p:spPr>
            <a:xfrm>
              <a:off x="2129040" y="4275000"/>
              <a:ext cx="638280" cy="522360"/>
            </a:xfrm>
            <a:prstGeom prst="wedgeRoundRectCallout">
              <a:avLst>
                <a:gd name="adj1" fmla="val -16611"/>
                <a:gd name="adj2" fmla="val -96203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Правая фигурная скобка 32"/>
            <p:cNvSpPr/>
            <p:nvPr/>
          </p:nvSpPr>
          <p:spPr>
            <a:xfrm flipH="1" rot="16200000">
              <a:off x="2202480" y="3509280"/>
              <a:ext cx="249120" cy="902160"/>
            </a:xfrm>
            <a:custGeom>
              <a:avLst/>
              <a:gdLst>
                <a:gd name="textAreaLeft" fmla="*/ 0 w 249120"/>
                <a:gd name="textAreaRight" fmla="*/ 90000 w 249120"/>
                <a:gd name="textAreaTop" fmla="*/ 43920 h 902160"/>
                <a:gd name="textAreaBottom" fmla="*/ 85824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3"/>
                    <a:pt x="10800" y="3385"/>
                  </a:cubicBezTo>
                  <a:lnTo>
                    <a:pt x="10800" y="7415"/>
                  </a:lnTo>
                  <a:cubicBezTo>
                    <a:pt x="10800" y="9108"/>
                    <a:pt x="16200" y="10800"/>
                    <a:pt x="21600" y="10800"/>
                  </a:cubicBezTo>
                  <a:cubicBezTo>
                    <a:pt x="16200" y="10800"/>
                    <a:pt x="10800" y="12493"/>
                    <a:pt x="10800" y="14185"/>
                  </a:cubicBezTo>
                  <a:lnTo>
                    <a:pt x="10800" y="18215"/>
                  </a:lnTo>
                  <a:cubicBezTo>
                    <a:pt x="10800" y="19908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Полилиния 33"/>
          <p:cNvSpPr/>
          <p:nvPr/>
        </p:nvSpPr>
        <p:spPr>
          <a:xfrm>
            <a:off x="1235160" y="3633840"/>
            <a:ext cx="819000" cy="1579680"/>
          </a:xfrm>
          <a:custGeom>
            <a:avLst/>
            <a:gdLst>
              <a:gd name="textAreaLeft" fmla="*/ 0 w 819000"/>
              <a:gd name="textAreaRight" fmla="*/ 819360 w 819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819397" h="1579419">
                <a:moveTo>
                  <a:pt x="819397" y="0"/>
                </a:moveTo>
                <a:cubicBezTo>
                  <a:pt x="584859" y="194953"/>
                  <a:pt x="350322" y="389907"/>
                  <a:pt x="213756" y="653143"/>
                </a:cubicBezTo>
                <a:cubicBezTo>
                  <a:pt x="77190" y="916379"/>
                  <a:pt x="38595" y="1247899"/>
                  <a:pt x="0" y="15794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5"/>
          <p:cNvSpPr/>
          <p:nvPr/>
        </p:nvSpPr>
        <p:spPr>
          <a:xfrm>
            <a:off x="3648240" y="4210200"/>
            <a:ext cx="43434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8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Полилиния 36"/>
          <p:cNvSpPr/>
          <p:nvPr/>
        </p:nvSpPr>
        <p:spPr>
          <a:xfrm>
            <a:off x="2494080" y="3098880"/>
            <a:ext cx="1780920" cy="1247760"/>
          </a:xfrm>
          <a:custGeom>
            <a:avLst/>
            <a:gdLst>
              <a:gd name="textAreaLeft" fmla="*/ 0 w 1780920"/>
              <a:gd name="textAreaRight" fmla="*/ 1781280 w 17809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736270" y="706582"/>
                  <a:pt x="1033153" y="914400"/>
                </a:cubicBezTo>
                <a:cubicBezTo>
                  <a:pt x="1330036" y="1122218"/>
                  <a:pt x="1555667" y="118456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5"/>
          <p:cNvSpPr/>
          <p:nvPr/>
        </p:nvSpPr>
        <p:spPr>
          <a:xfrm>
            <a:off x="4016520" y="3367080"/>
            <a:ext cx="4771800" cy="579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олилиния 38"/>
          <p:cNvSpPr/>
          <p:nvPr/>
        </p:nvSpPr>
        <p:spPr>
          <a:xfrm>
            <a:off x="3135240" y="2019240"/>
            <a:ext cx="1222560" cy="150804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1781299" h="1246909">
                <a:moveTo>
                  <a:pt x="0" y="0"/>
                </a:moveTo>
                <a:cubicBezTo>
                  <a:pt x="368135" y="353291"/>
                  <a:pt x="1143376" y="127684"/>
                  <a:pt x="1440259" y="335502"/>
                </a:cubicBezTo>
                <a:cubicBezTo>
                  <a:pt x="1737142" y="543320"/>
                  <a:pt x="1698170" y="1006433"/>
                  <a:pt x="1781299" y="124690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55"/>
          <p:cNvGrpSpPr/>
          <p:nvPr/>
        </p:nvGrpSpPr>
        <p:grpSpPr>
          <a:xfrm>
            <a:off x="4995720" y="911160"/>
            <a:ext cx="3578400" cy="663480"/>
            <a:chOff x="4995720" y="911160"/>
            <a:chExt cx="3578400" cy="663480"/>
          </a:xfrm>
        </p:grpSpPr>
        <p:sp>
          <p:nvSpPr>
            <p:cNvPr id="1550" name="Text Box 56"/>
            <p:cNvSpPr/>
            <p:nvPr/>
          </p:nvSpPr>
          <p:spPr>
            <a:xfrm>
              <a:off x="5462640" y="1017360"/>
              <a:ext cx="3111480" cy="5101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йт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57"/>
            <p:cNvSpPr/>
            <p:nvPr/>
          </p:nvSpPr>
          <p:spPr>
            <a:xfrm>
              <a:off x="4995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6" dur="indefinite" restart="never" nodeType="tmRoot">
          <p:childTnLst>
            <p:seq>
              <p:cTn id="2947" dur="indefinite" nodeType="mainSeq">
                <p:childTnLst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3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4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8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1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чальная карти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536D-D8FF-4BE3-A95F-A46166A3E4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5"/>
          <p:cNvSpPr/>
          <p:nvPr/>
        </p:nvSpPr>
        <p:spPr>
          <a:xfrm>
            <a:off x="395280" y="861840"/>
            <a:ext cx="840420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змеры т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ngle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1" lang="es-E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80  </a:t>
            </a:r>
            <a:r>
              <a:rPr b="1" lang="es-E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+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-L*math.</a:t>
            </a:r>
            <a:r>
              <a:rPr b="1" lang="es-E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"#556b2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AutoShape 18"/>
          <p:cNvSpPr/>
          <p:nvPr/>
        </p:nvSpPr>
        <p:spPr>
          <a:xfrm>
            <a:off x="7232760" y="3251160"/>
            <a:ext cx="1744560" cy="584280"/>
          </a:xfrm>
          <a:prstGeom prst="wedgeRoundRectCallout">
            <a:avLst>
              <a:gd name="adj1" fmla="val -40930"/>
              <a:gd name="adj2" fmla="val -81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Группа 8"/>
          <p:cNvGrpSpPr/>
          <p:nvPr/>
        </p:nvGrpSpPr>
        <p:grpSpPr>
          <a:xfrm>
            <a:off x="4325760" y="4951440"/>
            <a:ext cx="2098800" cy="1015920"/>
            <a:chOff x="4325760" y="4951440"/>
            <a:chExt cx="2098800" cy="1015920"/>
          </a:xfrm>
        </p:grpSpPr>
        <p:sp>
          <p:nvSpPr>
            <p:cNvPr id="1557" name="Правая фигурная скобка 9"/>
            <p:cNvSpPr/>
            <p:nvPr/>
          </p:nvSpPr>
          <p:spPr>
            <a:xfrm>
              <a:off x="4325760" y="4951440"/>
              <a:ext cx="114840" cy="1015920"/>
            </a:xfrm>
            <a:custGeom>
              <a:avLst/>
              <a:gdLst>
                <a:gd name="textAreaLeft" fmla="*/ 0 w 114840"/>
                <a:gd name="textAreaRight" fmla="*/ 41400 w 114840"/>
                <a:gd name="textAreaTop" fmla="*/ 7200 h 1015920"/>
                <a:gd name="textAreaBottom" fmla="*/ 1008720 h 10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47"/>
                    <a:pt x="10800" y="494"/>
                  </a:cubicBezTo>
                  <a:lnTo>
                    <a:pt x="10800" y="10306"/>
                  </a:lnTo>
                  <a:cubicBezTo>
                    <a:pt x="10800" y="10553"/>
                    <a:pt x="16200" y="10800"/>
                    <a:pt x="21600" y="10800"/>
                  </a:cubicBezTo>
                  <a:cubicBezTo>
                    <a:pt x="16200" y="10800"/>
                    <a:pt x="10800" y="11047"/>
                    <a:pt x="10800" y="11294"/>
                  </a:cubicBezTo>
                  <a:lnTo>
                    <a:pt x="10800" y="21106"/>
                  </a:lnTo>
                  <a:cubicBezTo>
                    <a:pt x="10800" y="2135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AutoShape 18"/>
            <p:cNvSpPr/>
            <p:nvPr/>
          </p:nvSpPr>
          <p:spPr>
            <a:xfrm>
              <a:off x="4844880" y="5245200"/>
              <a:ext cx="15796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Группа 11"/>
          <p:cNvGrpSpPr/>
          <p:nvPr/>
        </p:nvGrpSpPr>
        <p:grpSpPr>
          <a:xfrm>
            <a:off x="4492800" y="3170160"/>
            <a:ext cx="2157120" cy="1741680"/>
            <a:chOff x="4492800" y="3170160"/>
            <a:chExt cx="2157120" cy="1741680"/>
          </a:xfrm>
        </p:grpSpPr>
        <p:sp>
          <p:nvSpPr>
            <p:cNvPr id="1560" name="Правая фигурная скобка 12"/>
            <p:cNvSpPr/>
            <p:nvPr/>
          </p:nvSpPr>
          <p:spPr>
            <a:xfrm>
              <a:off x="4492800" y="3170160"/>
              <a:ext cx="150120" cy="17416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1741680"/>
                <a:gd name="textAreaBottom" fmla="*/ 1732320 h 17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9"/>
                    <a:pt x="10800" y="378"/>
                  </a:cubicBezTo>
                  <a:lnTo>
                    <a:pt x="10800" y="10422"/>
                  </a:lnTo>
                  <a:cubicBezTo>
                    <a:pt x="10800" y="10611"/>
                    <a:pt x="16200" y="10800"/>
                    <a:pt x="21600" y="10800"/>
                  </a:cubicBezTo>
                  <a:cubicBezTo>
                    <a:pt x="16200" y="10800"/>
                    <a:pt x="10800" y="10989"/>
                    <a:pt x="10800" y="11178"/>
                  </a:cubicBezTo>
                  <a:lnTo>
                    <a:pt x="10800" y="21222"/>
                  </a:lnTo>
                  <a:cubicBezTo>
                    <a:pt x="10800" y="214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AutoShape 18"/>
            <p:cNvSpPr/>
            <p:nvPr/>
          </p:nvSpPr>
          <p:spPr>
            <a:xfrm>
              <a:off x="5072040" y="3844800"/>
              <a:ext cx="1577880" cy="5144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тв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6" dur="indefinite" restart="never" nodeType="tmRoot">
          <p:childTnLst>
            <p:seq>
              <p:cTn id="3027" dur="indefinite" nodeType="mainSeq">
                <p:childTnLst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5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8" dur="500"/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3" dur="500"/>
                                        <p:tgtEl>
                                          <p:spTgt spid="1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1" dur="500"/>
                                        <p:tgtEl>
                                          <p:spTgt spid="1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7" dur="500"/>
                                        <p:tgtEl>
                                          <p:spTgt spid="1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1C10-BA21-44C3-9288-C1FC148A27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979560" y="2781360"/>
            <a:ext cx="2043000" cy="1109520"/>
          </a:xfrm>
          <a:prstGeom prst="rect">
            <a:avLst/>
          </a:prstGeom>
          <a:solidFill>
            <a:srgbClr val="3333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998640" y="2174760"/>
            <a:ext cx="2006640" cy="596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552680" y="1635120"/>
            <a:ext cx="14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00, 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0" y="22590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00,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960560" y="398952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00, 2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930240" y="274176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1959120" y="21272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2963880" y="3841920"/>
            <a:ext cx="88920" cy="88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441600" y="958680"/>
            <a:ext cx="5486400" cy="5388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graph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magenta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blu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ct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yellow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Courier New"/>
              </a:rPr>
              <a:t>polygon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[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2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3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, (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sv-SE" sz="2400" spc="-1" strike="noStrike">
                <a:solidFill>
                  <a:srgbClr val="00b0f0"/>
                </a:solidFill>
                <a:latin typeface="Courier New"/>
              </a:rPr>
              <a:t>100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)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en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white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b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</a:rPr>
              <a:t>rush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</a:rPr>
              <a:t>"green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circ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2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</a:rPr>
              <a:t>5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1440000" y="2771640"/>
            <a:ext cx="1120680" cy="11210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Группа 17"/>
          <p:cNvGrpSpPr/>
          <p:nvPr/>
        </p:nvGrpSpPr>
        <p:grpSpPr>
          <a:xfrm>
            <a:off x="343080" y="3282840"/>
            <a:ext cx="1712880" cy="1146240"/>
            <a:chOff x="343080" y="3282840"/>
            <a:chExt cx="1712880" cy="1146240"/>
          </a:xfrm>
        </p:grpSpPr>
        <p:sp>
          <p:nvSpPr>
            <p:cNvPr id="334" name="Oval 13"/>
            <p:cNvSpPr/>
            <p:nvPr/>
          </p:nvSpPr>
          <p:spPr>
            <a:xfrm>
              <a:off x="1967040" y="3282840"/>
              <a:ext cx="88920" cy="88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>
              <a:off x="343080" y="4020480"/>
              <a:ext cx="143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Полилиния 16"/>
            <p:cNvSpPr/>
            <p:nvPr/>
          </p:nvSpPr>
          <p:spPr>
            <a:xfrm flipV="1">
              <a:off x="359280" y="3360600"/>
              <a:ext cx="1659600" cy="1068480"/>
            </a:xfrm>
            <a:custGeom>
              <a:avLst/>
              <a:gdLst>
                <a:gd name="textAreaLeft" fmla="*/ 0 w 1659600"/>
                <a:gd name="textAreaRight" fmla="*/ 1659960 w 1659600"/>
                <a:gd name="textAreaTop" fmla="*/ 360 h 1068480"/>
                <a:gd name="textAreaBottom" fmla="*/ 1069200 h 1068480"/>
              </a:gdLst>
              <a:ahLst/>
              <a:rect l="textAreaLeft" t="textAreaTop" r="textAreaRight" b="textAreaBottom"/>
              <a:pathLst>
                <a:path w="1572744" h="673100">
                  <a:moveTo>
                    <a:pt x="0" y="0"/>
                  </a:moveTo>
                  <a:lnTo>
                    <a:pt x="1198094" y="0"/>
                  </a:lnTo>
                  <a:lnTo>
                    <a:pt x="1572744" y="673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имация поворота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08E8-1023-4049-BBDB-0A8CC5647FD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395280" y="861840"/>
            <a:ext cx="840420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LE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+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ле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-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право на 5 град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55"/>
          <p:cNvGrpSpPr/>
          <p:nvPr/>
        </p:nvGrpSpPr>
        <p:grpSpPr>
          <a:xfrm>
            <a:off x="1111320" y="4592520"/>
            <a:ext cx="6594480" cy="663480"/>
            <a:chOff x="1111320" y="4592520"/>
            <a:chExt cx="6594480" cy="663480"/>
          </a:xfrm>
        </p:grpSpPr>
        <p:sp>
          <p:nvSpPr>
            <p:cNvPr id="1566" name="Text Box 56"/>
            <p:cNvSpPr/>
            <p:nvPr/>
          </p:nvSpPr>
          <p:spPr>
            <a:xfrm>
              <a:off x="1578240" y="4698720"/>
              <a:ext cx="612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написать процедуру </a:t>
              </a:r>
              <a:r>
                <a:rPr b="1" lang="en-US" sz="24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drawGu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57"/>
            <p:cNvSpPr/>
            <p:nvPr/>
          </p:nvSpPr>
          <p:spPr>
            <a:xfrm>
              <a:off x="1111320" y="45925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1" dur="indefinite" restart="never" nodeType="tmRoot">
          <p:childTnLst>
            <p:seq>
              <p:cTn id="3102" dur="indefinite" nodeType="mainSeq">
                <p:childTnLst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0" dur="500"/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3" dur="500"/>
                                        <p:tgtEl>
                                          <p:spTgt spid="1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8" dur="500"/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1" dur="500"/>
                                        <p:tgtEl>
                                          <p:spTgt spid="1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1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9" dur="500"/>
                                        <p:tgtEl>
                                          <p:spTgt spid="1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4F5F-F4B4-47FF-87E1-E73B8B249EB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95280" y="1692360"/>
            <a:ext cx="8404200" cy="41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angle, gu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лобальные перем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 = angleNew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помнить новы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ad = angle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pi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18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 ради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1 = x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1 = y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*math.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si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un =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в первый раз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пушка уже нарисо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"/>
          <p:cNvSpPr/>
          <p:nvPr/>
        </p:nvSpPr>
        <p:spPr>
          <a:xfrm>
            <a:off x="369720" y="812880"/>
            <a:ext cx="84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ый раз рисуем, потом просто меняем коорди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18"/>
          <p:cNvSpPr/>
          <p:nvPr/>
        </p:nvSpPr>
        <p:spPr>
          <a:xfrm>
            <a:off x="5072040" y="1270080"/>
            <a:ext cx="2895480" cy="879480"/>
          </a:xfrm>
          <a:prstGeom prst="wedgeRoundRectCallout">
            <a:avLst>
              <a:gd name="adj1" fmla="val -89287"/>
              <a:gd name="adj2" fmla="val 61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уст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18"/>
          <p:cNvSpPr/>
          <p:nvPr/>
        </p:nvSpPr>
        <p:spPr>
          <a:xfrm>
            <a:off x="357120" y="5794200"/>
            <a:ext cx="2516400" cy="7128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мнить «адрес»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Полилиния 7"/>
          <p:cNvSpPr/>
          <p:nvPr/>
        </p:nvSpPr>
        <p:spPr>
          <a:xfrm>
            <a:off x="312840" y="4786200"/>
            <a:ext cx="839520" cy="1235160"/>
          </a:xfrm>
          <a:custGeom>
            <a:avLst/>
            <a:gdLst>
              <a:gd name="textAreaLeft" fmla="*/ 0 w 839520"/>
              <a:gd name="textAreaRight" fmla="*/ 839880 w 839520"/>
              <a:gd name="textAreaTop" fmla="*/ 0 h 1235160"/>
              <a:gd name="textAreaBottom" fmla="*/ 1235160 h 1235160"/>
            </a:gdLst>
            <a:ahLst/>
            <a:rect l="textAreaLeft" t="textAreaTop" r="textAreaRight" b="textAreaBottom"/>
            <a:pathLst>
              <a:path w="839189" h="1235034">
                <a:moveTo>
                  <a:pt x="839189" y="0"/>
                </a:moveTo>
                <a:cubicBezTo>
                  <a:pt x="510638" y="146462"/>
                  <a:pt x="182088" y="292924"/>
                  <a:pt x="91044" y="498763"/>
                </a:cubicBezTo>
                <a:cubicBezTo>
                  <a:pt x="0" y="704602"/>
                  <a:pt x="146462" y="969818"/>
                  <a:pt x="292925" y="123503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Группа 8"/>
          <p:cNvGrpSpPr/>
          <p:nvPr/>
        </p:nvGrpSpPr>
        <p:grpSpPr>
          <a:xfrm>
            <a:off x="4351320" y="5402160"/>
            <a:ext cx="4554720" cy="1271520"/>
            <a:chOff x="4351320" y="5402160"/>
            <a:chExt cx="4554720" cy="1271520"/>
          </a:xfrm>
        </p:grpSpPr>
        <p:sp>
          <p:nvSpPr>
            <p:cNvPr id="1576" name="Скругленный прямоугольник 9"/>
            <p:cNvSpPr/>
            <p:nvPr/>
          </p:nvSpPr>
          <p:spPr>
            <a:xfrm rot="5400000">
              <a:off x="5815080" y="3938400"/>
              <a:ext cx="392400" cy="3319920"/>
            </a:xfrm>
            <a:custGeom>
              <a:avLst/>
              <a:gdLst>
                <a:gd name="textAreaLeft" fmla="*/ 19080 w 392400"/>
                <a:gd name="textAreaRight" fmla="*/ 373320 w 392400"/>
                <a:gd name="textAreaTop" fmla="*/ 19080 h 3319920"/>
                <a:gd name="textAreaBottom" fmla="*/ 3300840 h 3319920"/>
              </a:gdLst>
              <a:ahLst/>
              <a:rect l="textAreaLeft" t="textAreaTop" r="textAreaRight" b="textAreaBottom"/>
              <a:pathLst>
                <a:path w="21600" h="182600">
                  <a:moveTo>
                    <a:pt x="3600" y="0"/>
                  </a:moveTo>
                  <a:arcTo wR="3600" hR="3600" stAng="16200000" swAng="-5400000"/>
                  <a:lnTo>
                    <a:pt x="0" y="179000"/>
                  </a:lnTo>
                  <a:arcTo wR="3600" hR="3600" stAng="10800000" swAng="-5400000"/>
                  <a:lnTo>
                    <a:pt x="18000" y="182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AutoShape 18"/>
            <p:cNvSpPr/>
            <p:nvPr/>
          </p:nvSpPr>
          <p:spPr>
            <a:xfrm>
              <a:off x="5973840" y="6018120"/>
              <a:ext cx="2932200" cy="655560"/>
            </a:xfrm>
            <a:prstGeom prst="wedgeRoundRectCallout">
              <a:avLst>
                <a:gd name="adj1" fmla="val -37509"/>
                <a:gd name="adj2" fmla="val -8596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ассив новых координа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6" dur="indefinite" restart="never" nodeType="tmRoot">
          <p:childTnLst>
            <p:seq>
              <p:cTn id="3147" dur="indefinite" nodeType="mainSeq">
                <p:childTnLst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3" dur="500"/>
                                        <p:tgtEl>
                                          <p:spTgt spid="1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исование и вращение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03D7-CF70-40E0-98C2-DE4076110D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5"/>
          <p:cNvSpPr/>
          <p:nvPr/>
        </p:nvSpPr>
        <p:spPr>
          <a:xfrm>
            <a:off x="395280" y="1324080"/>
            <a:ext cx="8404200" cy="3846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None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ще не рисовали п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исуем в перв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содержит адрес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ращ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осто меняем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2"/>
          <p:cNvSpPr/>
          <p:nvPr/>
        </p:nvSpPr>
        <p:spPr>
          <a:xfrm>
            <a:off x="369720" y="812880"/>
            <a:ext cx="33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Как это работ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7"/>
          <p:cNvSpPr/>
          <p:nvPr/>
        </p:nvSpPr>
        <p:spPr>
          <a:xfrm>
            <a:off x="584280" y="213516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Прямоугольник 11"/>
          <p:cNvSpPr/>
          <p:nvPr/>
        </p:nvSpPr>
        <p:spPr>
          <a:xfrm>
            <a:off x="962640" y="2163600"/>
            <a:ext cx="4935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lin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x1, y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Прямоугольник 12"/>
          <p:cNvSpPr/>
          <p:nvPr/>
        </p:nvSpPr>
        <p:spPr>
          <a:xfrm>
            <a:off x="1587960" y="4254480"/>
            <a:ext cx="694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hangeCoor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n, [(x0,y0), (x1,y1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Полилиния 13"/>
          <p:cNvSpPr/>
          <p:nvPr/>
        </p:nvSpPr>
        <p:spPr>
          <a:xfrm>
            <a:off x="584280" y="3727440"/>
            <a:ext cx="358560" cy="433440"/>
          </a:xfrm>
          <a:custGeom>
            <a:avLst/>
            <a:gdLst>
              <a:gd name="textAreaLeft" fmla="*/ 0 w 358560"/>
              <a:gd name="textAreaRight" fmla="*/ 358920 w 3585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Полилиния 14"/>
          <p:cNvSpPr/>
          <p:nvPr/>
        </p:nvSpPr>
        <p:spPr>
          <a:xfrm>
            <a:off x="1154160" y="4119480"/>
            <a:ext cx="358560" cy="432000"/>
          </a:xfrm>
          <a:custGeom>
            <a:avLst/>
            <a:gdLst>
              <a:gd name="textAreaLeft" fmla="*/ 0 w 358560"/>
              <a:gd name="textAreaRight" fmla="*/ 358920 w 3585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359587" h="432845">
                <a:moveTo>
                  <a:pt x="77382" y="0"/>
                </a:moveTo>
                <a:cubicBezTo>
                  <a:pt x="0" y="432845"/>
                  <a:pt x="240119" y="262439"/>
                  <a:pt x="359587" y="263484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9" dur="indefinite" restart="never" nodeType="tmRoot">
          <p:childTnLst>
            <p:seq>
              <p:cTn id="3210" dur="indefinite" nodeType="mainSeq">
                <p:childTnLst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3" dur="500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8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4" dur="500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7" dur="500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2" dur="500"/>
                                        <p:tgtEl>
                                          <p:spTgt spid="1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5" dur="500"/>
                                        <p:tgtEl>
                                          <p:spTgt spid="1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3" dur="500"/>
                                        <p:tgtEl>
                                          <p:spTgt spid="1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4" dur="500"/>
                                        <p:tgtEl>
                                          <p:spTgt spid="1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3457-7C32-4975-BBAB-1373623988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406440" y="861840"/>
            <a:ext cx="8405640" cy="5582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ph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ngleNew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W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L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gle = 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un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6b8e23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-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-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x0+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y0+H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drawGu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pen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"#556b2f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W/</a:t>
            </a:r>
            <a:r>
              <a:rPr b="1" lang="en-US" sz="2000" spc="-1" strike="noStrike">
                <a:solidFill>
                  <a:srgbClr val="00b0f0"/>
                </a:solidFill>
                <a:latin typeface="Courier New"/>
                <a:ea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ru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Группа 4"/>
          <p:cNvGrpSpPr/>
          <p:nvPr/>
        </p:nvGrpSpPr>
        <p:grpSpPr>
          <a:xfrm>
            <a:off x="3922560" y="1521000"/>
            <a:ext cx="2989440" cy="1157040"/>
            <a:chOff x="3922560" y="1521000"/>
            <a:chExt cx="2989440" cy="1157040"/>
          </a:xfrm>
        </p:grpSpPr>
        <p:sp>
          <p:nvSpPr>
            <p:cNvPr id="1591" name="Правая фигурная скобка 5"/>
            <p:cNvSpPr/>
            <p:nvPr/>
          </p:nvSpPr>
          <p:spPr>
            <a:xfrm>
              <a:off x="3922560" y="1521000"/>
              <a:ext cx="126720" cy="1157040"/>
            </a:xfrm>
            <a:custGeom>
              <a:avLst/>
              <a:gdLst>
                <a:gd name="textAreaLeft" fmla="*/ 0 w 126720"/>
                <a:gd name="textAreaRight" fmla="*/ 45720 w 126720"/>
                <a:gd name="textAreaTop" fmla="*/ 7920 h 1157040"/>
                <a:gd name="textAreaBottom" fmla="*/ 1149120 h 11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39"/>
                    <a:pt x="10800" y="478"/>
                  </a:cubicBezTo>
                  <a:lnTo>
                    <a:pt x="10800" y="10322"/>
                  </a:lnTo>
                  <a:cubicBezTo>
                    <a:pt x="10800" y="10561"/>
                    <a:pt x="16200" y="10800"/>
                    <a:pt x="21600" y="10800"/>
                  </a:cubicBezTo>
                  <a:cubicBezTo>
                    <a:pt x="16200" y="10800"/>
                    <a:pt x="10800" y="11039"/>
                    <a:pt x="10800" y="11278"/>
                  </a:cubicBezTo>
                  <a:lnTo>
                    <a:pt x="10800" y="21122"/>
                  </a:lnTo>
                  <a:cubicBezTo>
                    <a:pt x="10800" y="2136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AutoShape 18"/>
            <p:cNvSpPr/>
            <p:nvPr/>
          </p:nvSpPr>
          <p:spPr>
            <a:xfrm>
              <a:off x="4501800" y="1612800"/>
              <a:ext cx="2410200" cy="512640"/>
            </a:xfrm>
            <a:prstGeom prst="wedgeRoundRectCallout">
              <a:avLst>
                <a:gd name="adj1" fmla="val -73958"/>
                <a:gd name="adj2" fmla="val -9902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роцед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Группа 7"/>
          <p:cNvGrpSpPr/>
          <p:nvPr/>
        </p:nvGrpSpPr>
        <p:grpSpPr>
          <a:xfrm>
            <a:off x="5240160" y="2467080"/>
            <a:ext cx="2989440" cy="1185840"/>
            <a:chOff x="5240160" y="2467080"/>
            <a:chExt cx="2989440" cy="1185840"/>
          </a:xfrm>
        </p:grpSpPr>
        <p:sp>
          <p:nvSpPr>
            <p:cNvPr id="1594" name="Правая фигурная скобка 8"/>
            <p:cNvSpPr/>
            <p:nvPr/>
          </p:nvSpPr>
          <p:spPr>
            <a:xfrm>
              <a:off x="5240160" y="2683440"/>
              <a:ext cx="150480" cy="969480"/>
            </a:xfrm>
            <a:custGeom>
              <a:avLst/>
              <a:gdLst>
                <a:gd name="textAreaLeft" fmla="*/ 0 w 150480"/>
                <a:gd name="textAreaRight" fmla="*/ 54360 w 150480"/>
                <a:gd name="textAreaTop" fmla="*/ 9360 h 969480"/>
                <a:gd name="textAreaBottom" fmla="*/ 960120 h 96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40"/>
                    <a:pt x="10800" y="680"/>
                  </a:cubicBezTo>
                  <a:lnTo>
                    <a:pt x="10800" y="10120"/>
                  </a:lnTo>
                  <a:cubicBezTo>
                    <a:pt x="10800" y="10460"/>
                    <a:pt x="16200" y="10800"/>
                    <a:pt x="21600" y="10800"/>
                  </a:cubicBezTo>
                  <a:cubicBezTo>
                    <a:pt x="16200" y="10800"/>
                    <a:pt x="10800" y="11140"/>
                    <a:pt x="10800" y="11480"/>
                  </a:cubicBezTo>
                  <a:lnTo>
                    <a:pt x="10800" y="20920"/>
                  </a:lnTo>
                  <a:cubicBezTo>
                    <a:pt x="10800" y="2126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AutoShape 18"/>
            <p:cNvSpPr/>
            <p:nvPr/>
          </p:nvSpPr>
          <p:spPr>
            <a:xfrm>
              <a:off x="5819400" y="2467080"/>
              <a:ext cx="2410200" cy="750960"/>
            </a:xfrm>
            <a:prstGeom prst="wedgeRoundRectCallout">
              <a:avLst>
                <a:gd name="adj1" fmla="val -67555"/>
                <a:gd name="adj2" fmla="val 438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ачальные зна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Группа 10"/>
          <p:cNvGrpSpPr/>
          <p:nvPr/>
        </p:nvGrpSpPr>
        <p:grpSpPr>
          <a:xfrm>
            <a:off x="2735280" y="4251240"/>
            <a:ext cx="2144520" cy="623880"/>
            <a:chOff x="2735280" y="4251240"/>
            <a:chExt cx="2144520" cy="623880"/>
          </a:xfrm>
        </p:grpSpPr>
        <p:sp>
          <p:nvSpPr>
            <p:cNvPr id="1597" name="Правая фигурная скобка 11"/>
            <p:cNvSpPr/>
            <p:nvPr/>
          </p:nvSpPr>
          <p:spPr>
            <a:xfrm>
              <a:off x="2735280" y="4251240"/>
              <a:ext cx="150120" cy="623880"/>
            </a:xfrm>
            <a:custGeom>
              <a:avLst/>
              <a:gdLst>
                <a:gd name="textAreaLeft" fmla="*/ 0 w 150120"/>
                <a:gd name="textAreaRight" fmla="*/ 54000 w 150120"/>
                <a:gd name="textAreaTop" fmla="*/ 9360 h 623880"/>
                <a:gd name="textAreaBottom" fmla="*/ 6145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528"/>
                    <a:pt x="10800" y="1055"/>
                  </a:cubicBezTo>
                  <a:lnTo>
                    <a:pt x="10800" y="9745"/>
                  </a:lnTo>
                  <a:cubicBezTo>
                    <a:pt x="10800" y="10273"/>
                    <a:pt x="16200" y="10800"/>
                    <a:pt x="21600" y="10800"/>
                  </a:cubicBezTo>
                  <a:cubicBezTo>
                    <a:pt x="16200" y="10800"/>
                    <a:pt x="10800" y="11328"/>
                    <a:pt x="10800" y="11855"/>
                  </a:cubicBezTo>
                  <a:lnTo>
                    <a:pt x="10800" y="20545"/>
                  </a:lnTo>
                  <a:cubicBezTo>
                    <a:pt x="10800" y="21073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AutoShape 18"/>
            <p:cNvSpPr/>
            <p:nvPr/>
          </p:nvSpPr>
          <p:spPr>
            <a:xfrm>
              <a:off x="3254400" y="4275000"/>
              <a:ext cx="162540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уш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9" name="AutoShape 18"/>
          <p:cNvSpPr/>
          <p:nvPr/>
        </p:nvSpPr>
        <p:spPr>
          <a:xfrm>
            <a:off x="6637320" y="3441600"/>
            <a:ext cx="1625760" cy="474840"/>
          </a:xfrm>
          <a:prstGeom prst="wedgeRoundRectCallout">
            <a:avLst>
              <a:gd name="adj1" fmla="val -75587"/>
              <a:gd name="adj2" fmla="val 713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Группа 14"/>
          <p:cNvGrpSpPr/>
          <p:nvPr/>
        </p:nvGrpSpPr>
        <p:grpSpPr>
          <a:xfrm>
            <a:off x="3673440" y="4940280"/>
            <a:ext cx="2144880" cy="831960"/>
            <a:chOff x="3673440" y="4940280"/>
            <a:chExt cx="2144880" cy="831960"/>
          </a:xfrm>
        </p:grpSpPr>
        <p:sp>
          <p:nvSpPr>
            <p:cNvPr id="1601" name="Правая фигурная скобка 15"/>
            <p:cNvSpPr/>
            <p:nvPr/>
          </p:nvSpPr>
          <p:spPr>
            <a:xfrm>
              <a:off x="3673440" y="4940280"/>
              <a:ext cx="185760" cy="8319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11520 h 831960"/>
                <a:gd name="textAreaBottom" fmla="*/ 820440 h 8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90"/>
                    <a:pt x="10800" y="979"/>
                  </a:cubicBezTo>
                  <a:lnTo>
                    <a:pt x="10800" y="9821"/>
                  </a:lnTo>
                  <a:cubicBezTo>
                    <a:pt x="10800" y="10311"/>
                    <a:pt x="16200" y="10800"/>
                    <a:pt x="21600" y="10800"/>
                  </a:cubicBezTo>
                  <a:cubicBezTo>
                    <a:pt x="16200" y="10800"/>
                    <a:pt x="10800" y="11290"/>
                    <a:pt x="10800" y="11779"/>
                  </a:cubicBezTo>
                  <a:lnTo>
                    <a:pt x="10800" y="20621"/>
                  </a:lnTo>
                  <a:cubicBezTo>
                    <a:pt x="10800" y="21111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AutoShape 18"/>
            <p:cNvSpPr/>
            <p:nvPr/>
          </p:nvSpPr>
          <p:spPr>
            <a:xfrm>
              <a:off x="4192560" y="4964040"/>
              <a:ext cx="1625760" cy="474840"/>
            </a:xfrm>
            <a:prstGeom prst="wedgeRoundRectCallout">
              <a:avLst>
                <a:gd name="adj1" fmla="val -69013"/>
                <a:gd name="adj2" fmla="val 11375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баш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5" dur="indefinite" restart="never" nodeType="tmRoot">
          <p:childTnLst>
            <p:seq>
              <p:cTn id="3266" dur="indefinite" nodeType="mainSeq">
                <p:childTnLst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1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7" dur="5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2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8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1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4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9" dur="500"/>
                                        <p:tgtEl>
                                          <p:spTgt spid="1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1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fill="hold">
                      <p:stCondLst>
                        <p:cond delay="indefinite"/>
                      </p:stCondLst>
                      <p:childTnLst>
                        <p:par>
                          <p:cTn id="3307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0" dur="500"/>
                                        <p:tgtEl>
                                          <p:spTgt spid="1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5" dur="500"/>
                                        <p:tgtEl>
                                          <p:spTgt spid="1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8" dur="500"/>
                                        <p:tgtEl>
                                          <p:spTgt spid="1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1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6" dur="500"/>
                                        <p:tgtEl>
                                          <p:spTgt spid="15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5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5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5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5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5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4" dur="500"/>
                                        <p:tgtEl>
                                          <p:spTgt spid="15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15E3-B96E-4894-9AEF-0456F6BA7C2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"/>
          <p:cNvSpPr/>
          <p:nvPr/>
        </p:nvSpPr>
        <p:spPr>
          <a:xfrm>
            <a:off x="369720" y="844560"/>
            <a:ext cx="840924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3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в обратную сторон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0720" indent="-720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4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танк с управляемой пушкой, развёрнутый боком. Управление – клавишами "вверх" и "вниз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Группа 4"/>
          <p:cNvGrpSpPr/>
          <p:nvPr/>
        </p:nvGrpSpPr>
        <p:grpSpPr>
          <a:xfrm>
            <a:off x="2989440" y="1746000"/>
            <a:ext cx="1002240" cy="1414800"/>
            <a:chOff x="2989440" y="1746000"/>
            <a:chExt cx="1002240" cy="1414800"/>
          </a:xfrm>
        </p:grpSpPr>
        <p:sp>
          <p:nvSpPr>
            <p:cNvPr id="1607" name="Прямоугольник 5"/>
            <p:cNvSpPr/>
            <p:nvPr/>
          </p:nvSpPr>
          <p:spPr>
            <a:xfrm flipV="1">
              <a:off x="2989440" y="1745640"/>
              <a:ext cx="64260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Прямоугольник 6"/>
            <p:cNvSpPr/>
            <p:nvPr/>
          </p:nvSpPr>
          <p:spPr>
            <a:xfrm flipV="1" rot="19192800">
              <a:off x="3635640" y="2404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Овал 7"/>
            <p:cNvSpPr/>
            <p:nvPr/>
          </p:nvSpPr>
          <p:spPr>
            <a:xfrm flipV="1">
              <a:off x="2989440" y="2067840"/>
              <a:ext cx="64260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Группа 8"/>
          <p:cNvGrpSpPr/>
          <p:nvPr/>
        </p:nvGrpSpPr>
        <p:grpSpPr>
          <a:xfrm>
            <a:off x="2709360" y="4921920"/>
            <a:ext cx="1413360" cy="1002600"/>
            <a:chOff x="2709360" y="4921920"/>
            <a:chExt cx="1413360" cy="1002600"/>
          </a:xfrm>
        </p:grpSpPr>
        <p:sp>
          <p:nvSpPr>
            <p:cNvPr id="1611" name="Прямоугольник 9"/>
            <p:cNvSpPr/>
            <p:nvPr/>
          </p:nvSpPr>
          <p:spPr>
            <a:xfrm flipV="1" rot="16200000">
              <a:off x="3030480" y="496044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Прямоугольник 10"/>
            <p:cNvSpPr/>
            <p:nvPr/>
          </p:nvSpPr>
          <p:spPr>
            <a:xfrm flipV="1" rot="13792800">
              <a:off x="3724560" y="481608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Овал 11"/>
            <p:cNvSpPr/>
            <p:nvPr/>
          </p:nvSpPr>
          <p:spPr>
            <a:xfrm flipV="1" rot="16200000">
              <a:off x="3030120" y="528156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Группа 16"/>
          <p:cNvGrpSpPr/>
          <p:nvPr/>
        </p:nvGrpSpPr>
        <p:grpSpPr>
          <a:xfrm>
            <a:off x="2801520" y="3122640"/>
            <a:ext cx="1046520" cy="320760"/>
            <a:chOff x="2801520" y="3122640"/>
            <a:chExt cx="1046520" cy="320760"/>
          </a:xfrm>
        </p:grpSpPr>
        <p:sp>
          <p:nvSpPr>
            <p:cNvPr id="1615" name="Стрелка вправо 17"/>
            <p:cNvSpPr/>
            <p:nvPr/>
          </p:nvSpPr>
          <p:spPr>
            <a:xfrm>
              <a:off x="339624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Стрелка вправо 18"/>
            <p:cNvSpPr/>
            <p:nvPr/>
          </p:nvSpPr>
          <p:spPr>
            <a:xfrm flipH="1">
              <a:off x="2801160" y="312264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Группа 19"/>
          <p:cNvGrpSpPr/>
          <p:nvPr/>
        </p:nvGrpSpPr>
        <p:grpSpPr>
          <a:xfrm>
            <a:off x="2274840" y="5087880"/>
            <a:ext cx="318960" cy="1046520"/>
            <a:chOff x="2274840" y="5087880"/>
            <a:chExt cx="318960" cy="1046520"/>
          </a:xfrm>
        </p:grpSpPr>
        <p:sp>
          <p:nvSpPr>
            <p:cNvPr id="1618" name="Стрелка вправо 20"/>
            <p:cNvSpPr/>
            <p:nvPr/>
          </p:nvSpPr>
          <p:spPr>
            <a:xfrm rot="16200000">
              <a:off x="2208240" y="515412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Стрелка вправо 21"/>
            <p:cNvSpPr/>
            <p:nvPr/>
          </p:nvSpPr>
          <p:spPr>
            <a:xfrm flipH="1" rot="16200000">
              <a:off x="2208240" y="5748840"/>
              <a:ext cx="451800" cy="318960"/>
            </a:xfrm>
            <a:prstGeom prst="rightArrow">
              <a:avLst>
                <a:gd name="adj1" fmla="val 50000"/>
                <a:gd name="adj2" fmla="val 50324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E8B0-E089-40DF-A3C3-A96E7A52BB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2"/>
          <p:cNvSpPr/>
          <p:nvPr/>
        </p:nvSpPr>
        <p:spPr>
          <a:xfrm>
            <a:off x="369720" y="844560"/>
            <a:ext cx="840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0720" indent="-72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«5»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два танка, у одного пушка управляемся клавишами "влево" и "вправо", у второго – клавишами "вверх" и "вниз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Группа 4"/>
          <p:cNvGrpSpPr/>
          <p:nvPr/>
        </p:nvGrpSpPr>
        <p:grpSpPr>
          <a:xfrm>
            <a:off x="4390920" y="3507840"/>
            <a:ext cx="1002600" cy="1413360"/>
            <a:chOff x="4390920" y="3507840"/>
            <a:chExt cx="1002600" cy="1413360"/>
          </a:xfrm>
        </p:grpSpPr>
        <p:sp>
          <p:nvSpPr>
            <p:cNvPr id="1624" name="Прямоугольник 5"/>
            <p:cNvSpPr/>
            <p:nvPr/>
          </p:nvSpPr>
          <p:spPr>
            <a:xfrm>
              <a:off x="4390920" y="3636000"/>
              <a:ext cx="642960" cy="12852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Прямоугольник 6"/>
            <p:cNvSpPr/>
            <p:nvPr/>
          </p:nvSpPr>
          <p:spPr>
            <a:xfrm rot="2407200">
              <a:off x="5038200" y="3444840"/>
              <a:ext cx="103680" cy="81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Овал 7"/>
            <p:cNvSpPr/>
            <p:nvPr/>
          </p:nvSpPr>
          <p:spPr>
            <a:xfrm>
              <a:off x="4390920" y="3957480"/>
              <a:ext cx="642960" cy="64260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Группа 8"/>
          <p:cNvGrpSpPr/>
          <p:nvPr/>
        </p:nvGrpSpPr>
        <p:grpSpPr>
          <a:xfrm>
            <a:off x="2447640" y="2321640"/>
            <a:ext cx="1414800" cy="1002600"/>
            <a:chOff x="2447640" y="2321640"/>
            <a:chExt cx="1414800" cy="1002600"/>
          </a:xfrm>
        </p:grpSpPr>
        <p:sp>
          <p:nvSpPr>
            <p:cNvPr id="1628" name="Прямоугольник 9"/>
            <p:cNvSpPr/>
            <p:nvPr/>
          </p:nvSpPr>
          <p:spPr>
            <a:xfrm flipV="1" rot="16200000">
              <a:off x="2769120" y="2359440"/>
              <a:ext cx="642960" cy="12862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Прямоугольник 10"/>
            <p:cNvSpPr/>
            <p:nvPr/>
          </p:nvSpPr>
          <p:spPr>
            <a:xfrm flipV="1" rot="13792800">
              <a:off x="3464280" y="2215800"/>
              <a:ext cx="103680" cy="81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Овал 11"/>
            <p:cNvSpPr/>
            <p:nvPr/>
          </p:nvSpPr>
          <p:spPr>
            <a:xfrm flipV="1" rot="16200000">
              <a:off x="2769480" y="2681280"/>
              <a:ext cx="642960" cy="642960"/>
            </a:xfrm>
            <a:prstGeom prst="ellipse">
              <a:avLst/>
            </a:prstGeom>
            <a:solidFill>
              <a:srgbClr val="88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Группа 14"/>
          <p:cNvGrpSpPr/>
          <p:nvPr/>
        </p:nvGrpSpPr>
        <p:grpSpPr>
          <a:xfrm>
            <a:off x="4227120" y="5022720"/>
            <a:ext cx="1045080" cy="320760"/>
            <a:chOff x="4227120" y="5022720"/>
            <a:chExt cx="1045080" cy="320760"/>
          </a:xfrm>
        </p:grpSpPr>
        <p:sp>
          <p:nvSpPr>
            <p:cNvPr id="1632" name="Стрелка вправо 12"/>
            <p:cNvSpPr/>
            <p:nvPr/>
          </p:nvSpPr>
          <p:spPr>
            <a:xfrm>
              <a:off x="482112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Стрелка вправо 13"/>
            <p:cNvSpPr/>
            <p:nvPr/>
          </p:nvSpPr>
          <p:spPr>
            <a:xfrm flipH="1">
              <a:off x="4226760" y="5022720"/>
              <a:ext cx="451080" cy="3207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Группа 15"/>
          <p:cNvGrpSpPr/>
          <p:nvPr/>
        </p:nvGrpSpPr>
        <p:grpSpPr>
          <a:xfrm>
            <a:off x="1917720" y="2440080"/>
            <a:ext cx="320760" cy="1046520"/>
            <a:chOff x="1917720" y="2440080"/>
            <a:chExt cx="320760" cy="1046520"/>
          </a:xfrm>
        </p:grpSpPr>
        <p:sp>
          <p:nvSpPr>
            <p:cNvPr id="1635" name="Стрелка вправо 16"/>
            <p:cNvSpPr/>
            <p:nvPr/>
          </p:nvSpPr>
          <p:spPr>
            <a:xfrm rot="16200000">
              <a:off x="1852200" y="250560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Стрелка вправо 17"/>
            <p:cNvSpPr/>
            <p:nvPr/>
          </p:nvSpPr>
          <p:spPr>
            <a:xfrm flipH="1" rot="16200000">
              <a:off x="1851840" y="3100320"/>
              <a:ext cx="451800" cy="320760"/>
            </a:xfrm>
            <a:prstGeom prst="rightArrow">
              <a:avLst>
                <a:gd name="adj1" fmla="val 50000"/>
                <a:gd name="adj2" fmla="val 50042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Группа 8"/>
          <p:cNvGrpSpPr/>
          <p:nvPr/>
        </p:nvGrpSpPr>
        <p:grpSpPr>
          <a:xfrm>
            <a:off x="276840" y="871560"/>
            <a:ext cx="2758320" cy="2735280"/>
            <a:chOff x="276840" y="871560"/>
            <a:chExt cx="2758320" cy="2735280"/>
          </a:xfrm>
        </p:grpSpPr>
        <p:sp>
          <p:nvSpPr>
            <p:cNvPr id="1638" name="Прямоугольник 9"/>
            <p:cNvSpPr/>
            <p:nvPr/>
          </p:nvSpPr>
          <p:spPr>
            <a:xfrm>
              <a:off x="1168200" y="1282680"/>
              <a:ext cx="1866960" cy="2324160"/>
            </a:xfrm>
            <a:prstGeom prst="rect">
              <a:avLst/>
            </a:prstGeom>
            <a:solidFill>
              <a:srgbClr val="e6e6e6"/>
            </a:solidFill>
            <a:ln w="12600">
              <a:solidFill>
                <a:srgbClr val="000000"/>
              </a:solidFill>
              <a:round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Прямоугольник 10"/>
            <p:cNvSpPr/>
            <p:nvPr/>
          </p:nvSpPr>
          <p:spPr>
            <a:xfrm>
              <a:off x="276840" y="8715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ельба из пу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8B97-1A9A-4922-82E7-D1347EE1197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Группа 3"/>
          <p:cNvGrpSpPr/>
          <p:nvPr/>
        </p:nvGrpSpPr>
        <p:grpSpPr>
          <a:xfrm>
            <a:off x="659520" y="750960"/>
            <a:ext cx="2367720" cy="2852640"/>
            <a:chOff x="659520" y="750960"/>
            <a:chExt cx="2367720" cy="2852640"/>
          </a:xfrm>
        </p:grpSpPr>
        <p:sp>
          <p:nvSpPr>
            <p:cNvPr id="1643" name="Полилиния 4"/>
            <p:cNvSpPr/>
            <p:nvPr/>
          </p:nvSpPr>
          <p:spPr>
            <a:xfrm flipV="1">
              <a:off x="1167840" y="2944080"/>
              <a:ext cx="18594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Полилиния 5"/>
            <p:cNvSpPr/>
            <p:nvPr/>
          </p:nvSpPr>
          <p:spPr>
            <a:xfrm flipV="1" rot="16200000">
              <a:off x="951480" y="2436840"/>
              <a:ext cx="2332800" cy="360"/>
            </a:xfrm>
            <a:custGeom>
              <a:avLst/>
              <a:gdLst/>
              <a:ahLst/>
              <a:rect l="l" t="t" r="r" b="b"/>
              <a:pathLst>
                <a:path w="3538847" h="35626">
                  <a:moveTo>
                    <a:pt x="0" y="35626"/>
                  </a:moveTo>
                  <a:lnTo>
                    <a:pt x="35388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Прямоугольник 6"/>
            <p:cNvSpPr/>
            <p:nvPr/>
          </p:nvSpPr>
          <p:spPr>
            <a:xfrm>
              <a:off x="1885320" y="750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Прямоугольник 7"/>
            <p:cNvSpPr/>
            <p:nvPr/>
          </p:nvSpPr>
          <p:spPr>
            <a:xfrm>
              <a:off x="659520" y="2658960"/>
              <a:ext cx="47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Овал 11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18"/>
          <p:cNvSpPr/>
          <p:nvPr/>
        </p:nvSpPr>
        <p:spPr>
          <a:xfrm>
            <a:off x="1998720" y="3479760"/>
            <a:ext cx="1887480" cy="879480"/>
          </a:xfrm>
          <a:prstGeom prst="wedgeRoundRectCallout">
            <a:avLst>
              <a:gd name="adj1" fmla="val -38847"/>
              <a:gd name="adj2" fmla="val -3409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али пробел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Овал 13"/>
          <p:cNvSpPr/>
          <p:nvPr/>
        </p:nvSpPr>
        <p:spPr>
          <a:xfrm>
            <a:off x="2017800" y="2843280"/>
            <a:ext cx="214200" cy="212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"/>
          <p:cNvSpPr/>
          <p:nvPr/>
        </p:nvSpPr>
        <p:spPr>
          <a:xfrm>
            <a:off x="3430440" y="82548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Создание объ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5"/>
          <p:cNvSpPr/>
          <p:nvPr/>
        </p:nvSpPr>
        <p:spPr>
          <a:xfrm>
            <a:off x="3621240" y="1374840"/>
            <a:ext cx="5116320" cy="1702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 y0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радиус сна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brushCol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black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et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irc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0, y0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AutoShape 18"/>
          <p:cNvSpPr/>
          <p:nvPr/>
        </p:nvSpPr>
        <p:spPr>
          <a:xfrm>
            <a:off x="4578480" y="3225960"/>
            <a:ext cx="2584440" cy="825480"/>
          </a:xfrm>
          <a:prstGeom prst="wedgeRoundRectCallout">
            <a:avLst>
              <a:gd name="adj1" fmla="val -56282"/>
              <a:gd name="adj2" fmla="val -8936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ли код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"/>
          <p:cNvSpPr/>
          <p:nvPr/>
        </p:nvSpPr>
        <p:spPr>
          <a:xfrm>
            <a:off x="509760" y="436896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Дви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814320" y="4879800"/>
            <a:ext cx="5116680" cy="898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AutoShape 18"/>
          <p:cNvSpPr/>
          <p:nvPr/>
        </p:nvSpPr>
        <p:spPr>
          <a:xfrm>
            <a:off x="2838600" y="5651640"/>
            <a:ext cx="192384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AutoShape 18"/>
          <p:cNvSpPr/>
          <p:nvPr/>
        </p:nvSpPr>
        <p:spPr>
          <a:xfrm flipH="1">
            <a:off x="5555520" y="5651640"/>
            <a:ext cx="1924200" cy="533160"/>
          </a:xfrm>
          <a:prstGeom prst="wedgeRoundRectCallout">
            <a:avLst>
              <a:gd name="adj1" fmla="val 49305"/>
              <a:gd name="adj2" fmla="val -12267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5" dur="indefinite" restart="never" nodeType="tmRoot">
          <p:childTnLst>
            <p:seq>
              <p:cTn id="3356" dur="indefinite" nodeType="mainSeq">
                <p:childTnLst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3.88889E-006 -0.24444 E">
                                      <p:cBhvr>
                                        <p:cTn id="3360" dur="20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6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8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9" dur="500"/>
                                        <p:tgtEl>
                                          <p:spTgt spid="1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2" dur="500"/>
                                        <p:tgtEl>
                                          <p:spTgt spid="1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5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8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1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2" fill="hold">
                      <p:stCondLst>
                        <p:cond delay="indefinite"/>
                      </p:stCondLst>
                      <p:childTnLst>
                        <p:par>
                          <p:cTn id="3413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9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тановка при выходе за границу ок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D555-9FCE-457E-9BA5-9EC486E8F5D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Прямоугольник 3"/>
          <p:cNvSpPr/>
          <p:nvPr/>
        </p:nvSpPr>
        <p:spPr>
          <a:xfrm>
            <a:off x="393840" y="819000"/>
            <a:ext cx="83055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у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на меньше 0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овить 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040" indent="-3427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  <a:tab algn="l" pos="96346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уть снаряд в исходн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5"/>
          <p:cNvSpPr/>
          <p:nvPr/>
        </p:nvSpPr>
        <p:spPr>
          <a:xfrm>
            <a:off x="700200" y="3914640"/>
            <a:ext cx="6995880" cy="2104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 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Группа 15"/>
          <p:cNvGrpSpPr/>
          <p:nvPr/>
        </p:nvGrpSpPr>
        <p:grpSpPr>
          <a:xfrm>
            <a:off x="187200" y="2832120"/>
            <a:ext cx="3876840" cy="1587600"/>
            <a:chOff x="187200" y="2832120"/>
            <a:chExt cx="3876840" cy="1587600"/>
          </a:xfrm>
        </p:grpSpPr>
        <p:sp>
          <p:nvSpPr>
            <p:cNvPr id="1662" name="Скругленный прямоугольник 5"/>
            <p:cNvSpPr/>
            <p:nvPr/>
          </p:nvSpPr>
          <p:spPr>
            <a:xfrm>
              <a:off x="1447920" y="3873960"/>
              <a:ext cx="26161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AutoShape 18"/>
            <p:cNvSpPr/>
            <p:nvPr/>
          </p:nvSpPr>
          <p:spPr>
            <a:xfrm>
              <a:off x="187200" y="2832120"/>
              <a:ext cx="3786480" cy="825480"/>
            </a:xfrm>
            <a:prstGeom prst="wedgeRoundRectCallout">
              <a:avLst>
                <a:gd name="adj1" fmla="val 2675"/>
                <a:gd name="adj2" fmla="val 82837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ординаты объекта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4" name="Прямоугольник 8"/>
          <p:cNvSpPr/>
          <p:nvPr/>
        </p:nvSpPr>
        <p:spPr>
          <a:xfrm>
            <a:off x="663840" y="567684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логическая пе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снаряд летит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 л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Группа 16"/>
          <p:cNvGrpSpPr/>
          <p:nvPr/>
        </p:nvGrpSpPr>
        <p:grpSpPr>
          <a:xfrm>
            <a:off x="4826160" y="3949560"/>
            <a:ext cx="3352680" cy="1676520"/>
            <a:chOff x="4826160" y="3949560"/>
            <a:chExt cx="3352680" cy="1676520"/>
          </a:xfrm>
        </p:grpSpPr>
        <p:sp>
          <p:nvSpPr>
            <p:cNvPr id="1666" name="Скругленный прямоугольник 9"/>
            <p:cNvSpPr/>
            <p:nvPr/>
          </p:nvSpPr>
          <p:spPr>
            <a:xfrm>
              <a:off x="4826160" y="5080320"/>
              <a:ext cx="2146320" cy="545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18"/>
            <p:cNvSpPr/>
            <p:nvPr/>
          </p:nvSpPr>
          <p:spPr>
            <a:xfrm>
              <a:off x="5594400" y="3949560"/>
              <a:ext cx="2584440" cy="825480"/>
            </a:xfrm>
            <a:prstGeom prst="wedgeRoundRectCallout">
              <a:avLst>
                <a:gd name="adj1" fmla="val -39578"/>
                <a:gd name="adj2" fmla="val 93601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левый верхний у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Овал 11"/>
          <p:cNvSpPr/>
          <p:nvPr/>
        </p:nvSpPr>
        <p:spPr>
          <a:xfrm>
            <a:off x="8048520" y="5772240"/>
            <a:ext cx="540000" cy="53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Группа 17"/>
          <p:cNvGrpSpPr/>
          <p:nvPr/>
        </p:nvGrpSpPr>
        <p:grpSpPr>
          <a:xfrm>
            <a:off x="7099200" y="4924440"/>
            <a:ext cx="1683000" cy="1387440"/>
            <a:chOff x="7099200" y="4924440"/>
            <a:chExt cx="1683000" cy="1387440"/>
          </a:xfrm>
        </p:grpSpPr>
        <p:sp>
          <p:nvSpPr>
            <p:cNvPr id="1670" name="Прямоугольник 12"/>
            <p:cNvSpPr/>
            <p:nvPr/>
          </p:nvSpPr>
          <p:spPr>
            <a:xfrm>
              <a:off x="8048880" y="5771880"/>
              <a:ext cx="540000" cy="540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AutoShape 18"/>
            <p:cNvSpPr/>
            <p:nvPr/>
          </p:nvSpPr>
          <p:spPr>
            <a:xfrm>
              <a:off x="7099200" y="4924440"/>
              <a:ext cx="1683000" cy="498240"/>
            </a:xfrm>
            <a:prstGeom prst="wedgeRoundRectCallout">
              <a:avLst>
                <a:gd name="adj1" fmla="val 6824"/>
                <a:gd name="adj2" fmla="val 122263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-r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Прямоугольник 12"/>
            <p:cNvSpPr/>
            <p:nvPr/>
          </p:nvSpPr>
          <p:spPr>
            <a:xfrm>
              <a:off x="8006040" y="5724360"/>
              <a:ext cx="10800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Группа 24"/>
          <p:cNvGrpSpPr/>
          <p:nvPr/>
        </p:nvGrpSpPr>
        <p:grpSpPr>
          <a:xfrm>
            <a:off x="4122720" y="2803680"/>
            <a:ext cx="3032280" cy="996840"/>
            <a:chOff x="4122720" y="2803680"/>
            <a:chExt cx="3032280" cy="996840"/>
          </a:xfrm>
        </p:grpSpPr>
        <p:sp>
          <p:nvSpPr>
            <p:cNvPr id="1674" name="Овал 17"/>
            <p:cNvSpPr/>
            <p:nvPr/>
          </p:nvSpPr>
          <p:spPr>
            <a:xfrm>
              <a:off x="5337000" y="3043080"/>
              <a:ext cx="539280" cy="540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5" name="Группа 17"/>
            <p:cNvGrpSpPr/>
            <p:nvPr/>
          </p:nvGrpSpPr>
          <p:grpSpPr>
            <a:xfrm>
              <a:off x="4122720" y="2803680"/>
              <a:ext cx="3032280" cy="996840"/>
              <a:chOff x="4122720" y="2803680"/>
              <a:chExt cx="3032280" cy="996840"/>
            </a:xfrm>
          </p:grpSpPr>
          <p:sp>
            <p:nvSpPr>
              <p:cNvPr id="1676" name="Прямоугольник 12"/>
              <p:cNvSpPr/>
              <p:nvPr/>
            </p:nvSpPr>
            <p:spPr>
              <a:xfrm>
                <a:off x="5337000" y="3043080"/>
                <a:ext cx="539640" cy="540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8"/>
              <p:cNvSpPr/>
              <p:nvPr/>
            </p:nvSpPr>
            <p:spPr>
              <a:xfrm>
                <a:off x="4122720" y="2803680"/>
                <a:ext cx="124668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18"/>
              <p:cNvSpPr/>
              <p:nvPr/>
            </p:nvSpPr>
            <p:spPr>
              <a:xfrm>
                <a:off x="5827680" y="3301920"/>
                <a:ext cx="132732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AutoShape 18"/>
              <p:cNvSpPr/>
              <p:nvPr/>
            </p:nvSpPr>
            <p:spPr>
              <a:xfrm>
                <a:off x="5281560" y="300024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AutoShape 18"/>
              <p:cNvSpPr/>
              <p:nvPr/>
            </p:nvSpPr>
            <p:spPr>
              <a:xfrm>
                <a:off x="5802120" y="3521160"/>
                <a:ext cx="107640" cy="108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1" name="Полилиния 25"/>
          <p:cNvSpPr/>
          <p:nvPr/>
        </p:nvSpPr>
        <p:spPr>
          <a:xfrm>
            <a:off x="4311720" y="3219480"/>
            <a:ext cx="584280" cy="819000"/>
          </a:xfrm>
          <a:custGeom>
            <a:avLst/>
            <a:gdLst>
              <a:gd name="textAreaLeft" fmla="*/ 0 w 584280"/>
              <a:gd name="textAreaRight" fmla="*/ 584640 w 58428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584200" h="819150">
                <a:moveTo>
                  <a:pt x="0" y="819150"/>
                </a:moveTo>
                <a:cubicBezTo>
                  <a:pt x="52916" y="681037"/>
                  <a:pt x="105833" y="542925"/>
                  <a:pt x="203200" y="406400"/>
                </a:cubicBezTo>
                <a:cubicBezTo>
                  <a:pt x="300567" y="269875"/>
                  <a:pt x="442383" y="134937"/>
                  <a:pt x="58420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0" dur="indefinite" restart="never" nodeType="tmRoot">
          <p:childTnLst>
            <p:seq>
              <p:cTn id="3421" dur="indefinite" nodeType="mainSeq">
                <p:childTnLst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1" dur="500"/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9" dur="500"/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7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8" dur="500"/>
                                        <p:tgtEl>
                                          <p:spTgt spid="1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3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организовать анимацию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0DA8-0A04-432C-90B9-66706235483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5"/>
          <p:cNvSpPr/>
          <p:nvPr/>
        </p:nvSpPr>
        <p:spPr>
          <a:xfrm>
            <a:off x="401760" y="1636560"/>
            <a:ext cx="8397720" cy="4919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,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лет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oords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)[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1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y &lt;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если улете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To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x0-r, y0-r)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летит дальш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moveObjectBy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bullet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0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sq-AL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-5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Tim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AutoShape 18"/>
          <p:cNvSpPr/>
          <p:nvPr/>
        </p:nvSpPr>
        <p:spPr>
          <a:xfrm>
            <a:off x="2981160" y="849240"/>
            <a:ext cx="290844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каждые 30 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Полилиния 6"/>
          <p:cNvSpPr/>
          <p:nvPr/>
        </p:nvSpPr>
        <p:spPr>
          <a:xfrm flipH="1" flipV="1">
            <a:off x="1708560" y="2018520"/>
            <a:ext cx="962280" cy="3753000"/>
          </a:xfrm>
          <a:custGeom>
            <a:avLst/>
            <a:gdLst>
              <a:gd name="textAreaLeft" fmla="*/ -360 w 962280"/>
              <a:gd name="textAreaRight" fmla="*/ 962280 w 962280"/>
              <a:gd name="textAreaTop" fmla="*/ -360 h 3753000"/>
              <a:gd name="textAreaBottom" fmla="*/ 3753000 h 3753000"/>
            </a:gdLst>
            <a:ahLst/>
            <a:rect l="textAreaLeft" t="textAreaTop" r="textAreaRight" b="textAreaBottom"/>
            <a:pathLst>
              <a:path w="961901" h="3752603">
                <a:moveTo>
                  <a:pt x="0" y="0"/>
                </a:moveTo>
                <a:cubicBezTo>
                  <a:pt x="305789" y="708561"/>
                  <a:pt x="611579" y="1417122"/>
                  <a:pt x="771896" y="2042556"/>
                </a:cubicBezTo>
                <a:cubicBezTo>
                  <a:pt x="932213" y="2667990"/>
                  <a:pt x="947057" y="3210296"/>
                  <a:pt x="961901" y="375260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0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2" fill="hold">
                      <p:stCondLst>
                        <p:cond delay="indefinite"/>
                      </p:stCondLst>
                      <p:childTnLst>
                        <p:par>
                          <p:cTn id="3523" fill="hold">
                            <p:stCondLst>
                              <p:cond delay="0"/>
                            </p:stCondLst>
                            <p:childTnLst>
                              <p:par>
                                <p:cTn id="3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1" dur="500"/>
                                        <p:tgtEl>
                                          <p:spTgt spid="1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4" dur="500"/>
                                        <p:tgtEl>
                                          <p:spTgt spid="1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9" dur="500"/>
                                        <p:tgtEl>
                                          <p:spTgt spid="1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fill="hold">
                      <p:stCondLst>
                        <p:cond delay="indefinite"/>
                      </p:stCondLst>
                      <p:childTnLst>
                        <p:par>
                          <p:cTn id="3541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0" dur="500"/>
                                        <p:tgtEl>
                                          <p:spTgt spid="1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5" dur="500"/>
                                        <p:tgtEl>
                                          <p:spTgt spid="1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запустить движе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57B-5AC9-4030-8661-8B00F3A386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401760" y="1636560"/>
            <a:ext cx="8397720" cy="3310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de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global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F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Flying =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ue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поле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q-AL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t.keycode == VK_ESCA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q-AL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close</a:t>
            </a: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онч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on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keyPress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AutoShape 18"/>
          <p:cNvSpPr/>
          <p:nvPr/>
        </p:nvSpPr>
        <p:spPr>
          <a:xfrm>
            <a:off x="2981160" y="849240"/>
            <a:ext cx="3483000" cy="827280"/>
          </a:xfrm>
          <a:prstGeom prst="wedgeRoundRectCallout">
            <a:avLst>
              <a:gd name="adj1" fmla="val -66115"/>
              <a:gd name="adj2" fmla="val 6197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при нажатии 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6" dur="indefinite" restart="never" nodeType="tmRoot">
          <p:childTnLst>
            <p:seq>
              <p:cTn id="3557" dur="indefinite" nodeType="mainSeq">
                <p:childTnLst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5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8" dur="500"/>
                                        <p:tgtEl>
                                          <p:spTgt spid="1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7" dur="500"/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5" dur="500"/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8" dur="500"/>
                                        <p:tgtEl>
                                          <p:spTgt spid="1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6" dur="500"/>
                                        <p:tgtEl>
                                          <p:spTgt spid="1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8-12-21T19:09:21Z</dcterms:modified>
  <cp:revision>2263</cp:revision>
  <dc:subject/>
  <dc:title>Программное обеспечение (ПО)</dc:title>
</cp:coreProperties>
</file>