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1AE-F885-41FF-8578-D14C3559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52A-FCD0-411F-BEFB-C071C5FF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CAC-4CB3-4C7F-B7A9-9E46190D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D5B-D00D-4FB8-8053-0384C5B3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58B0-0740-495A-AF80-F2666844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DC89-A1FB-46FD-878F-250E8D16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8657-C29B-49BB-A599-0BE2DC04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BB45-257D-44A3-B3B6-F8FF5CA7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4BF9-AACD-4847-8BDE-396F2F66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2CC8-C86F-405E-81AE-5621E6D8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10DB-ED34-42CC-9EC7-164A8054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721-A79C-44AD-8242-9FF00543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8929-1299-4778-BEE3-0046D88E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3CFA-9C3B-475E-9098-E15C1B7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2574-09A0-46BB-BD56-01595445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F7E6-89F8-474A-ACCC-AA24DBF7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CC29-51E8-4865-B748-B18DDEAF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57CB-DEAF-490E-B4A2-DA10F70A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94C78-4A98-499C-A5F6-692484B3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6CC47-9E83-4195-AAD4-92F7D49D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7BC1-7D21-430C-9415-CE3C4BFB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C2D0-8DCE-413B-A92D-492AFA48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886-4F50-44B5-9D9C-F87E19B3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B660-EEE5-4970-94C9-A42E65BA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B6F6-E98F-4793-BA60-ED4E1934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83CE-952C-425E-AFE0-48C01C5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AACF-D340-429A-AC3D-94772931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01AA-20F0-4D37-B185-9BCE2611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CA6E1-23FA-424D-9A4D-2B1F4114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7926-C311-4BC0-A1D4-12003B03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4D939-8B36-4989-BD35-98528974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C4C5-B521-4A47-A2B7-A5A96C2D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B18D-D7ED-43DF-8735-A3C027A6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955-B4BD-4301-9571-30BDC643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1A7D-EDF5-4B56-845D-5087AF04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981FF-3BD5-4948-BB37-91404F6C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7EF9-7CF1-4466-B825-BF8FDD17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999CC-A5CA-4B62-AC0E-ABF2BD67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4A350-4808-443E-9762-BE0E08A4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5E7A5-CE96-4627-A7AE-4429954D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325FF-B385-4DC6-AEBA-C3B0492D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B82F9-5620-47B1-BF47-E1331D3C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21FB2-E553-45D8-8AFE-4334E0D9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B3B-AF81-4581-B75E-A513DE0E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FF6-9FF6-4D6C-8D00-5893A618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C25-29E5-4F01-A884-DA2B8BE1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24D-542A-4B9C-9D02-69D8339E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76C-4D10-401E-83E4-B1574BDC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3B4-BD04-49E8-A76D-9509EE986837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E735-8D29-43F9-B279-FB9904676110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EA79-A4BE-425A-94E9-A71004411E8D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E1B1-35B9-4FC1-B6F0-2B51179EBDD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69360" y="4358880"/>
            <a:ext cx="8602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B983-791C-47E6-A231-1444A6F496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функ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CB1A-B409-4E25-BFEB-0CF409641C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вспомогательный алгоритм, который возвращает результат (число, строку символов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384120" y="175896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исать функцию, которая вычисляет среднее арифметическое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23"/>
          <p:cNvGrpSpPr/>
          <p:nvPr/>
        </p:nvGrpSpPr>
        <p:grpSpPr>
          <a:xfrm>
            <a:off x="1219320" y="2805120"/>
            <a:ext cx="5930640" cy="952560"/>
            <a:chOff x="1219320" y="2805120"/>
            <a:chExt cx="5930640" cy="952560"/>
          </a:xfrm>
        </p:grpSpPr>
        <p:sp>
          <p:nvSpPr>
            <p:cNvPr id="259" name="AutoShape 31"/>
            <p:cNvSpPr/>
            <p:nvPr/>
          </p:nvSpPr>
          <p:spPr>
            <a:xfrm>
              <a:off x="1219320" y="2805120"/>
              <a:ext cx="5930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0"/>
            <p:cNvSpPr/>
            <p:nvPr/>
          </p:nvSpPr>
          <p:spPr>
            <a:xfrm>
              <a:off x="3747240" y="2903040"/>
              <a:ext cx="174924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5495760" y="326880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1404000" y="326880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7"/>
            <p:cNvSpPr/>
            <p:nvPr/>
          </p:nvSpPr>
          <p:spPr>
            <a:xfrm>
              <a:off x="1867320" y="280512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6"/>
            <p:cNvSpPr/>
            <p:nvPr/>
          </p:nvSpPr>
          <p:spPr>
            <a:xfrm>
              <a:off x="6266880" y="280512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1219320" y="327528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4"/>
            <p:cNvSpPr/>
            <p:nvPr/>
          </p:nvSpPr>
          <p:spPr>
            <a:xfrm>
              <a:off x="5521320" y="327528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Прямоугольник 14"/>
          <p:cNvSpPr/>
          <p:nvPr/>
        </p:nvSpPr>
        <p:spPr>
          <a:xfrm>
            <a:off x="1885680" y="3592440"/>
            <a:ext cx="107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цел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5"/>
          <p:cNvSpPr/>
          <p:nvPr/>
        </p:nvSpPr>
        <p:spPr>
          <a:xfrm>
            <a:off x="1501920" y="28400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5"/>
          <p:cNvGrpSpPr/>
          <p:nvPr/>
        </p:nvGrpSpPr>
        <p:grpSpPr>
          <a:xfrm>
            <a:off x="5816520" y="3621240"/>
            <a:ext cx="3148200" cy="931680"/>
            <a:chOff x="5816520" y="3621240"/>
            <a:chExt cx="3148200" cy="931680"/>
          </a:xfrm>
        </p:grpSpPr>
        <p:sp>
          <p:nvSpPr>
            <p:cNvPr id="270" name="Text Box 56"/>
            <p:cNvSpPr/>
            <p:nvPr/>
          </p:nvSpPr>
          <p:spPr>
            <a:xfrm>
              <a:off x="6283440" y="372744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ип результат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7"/>
            <p:cNvSpPr/>
            <p:nvPr/>
          </p:nvSpPr>
          <p:spPr>
            <a:xfrm>
              <a:off x="5816520" y="3621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Прямоугольник 19"/>
          <p:cNvSpPr/>
          <p:nvPr/>
        </p:nvSpPr>
        <p:spPr>
          <a:xfrm>
            <a:off x="5655960" y="284004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ве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069920" y="4246560"/>
            <a:ext cx="3933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23"/>
          <p:cNvGrpSpPr/>
          <p:nvPr/>
        </p:nvGrpSpPr>
        <p:grpSpPr>
          <a:xfrm>
            <a:off x="1424160" y="2813040"/>
            <a:ext cx="2128680" cy="1622520"/>
            <a:chOff x="1424160" y="2813040"/>
            <a:chExt cx="2128680" cy="1622520"/>
          </a:xfrm>
        </p:grpSpPr>
        <p:sp>
          <p:nvSpPr>
            <p:cNvPr id="275" name="Скругленный прямоугольник 21"/>
            <p:cNvSpPr/>
            <p:nvPr/>
          </p:nvSpPr>
          <p:spPr>
            <a:xfrm>
              <a:off x="1424160" y="2813040"/>
              <a:ext cx="153972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олилиния 22"/>
            <p:cNvSpPr/>
            <p:nvPr/>
          </p:nvSpPr>
          <p:spPr>
            <a:xfrm>
              <a:off x="2952360" y="3195000"/>
              <a:ext cx="600480" cy="124056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240560"/>
                <a:gd name="textAreaBottom" fmla="*/ 1240560 h 1240560"/>
              </a:gdLst>
              <a:ahLst/>
              <a:rect l="textAreaLeft" t="textAreaTop" r="textAreaRight" b="textAreaBottom"/>
              <a:pathLst>
                <a:path w="339524" h="1532756">
                  <a:moveTo>
                    <a:pt x="0" y="0"/>
                  </a:moveTo>
                  <a:cubicBezTo>
                    <a:pt x="339524" y="339524"/>
                    <a:pt x="76930" y="1005264"/>
                    <a:pt x="13003" y="153275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30"/>
          <p:cNvGrpSpPr/>
          <p:nvPr/>
        </p:nvGrpSpPr>
        <p:grpSpPr>
          <a:xfrm>
            <a:off x="1076400" y="4984920"/>
            <a:ext cx="3178080" cy="920520"/>
            <a:chOff x="1076400" y="4984920"/>
            <a:chExt cx="3178080" cy="920520"/>
          </a:xfrm>
        </p:grpSpPr>
        <p:sp>
          <p:nvSpPr>
            <p:cNvPr id="278" name="Полилиния 29"/>
            <p:cNvSpPr/>
            <p:nvPr/>
          </p:nvSpPr>
          <p:spPr>
            <a:xfrm>
              <a:off x="1806480" y="4984920"/>
              <a:ext cx="326880" cy="404640"/>
            </a:xfrm>
            <a:custGeom>
              <a:avLst/>
              <a:gdLst/>
              <a:ahLst/>
              <a:rect l="l" t="t" r="r" b="b"/>
              <a:pathLst>
                <a:path w="327025" h="314325">
                  <a:moveTo>
                    <a:pt x="327025" y="304800"/>
                  </a:moveTo>
                  <a:lnTo>
                    <a:pt x="133350" y="0"/>
                  </a:lnTo>
                  <a:lnTo>
                    <a:pt x="0" y="314325"/>
                  </a:lnTo>
                  <a:lnTo>
                    <a:pt x="327025" y="30480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8"/>
            <p:cNvSpPr/>
            <p:nvPr/>
          </p:nvSpPr>
          <p:spPr>
            <a:xfrm flipH="1">
              <a:off x="1076400" y="5364360"/>
              <a:ext cx="3178080" cy="54108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ну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39"/>
          <p:cNvGrpSpPr/>
          <p:nvPr/>
        </p:nvGrpSpPr>
        <p:grpSpPr>
          <a:xfrm>
            <a:off x="2752560" y="4497480"/>
            <a:ext cx="3706560" cy="763560"/>
            <a:chOff x="2752560" y="4497480"/>
            <a:chExt cx="3706560" cy="763560"/>
          </a:xfrm>
        </p:grpSpPr>
        <p:sp>
          <p:nvSpPr>
            <p:cNvPr id="281" name="Скругленный прямоугольник 21"/>
            <p:cNvSpPr/>
            <p:nvPr/>
          </p:nvSpPr>
          <p:spPr>
            <a:xfrm>
              <a:off x="2752560" y="4628160"/>
              <a:ext cx="153900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 flipH="1">
              <a:off x="4602960" y="4497480"/>
              <a:ext cx="1855800" cy="763560"/>
            </a:xfrm>
            <a:prstGeom prst="wedgeRoundRectCallout">
              <a:avLst>
                <a:gd name="adj1" fmla="val 66555"/>
                <a:gd name="adj2" fmla="val -912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9893-8CE5-4E67-9195-CEF54DD255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езультата в переменну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12720" y="1270080"/>
            <a:ext cx="4789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12720" y="1881360"/>
            <a:ext cx="478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4668480" y="1276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55"/>
          <p:cNvGrpSpPr/>
          <p:nvPr/>
        </p:nvGrpSpPr>
        <p:grpSpPr>
          <a:xfrm>
            <a:off x="5568840" y="896760"/>
            <a:ext cx="2857680" cy="663480"/>
            <a:chOff x="5568840" y="896760"/>
            <a:chExt cx="2857680" cy="663480"/>
          </a:xfrm>
        </p:grpSpPr>
        <p:sp>
          <p:nvSpPr>
            <p:cNvPr id="290" name="Text Box 56"/>
            <p:cNvSpPr/>
            <p:nvPr/>
          </p:nvSpPr>
          <p:spPr>
            <a:xfrm>
              <a:off x="6035760" y="1002960"/>
              <a:ext cx="239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у ра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57"/>
            <p:cNvSpPr/>
            <p:nvPr/>
          </p:nvSpPr>
          <p:spPr>
            <a:xfrm>
              <a:off x="5568840" y="896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Прямоугольник 10"/>
          <p:cNvSpPr/>
          <p:nvPr/>
        </p:nvSpPr>
        <p:spPr>
          <a:xfrm>
            <a:off x="5486760" y="223992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6"/>
          <p:cNvSpPr/>
          <p:nvPr/>
        </p:nvSpPr>
        <p:spPr>
          <a:xfrm>
            <a:off x="384120" y="28098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а экра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12720" y="3246480"/>
            <a:ext cx="4789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3"/>
          <p:cNvSpPr/>
          <p:nvPr/>
        </p:nvSpPr>
        <p:spPr>
          <a:xfrm>
            <a:off x="5474160" y="3557520"/>
            <a:ext cx="3636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4"/>
          <p:cNvSpPr/>
          <p:nvPr/>
        </p:nvSpPr>
        <p:spPr>
          <a:xfrm>
            <a:off x="5476320" y="3940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5"/>
          <p:cNvSpPr/>
          <p:nvPr/>
        </p:nvSpPr>
        <p:spPr>
          <a:xfrm>
            <a:off x="5475600" y="435600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1E89-2631-4634-B15A-9718F37AE12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384120" y="8096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условных оператор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2720" y="1270080"/>
            <a:ext cx="47894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Да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5"/>
          <p:cNvGrpSpPr/>
          <p:nvPr/>
        </p:nvGrpSpPr>
        <p:grpSpPr>
          <a:xfrm>
            <a:off x="3970440" y="2543040"/>
            <a:ext cx="4142880" cy="663480"/>
            <a:chOff x="3970440" y="2543040"/>
            <a:chExt cx="4142880" cy="663480"/>
          </a:xfrm>
        </p:grpSpPr>
        <p:sp>
          <p:nvSpPr>
            <p:cNvPr id="303" name="Text Box 56"/>
            <p:cNvSpPr/>
            <p:nvPr/>
          </p:nvSpPr>
          <p:spPr>
            <a:xfrm>
              <a:off x="4437000" y="2649240"/>
              <a:ext cx="367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печатает «Да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7"/>
            <p:cNvSpPr/>
            <p:nvPr/>
          </p:nvSpPr>
          <p:spPr>
            <a:xfrm>
              <a:off x="3970440" y="25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E91D-8F22-4A69-96DC-FC379D91090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цикл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612720" y="1270080"/>
            <a:ext cx="679788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, 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Угадал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2390760" y="3967200"/>
            <a:ext cx="5078520" cy="663480"/>
            <a:chOff x="2390760" y="3967200"/>
            <a:chExt cx="5078520" cy="663480"/>
          </a:xfrm>
        </p:grpSpPr>
        <p:sp>
          <p:nvSpPr>
            <p:cNvPr id="310" name="Text Box 56"/>
            <p:cNvSpPr/>
            <p:nvPr/>
          </p:nvSpPr>
          <p:spPr>
            <a:xfrm>
              <a:off x="2857680" y="4073400"/>
              <a:ext cx="4611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напеча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Угадал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2390760" y="3967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AutoShape 8"/>
          <p:cNvSpPr/>
          <p:nvPr/>
        </p:nvSpPr>
        <p:spPr>
          <a:xfrm flipH="1">
            <a:off x="4603680" y="2014560"/>
            <a:ext cx="3090960" cy="763560"/>
          </a:xfrm>
          <a:prstGeom prst="wedgeRoundRectCallout">
            <a:avLst>
              <a:gd name="adj1" fmla="val 44277"/>
              <a:gd name="adj2" fmla="val 79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двух чисел в одной ст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78CD-495F-4E79-891E-88142E292E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397440" y="8287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7"/>
          <p:cNvSpPr/>
          <p:nvPr/>
        </p:nvSpPr>
        <p:spPr>
          <a:xfrm>
            <a:off x="500400" y="321156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39560" y="3656160"/>
            <a:ext cx="4478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30200" y="1322280"/>
            <a:ext cx="70167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:=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0"/>
          <p:cNvSpPr/>
          <p:nvPr/>
        </p:nvSpPr>
        <p:spPr>
          <a:xfrm>
            <a:off x="702720" y="20700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30"/>
          <p:cNvGrpSpPr/>
          <p:nvPr/>
        </p:nvGrpSpPr>
        <p:grpSpPr>
          <a:xfrm>
            <a:off x="1554120" y="2417760"/>
            <a:ext cx="5127480" cy="1055520"/>
            <a:chOff x="1554120" y="2417760"/>
            <a:chExt cx="5127480" cy="1055520"/>
          </a:xfrm>
        </p:grpSpPr>
        <p:sp>
          <p:nvSpPr>
            <p:cNvPr id="321" name="Полилиния 12"/>
            <p:cNvSpPr/>
            <p:nvPr/>
          </p:nvSpPr>
          <p:spPr>
            <a:xfrm>
              <a:off x="1554120" y="2417760"/>
              <a:ext cx="384120" cy="504720"/>
            </a:xfrm>
            <a:custGeom>
              <a:avLst/>
              <a:gdLst/>
              <a:ahLst/>
              <a:rect l="l" t="t" r="r" b="b"/>
              <a:pathLst>
                <a:path w="384175" h="504825">
                  <a:moveTo>
                    <a:pt x="384175" y="273050"/>
                  </a:moveTo>
                  <a:lnTo>
                    <a:pt x="0" y="0"/>
                  </a:lnTo>
                  <a:lnTo>
                    <a:pt x="254000" y="504825"/>
                  </a:lnTo>
                  <a:lnTo>
                    <a:pt x="384175" y="2730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"/>
            <p:cNvSpPr/>
            <p:nvPr/>
          </p:nvSpPr>
          <p:spPr>
            <a:xfrm flipH="1">
              <a:off x="1807200" y="2693880"/>
              <a:ext cx="4874040" cy="77940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пециальная переменная для записи результат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33"/>
          <p:cNvGrpSpPr/>
          <p:nvPr/>
        </p:nvGrpSpPr>
        <p:grpSpPr>
          <a:xfrm>
            <a:off x="1279440" y="1353960"/>
            <a:ext cx="1486080" cy="860760"/>
            <a:chOff x="1279440" y="1353960"/>
            <a:chExt cx="1486080" cy="860760"/>
          </a:xfrm>
        </p:grpSpPr>
        <p:sp>
          <p:nvSpPr>
            <p:cNvPr id="324" name="Полилиния 31"/>
            <p:cNvSpPr/>
            <p:nvPr/>
          </p:nvSpPr>
          <p:spPr>
            <a:xfrm>
              <a:off x="1279440" y="1757160"/>
              <a:ext cx="824400" cy="45756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47594702" h="2139078">
                  <a:moveTo>
                    <a:pt x="47594702" y="0"/>
                  </a:moveTo>
                  <a:cubicBezTo>
                    <a:pt x="46113957" y="331915"/>
                    <a:pt x="16" y="1910174"/>
                    <a:pt x="555969" y="213907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Скругленный прямоугольник 32"/>
            <p:cNvSpPr/>
            <p:nvPr/>
          </p:nvSpPr>
          <p:spPr>
            <a:xfrm>
              <a:off x="2088360" y="1353960"/>
              <a:ext cx="67716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из двух (трёх)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A813-C367-4C1B-A682-24D19AC604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определяет наибольшее из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600120" y="2624040"/>
            <a:ext cx="36273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&gt; b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3"/>
          <p:cNvGrpSpPr/>
          <p:nvPr/>
        </p:nvGrpSpPr>
        <p:grpSpPr>
          <a:xfrm>
            <a:off x="617400" y="1623960"/>
            <a:ext cx="5931000" cy="952560"/>
            <a:chOff x="617400" y="1623960"/>
            <a:chExt cx="5931000" cy="952560"/>
          </a:xfrm>
        </p:grpSpPr>
        <p:sp>
          <p:nvSpPr>
            <p:cNvPr id="331" name="AutoShape 31"/>
            <p:cNvSpPr/>
            <p:nvPr/>
          </p:nvSpPr>
          <p:spPr>
            <a:xfrm>
              <a:off x="617400" y="162396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0"/>
            <p:cNvSpPr/>
            <p:nvPr/>
          </p:nvSpPr>
          <p:spPr>
            <a:xfrm>
              <a:off x="3145680" y="172188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9"/>
            <p:cNvSpPr/>
            <p:nvPr/>
          </p:nvSpPr>
          <p:spPr>
            <a:xfrm>
              <a:off x="4894200" y="208764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8"/>
            <p:cNvSpPr/>
            <p:nvPr/>
          </p:nvSpPr>
          <p:spPr>
            <a:xfrm>
              <a:off x="802080" y="208764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7"/>
            <p:cNvSpPr/>
            <p:nvPr/>
          </p:nvSpPr>
          <p:spPr>
            <a:xfrm>
              <a:off x="1265400" y="162396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6"/>
            <p:cNvSpPr/>
            <p:nvPr/>
          </p:nvSpPr>
          <p:spPr>
            <a:xfrm>
              <a:off x="5664960" y="162396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5"/>
            <p:cNvSpPr/>
            <p:nvPr/>
          </p:nvSpPr>
          <p:spPr>
            <a:xfrm>
              <a:off x="617400" y="209412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4"/>
            <p:cNvSpPr/>
            <p:nvPr/>
          </p:nvSpPr>
          <p:spPr>
            <a:xfrm>
              <a:off x="4919760" y="209412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Прямоугольник 20"/>
          <p:cNvSpPr/>
          <p:nvPr/>
        </p:nvSpPr>
        <p:spPr>
          <a:xfrm>
            <a:off x="90036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21"/>
          <p:cNvSpPr/>
          <p:nvPr/>
        </p:nvSpPr>
        <p:spPr>
          <a:xfrm>
            <a:off x="505548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5"/>
          <p:cNvGrpSpPr/>
          <p:nvPr/>
        </p:nvGrpSpPr>
        <p:grpSpPr>
          <a:xfrm>
            <a:off x="4395960" y="2610000"/>
            <a:ext cx="4396680" cy="931680"/>
            <a:chOff x="4395960" y="2610000"/>
            <a:chExt cx="4396680" cy="931680"/>
          </a:xfrm>
        </p:grpSpPr>
        <p:sp>
          <p:nvSpPr>
            <p:cNvPr id="342" name="Text Box 56"/>
            <p:cNvSpPr/>
            <p:nvPr/>
          </p:nvSpPr>
          <p:spPr>
            <a:xfrm>
              <a:off x="4862520" y="2716200"/>
              <a:ext cx="3930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 её помощью най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аксимум из трё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57"/>
            <p:cNvSpPr/>
            <p:nvPr/>
          </p:nvSpPr>
          <p:spPr>
            <a:xfrm>
              <a:off x="4395960" y="2610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Rectangle 5"/>
          <p:cNvSpPr/>
          <p:nvPr/>
        </p:nvSpPr>
        <p:spPr>
          <a:xfrm>
            <a:off x="2705040" y="4484520"/>
            <a:ext cx="5405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 b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b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олилиния 26"/>
          <p:cNvSpPr/>
          <p:nvPr/>
        </p:nvSpPr>
        <p:spPr>
          <a:xfrm>
            <a:off x="1746360" y="2968560"/>
            <a:ext cx="2754360" cy="198288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5388" h="3537654">
                <a:moveTo>
                  <a:pt x="3786572" y="3537654"/>
                </a:moveTo>
                <a:cubicBezTo>
                  <a:pt x="3795388" y="2584884"/>
                  <a:pt x="975029" y="676629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27"/>
          <p:cNvSpPr/>
          <p:nvPr/>
        </p:nvSpPr>
        <p:spPr>
          <a:xfrm>
            <a:off x="1924200" y="2992320"/>
            <a:ext cx="3597120" cy="195912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1959120"/>
              <a:gd name="textAreaBottom" fmla="*/ 1959480 h 1959120"/>
            </a:gdLst>
            <a:ahLst/>
            <a:rect l="textAreaLeft" t="textAreaTop" r="textAreaRight" b="textAreaBottom"/>
            <a:pathLst>
              <a:path w="4622150" h="3473039">
                <a:moveTo>
                  <a:pt x="4613334" y="3473039"/>
                </a:moveTo>
                <a:cubicBezTo>
                  <a:pt x="4622150" y="2520269"/>
                  <a:pt x="1041171" y="466631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0A99-0017-4427-B8BD-BBCD877A71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ычисляет сумму значений цифр натурального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8200" y="1744560"/>
            <a:ext cx="845496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umDigi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накапливаем сумму с 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выделим последнюю цифру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d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обавим к сумме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далим последнюю цифру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03160" y="4863960"/>
            <a:ext cx="47894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umDigit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"/>
          <p:cNvSpPr/>
          <p:nvPr/>
        </p:nvSpPr>
        <p:spPr>
          <a:xfrm>
            <a:off x="546120" y="44244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09F2-0724-4FCC-9D0D-C1B5AD03B76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369720" y="809640"/>
            <a:ext cx="84204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вычисляет среднее арифметическое пяти целых чис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5 чисел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: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цифр в десятичной записи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A082-2E6C-4A25-B8E0-07061AF405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нулей в двоичной записи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нулей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712B-6C87-4D87-B4C6-A18AA958D8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ая 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функция, возвращающая логическое значения (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534960" y="1690560"/>
            <a:ext cx="74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применять опера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ли выполнена опер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ли данные каким-то свой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под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9909-DB24-42EE-B5C3-6264AA6E49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409760" y="1798560"/>
            <a:ext cx="2232000" cy="474840"/>
          </a:xfrm>
          <a:prstGeom prst="rect">
            <a:avLst/>
          </a:prstGeom>
          <a:solidFill>
            <a:srgbClr val="c4f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946760" y="1798560"/>
            <a:ext cx="2232000" cy="474840"/>
          </a:xfrm>
          <a:prstGeom prst="rect">
            <a:avLst/>
          </a:prstGeom>
          <a:solidFill>
            <a:srgbClr val="a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8"/>
          <p:cNvGrpSpPr/>
          <p:nvPr/>
        </p:nvGrpSpPr>
        <p:grpSpPr>
          <a:xfrm>
            <a:off x="3642480" y="1409400"/>
            <a:ext cx="1310040" cy="406800"/>
            <a:chOff x="3642480" y="1409400"/>
            <a:chExt cx="1310040" cy="406800"/>
          </a:xfrm>
        </p:grpSpPr>
        <p:cxnSp>
          <p:nvCxnSpPr>
            <p:cNvPr id="177" name="AutoShape 4"/>
            <p:cNvCxnSpPr/>
            <p:nvPr/>
          </p:nvCxnSpPr>
          <p:spPr>
            <a:xfrm flipH="1">
              <a:off x="3642480" y="1409400"/>
              <a:ext cx="60300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78" name="AutoShape 3"/>
            <p:cNvCxnSpPr/>
            <p:nvPr/>
          </p:nvCxnSpPr>
          <p:spPr>
            <a:xfrm>
              <a:off x="4245120" y="1409400"/>
              <a:ext cx="70776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79" name="Text Box 10"/>
          <p:cNvSpPr/>
          <p:nvPr/>
        </p:nvSpPr>
        <p:spPr>
          <a:xfrm>
            <a:off x="3029040" y="934920"/>
            <a:ext cx="2419200" cy="474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1120320" y="2336760"/>
            <a:ext cx="316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ют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4879440" y="2336760"/>
            <a:ext cx="388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ют некото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5"/>
          <p:cNvGrpSpPr/>
          <p:nvPr/>
        </p:nvGrpSpPr>
        <p:grpSpPr>
          <a:xfrm>
            <a:off x="324000" y="2849400"/>
            <a:ext cx="4781520" cy="663480"/>
            <a:chOff x="324000" y="2849400"/>
            <a:chExt cx="4781520" cy="663480"/>
          </a:xfrm>
        </p:grpSpPr>
        <p:sp>
          <p:nvSpPr>
            <p:cNvPr id="183" name="Text Box 56"/>
            <p:cNvSpPr/>
            <p:nvPr/>
          </p:nvSpPr>
          <p:spPr>
            <a:xfrm>
              <a:off x="790920" y="2955600"/>
              <a:ext cx="431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а или функ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7"/>
            <p:cNvSpPr/>
            <p:nvPr/>
          </p:nvSpPr>
          <p:spPr>
            <a:xfrm>
              <a:off x="324000" y="2849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Прямоугольник 14"/>
          <p:cNvSpPr/>
          <p:nvPr/>
        </p:nvSpPr>
        <p:spPr>
          <a:xfrm>
            <a:off x="914400" y="3403440"/>
            <a:ext cx="806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исует окружность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яет площадь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числяет значение синуса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зменяет режим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возводит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включает двигатель автомоб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проверяет оставшееся количество бензина в б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измеряет высоту полёта самол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4BC7-A7D7-4D54-9457-652EC22410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527040" y="2030400"/>
            <a:ext cx="3986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384120" y="8222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озвращает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она получила чётное число и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нечё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2"/>
          <p:cNvSpPr/>
          <p:nvPr/>
        </p:nvSpPr>
        <p:spPr>
          <a:xfrm>
            <a:off x="3905280" y="2593800"/>
            <a:ext cx="48117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Умножение 13"/>
          <p:cNvSpPr/>
          <p:nvPr/>
        </p:nvSpPr>
        <p:spPr>
          <a:xfrm>
            <a:off x="1333440" y="2371680"/>
            <a:ext cx="1643040" cy="1643040"/>
          </a:xfrm>
          <a:custGeom>
            <a:avLst/>
            <a:gdLst/>
            <a:ahLst/>
            <a:rect l="l" t="t" r="r" b="b"/>
            <a:pathLst>
              <a:path w="1643063" h="1643063">
                <a:moveTo>
                  <a:pt x="342428" y="446817"/>
                </a:moveTo>
                <a:lnTo>
                  <a:pt x="446817" y="342428"/>
                </a:lnTo>
                <a:lnTo>
                  <a:pt x="821532" y="717142"/>
                </a:lnTo>
                <a:lnTo>
                  <a:pt x="1196246" y="342428"/>
                </a:lnTo>
                <a:lnTo>
                  <a:pt x="1300635" y="446817"/>
                </a:lnTo>
                <a:lnTo>
                  <a:pt x="925921" y="821532"/>
                </a:lnTo>
                <a:lnTo>
                  <a:pt x="1300635" y="1196246"/>
                </a:lnTo>
                <a:lnTo>
                  <a:pt x="1196246" y="1300635"/>
                </a:lnTo>
                <a:lnTo>
                  <a:pt x="821532" y="925921"/>
                </a:lnTo>
                <a:lnTo>
                  <a:pt x="446817" y="1300635"/>
                </a:lnTo>
                <a:lnTo>
                  <a:pt x="342428" y="1196246"/>
                </a:lnTo>
                <a:lnTo>
                  <a:pt x="717142" y="821532"/>
                </a:lnTo>
                <a:lnTo>
                  <a:pt x="342428" y="4468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4F61-FFA0-4F28-935A-3326635945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функция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384120" y="1736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рекурсивную функцию, которая вычисляет сумму цифр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55"/>
          <p:cNvGrpSpPr/>
          <p:nvPr/>
        </p:nvGrpSpPr>
        <p:grpSpPr>
          <a:xfrm>
            <a:off x="452520" y="2575080"/>
            <a:ext cx="7857720" cy="663480"/>
            <a:chOff x="452520" y="2575080"/>
            <a:chExt cx="7857720" cy="663480"/>
          </a:xfrm>
        </p:grpSpPr>
        <p:sp>
          <p:nvSpPr>
            <p:cNvPr id="374" name="Text Box 56"/>
            <p:cNvSpPr/>
            <p:nvPr/>
          </p:nvSpPr>
          <p:spPr>
            <a:xfrm>
              <a:off x="919080" y="2681280"/>
              <a:ext cx="739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формулировать решение рекурси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57"/>
            <p:cNvSpPr/>
            <p:nvPr/>
          </p:nvSpPr>
          <p:spPr>
            <a:xfrm>
              <a:off x="452520" y="257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Прямоугольник 6"/>
          <p:cNvSpPr/>
          <p:nvPr/>
        </p:nvSpPr>
        <p:spPr>
          <a:xfrm>
            <a:off x="984240" y="31370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у цифр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разить через сумму цифр другого (меньшего)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9"/>
          <p:cNvSpPr/>
          <p:nvPr/>
        </p:nvSpPr>
        <p:spPr>
          <a:xfrm>
            <a:off x="411120" y="4044960"/>
            <a:ext cx="8398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числа N равна знач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 плюс сумма цифр числа, полученного отбрасыва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/>
          <p:cNvSpPr/>
          <p:nvPr/>
        </p:nvSpPr>
        <p:spPr>
          <a:xfrm>
            <a:off x="768240" y="5432400"/>
            <a:ext cx="70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 =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олилиния 11"/>
          <p:cNvSpPr/>
          <p:nvPr/>
        </p:nvSpPr>
        <p:spPr>
          <a:xfrm>
            <a:off x="3274920" y="5160960"/>
            <a:ext cx="1030320" cy="40644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71640" h="567204">
                <a:moveTo>
                  <a:pt x="0" y="454128"/>
                </a:moveTo>
                <a:cubicBezTo>
                  <a:pt x="141098" y="212119"/>
                  <a:pt x="925426" y="0"/>
                  <a:pt x="1471640" y="56720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олилиния 12"/>
          <p:cNvSpPr/>
          <p:nvPr/>
        </p:nvSpPr>
        <p:spPr>
          <a:xfrm flipV="1">
            <a:off x="2754360" y="5796720"/>
            <a:ext cx="4145040" cy="892440"/>
          </a:xfrm>
          <a:custGeom>
            <a:avLst/>
            <a:gdLst>
              <a:gd name="textAreaLeft" fmla="*/ 0 w 4145040"/>
              <a:gd name="textAreaRight" fmla="*/ 4145400 w 4145040"/>
              <a:gd name="textAreaTop" fmla="*/ -360 h 892440"/>
              <a:gd name="textAreaBottom" fmla="*/ 892440 h 892440"/>
            </a:gdLst>
            <a:ahLst/>
            <a:rect l="textAreaLeft" t="textAreaTop" r="textAreaRight" b="textAreaBottom"/>
            <a:pathLst>
              <a:path w="1471640" h="1245657">
                <a:moveTo>
                  <a:pt x="0" y="1132581"/>
                </a:moveTo>
                <a:cubicBezTo>
                  <a:pt x="141098" y="890572"/>
                  <a:pt x="1052859" y="0"/>
                  <a:pt x="1471640" y="1245657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функ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48B7-830F-44A7-9F64-B84EAAA403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642960" y="1244520"/>
            <a:ext cx="53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туральное число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ма цифр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s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369720" y="82404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цифр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8"/>
          <p:cNvSpPr/>
          <p:nvPr/>
        </p:nvSpPr>
        <p:spPr>
          <a:xfrm flipH="1">
            <a:off x="5381640" y="1212840"/>
            <a:ext cx="2790720" cy="477720"/>
          </a:xfrm>
          <a:prstGeom prst="wedgeRoundRectCallout">
            <a:avLst>
              <a:gd name="adj1" fmla="val 93782"/>
              <a:gd name="adj2" fmla="val 771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8"/>
          <p:cNvSpPr/>
          <p:nvPr/>
        </p:nvSpPr>
        <p:spPr>
          <a:xfrm flipH="1">
            <a:off x="5554800" y="1790640"/>
            <a:ext cx="2790720" cy="895320"/>
          </a:xfrm>
          <a:prstGeom prst="wedgeRoundRectCallout">
            <a:avLst>
              <a:gd name="adj1" fmla="val 101662"/>
              <a:gd name="adj2" fmla="val -18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ез последней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5"/>
          <p:cNvGrpSpPr/>
          <p:nvPr/>
        </p:nvGrpSpPr>
        <p:grpSpPr>
          <a:xfrm>
            <a:off x="452520" y="3513240"/>
            <a:ext cx="2972880" cy="663480"/>
            <a:chOff x="452520" y="3513240"/>
            <a:chExt cx="2972880" cy="663480"/>
          </a:xfrm>
        </p:grpSpPr>
        <p:sp>
          <p:nvSpPr>
            <p:cNvPr id="388" name="Text Box 56"/>
            <p:cNvSpPr/>
            <p:nvPr/>
          </p:nvSpPr>
          <p:spPr>
            <a:xfrm>
              <a:off x="919080" y="3619440"/>
              <a:ext cx="250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бы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57"/>
            <p:cNvSpPr/>
            <p:nvPr/>
          </p:nvSpPr>
          <p:spPr>
            <a:xfrm>
              <a:off x="452520" y="351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55"/>
          <p:cNvGrpSpPr/>
          <p:nvPr/>
        </p:nvGrpSpPr>
        <p:grpSpPr>
          <a:xfrm>
            <a:off x="3913200" y="3513240"/>
            <a:ext cx="3691080" cy="663480"/>
            <a:chOff x="3913200" y="3513240"/>
            <a:chExt cx="3691080" cy="663480"/>
          </a:xfrm>
        </p:grpSpPr>
        <p:sp>
          <p:nvSpPr>
            <p:cNvPr id="391" name="Text Box 56"/>
            <p:cNvSpPr/>
            <p:nvPr/>
          </p:nvSpPr>
          <p:spPr>
            <a:xfrm>
              <a:off x="4380120" y="3619440"/>
              <a:ext cx="322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остано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7"/>
            <p:cNvSpPr/>
            <p:nvPr/>
          </p:nvSpPr>
          <p:spPr>
            <a:xfrm>
              <a:off x="3913200" y="3513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 (реку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FCFB-CF3D-4EAE-A2A8-7B229EA1C6A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457200" y="919080"/>
            <a:ext cx="8048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5"/>
          <p:cNvGrpSpPr/>
          <p:nvPr/>
        </p:nvGrpSpPr>
        <p:grpSpPr>
          <a:xfrm>
            <a:off x="498600" y="3349800"/>
            <a:ext cx="4779360" cy="663480"/>
            <a:chOff x="498600" y="3349800"/>
            <a:chExt cx="4779360" cy="663480"/>
          </a:xfrm>
        </p:grpSpPr>
        <p:sp>
          <p:nvSpPr>
            <p:cNvPr id="397" name="Text Box 56"/>
            <p:cNvSpPr/>
            <p:nvPr/>
          </p:nvSpPr>
          <p:spPr>
            <a:xfrm>
              <a:off x="965160" y="3456000"/>
              <a:ext cx="431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рекурсивный выз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57"/>
            <p:cNvSpPr/>
            <p:nvPr/>
          </p:nvSpPr>
          <p:spPr>
            <a:xfrm>
              <a:off x="49860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Прямоугольник 7"/>
          <p:cNvSpPr/>
          <p:nvPr/>
        </p:nvSpPr>
        <p:spPr>
          <a:xfrm>
            <a:off x="820800" y="1281240"/>
            <a:ext cx="419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55"/>
          <p:cNvGrpSpPr/>
          <p:nvPr/>
        </p:nvGrpSpPr>
        <p:grpSpPr>
          <a:xfrm>
            <a:off x="5205240" y="1195560"/>
            <a:ext cx="2579760" cy="663480"/>
            <a:chOff x="5205240" y="1195560"/>
            <a:chExt cx="2579760" cy="663480"/>
          </a:xfrm>
        </p:grpSpPr>
        <p:sp>
          <p:nvSpPr>
            <p:cNvPr id="401" name="Text Box 56"/>
            <p:cNvSpPr/>
            <p:nvPr/>
          </p:nvSpPr>
          <p:spPr>
            <a:xfrm>
              <a:off x="5672160" y="1301760"/>
              <a:ext cx="2112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57"/>
            <p:cNvSpPr/>
            <p:nvPr/>
          </p:nvSpPr>
          <p:spPr>
            <a:xfrm>
              <a:off x="5205240" y="119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FB7F-9AB4-4AF7-BFB3-6EED095FD1D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431640" y="2502000"/>
            <a:ext cx="52898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5"/>
          <p:cNvGrpSpPr/>
          <p:nvPr/>
        </p:nvGrpSpPr>
        <p:grpSpPr>
          <a:xfrm>
            <a:off x="5823000" y="1820880"/>
            <a:ext cx="2800440" cy="663480"/>
            <a:chOff x="5823000" y="1820880"/>
            <a:chExt cx="2800440" cy="663480"/>
          </a:xfrm>
        </p:grpSpPr>
        <p:sp>
          <p:nvSpPr>
            <p:cNvPr id="190" name="Text Box 56"/>
            <p:cNvSpPr/>
            <p:nvPr/>
          </p:nvSpPr>
          <p:spPr>
            <a:xfrm>
              <a:off x="6289920" y="1927080"/>
              <a:ext cx="2333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57"/>
            <p:cNvSpPr/>
            <p:nvPr/>
          </p:nvSpPr>
          <p:spPr>
            <a:xfrm>
              <a:off x="5823000" y="1820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 flipH="1">
            <a:off x="1389240" y="3567600"/>
            <a:ext cx="2342880" cy="732600"/>
          </a:xfrm>
          <a:prstGeom prst="wedgeRoundRectCallout">
            <a:avLst>
              <a:gd name="adj1" fmla="val 66699"/>
              <a:gd name="adj2" fmla="val -60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опе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431640" y="1641600"/>
            <a:ext cx="5308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 flipH="1">
            <a:off x="3179880" y="2622960"/>
            <a:ext cx="2342880" cy="732600"/>
          </a:xfrm>
          <a:prstGeom prst="wedgeRoundRectCallout">
            <a:avLst>
              <a:gd name="adj1" fmla="val 83856"/>
              <a:gd name="adj2" fmla="val 19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495360" y="4548240"/>
            <a:ext cx="396720" cy="396720"/>
            <a:chOff x="495360" y="4548240"/>
            <a:chExt cx="396720" cy="396720"/>
          </a:xfrm>
        </p:grpSpPr>
        <p:sp>
          <p:nvSpPr>
            <p:cNvPr id="196" name="Oval 6"/>
            <p:cNvSpPr/>
            <p:nvPr/>
          </p:nvSpPr>
          <p:spPr>
            <a:xfrm>
              <a:off x="495360" y="45482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7"/>
            <p:cNvGrpSpPr/>
            <p:nvPr/>
          </p:nvGrpSpPr>
          <p:grpSpPr>
            <a:xfrm>
              <a:off x="549000" y="4595760"/>
              <a:ext cx="298440" cy="298440"/>
              <a:chOff x="549000" y="4595760"/>
              <a:chExt cx="298440" cy="298440"/>
            </a:xfrm>
          </p:grpSpPr>
          <p:sp>
            <p:nvSpPr>
              <p:cNvPr id="198" name="Rectangle 8"/>
              <p:cNvSpPr/>
              <p:nvPr/>
            </p:nvSpPr>
            <p:spPr>
              <a:xfrm>
                <a:off x="549000" y="4696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9"/>
              <p:cNvSpPr/>
              <p:nvPr/>
            </p:nvSpPr>
            <p:spPr>
              <a:xfrm rot="16200000">
                <a:off x="550080" y="4696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10"/>
            <p:cNvSpPr/>
            <p:nvPr/>
          </p:nvSpPr>
          <p:spPr>
            <a:xfrm>
              <a:off x="548640" y="45954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14"/>
          <p:cNvSpPr/>
          <p:nvPr/>
        </p:nvSpPr>
        <p:spPr>
          <a:xfrm>
            <a:off x="998640" y="4511520"/>
            <a:ext cx="7173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зывать сколько угодн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ть – в одном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 flipH="1">
            <a:off x="1047600" y="915840"/>
            <a:ext cx="3308400" cy="519120"/>
          </a:xfrm>
          <a:prstGeom prst="wedgeRoundRectCallout">
            <a:avLst>
              <a:gd name="adj1" fmla="val 57245"/>
              <a:gd name="adj2" fmla="val 104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лилиния 29"/>
          <p:cNvSpPr/>
          <p:nvPr/>
        </p:nvSpPr>
        <p:spPr>
          <a:xfrm>
            <a:off x="336600" y="2030400"/>
            <a:ext cx="468360" cy="446040"/>
          </a:xfrm>
          <a:custGeom>
            <a:avLst/>
            <a:gdLst>
              <a:gd name="textAreaLeft" fmla="*/ 0 w 468360"/>
              <a:gd name="textAreaRight" fmla="*/ 468720 w 4683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13657" h="544285">
                <a:moveTo>
                  <a:pt x="0" y="0"/>
                </a:moveTo>
                <a:lnTo>
                  <a:pt x="402772" y="0"/>
                </a:lnTo>
                <a:lnTo>
                  <a:pt x="413657" y="544285"/>
                </a:lnTo>
                <a:lnTo>
                  <a:pt x="0" y="544285"/>
                </a:ln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ии разной дли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C9DA-73FA-4918-8783-CF05D559CE9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"/>
          <p:cNvSpPr/>
          <p:nvPr/>
        </p:nvSpPr>
        <p:spPr>
          <a:xfrm>
            <a:off x="431640" y="92088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431640" y="183672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5"/>
          <p:cNvGrpSpPr/>
          <p:nvPr/>
        </p:nvGrpSpPr>
        <p:grpSpPr>
          <a:xfrm>
            <a:off x="5683320" y="1108080"/>
            <a:ext cx="3158640" cy="663480"/>
            <a:chOff x="5683320" y="1108080"/>
            <a:chExt cx="3158640" cy="663480"/>
          </a:xfrm>
        </p:grpSpPr>
        <p:sp>
          <p:nvSpPr>
            <p:cNvPr id="209" name="Text Box 56"/>
            <p:cNvSpPr/>
            <p:nvPr/>
          </p:nvSpPr>
          <p:spPr>
            <a:xfrm>
              <a:off x="6149880" y="1214280"/>
              <a:ext cx="2692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7"/>
            <p:cNvSpPr/>
            <p:nvPr/>
          </p:nvSpPr>
          <p:spPr>
            <a:xfrm>
              <a:off x="5683320" y="1108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Умножение 8"/>
          <p:cNvSpPr/>
          <p:nvPr/>
        </p:nvSpPr>
        <p:spPr>
          <a:xfrm>
            <a:off x="1874880" y="946080"/>
            <a:ext cx="973080" cy="973080"/>
          </a:xfrm>
          <a:custGeom>
            <a:avLst/>
            <a:gdLst/>
            <a:ahLst/>
            <a:rect l="l" t="t" r="r" b="b"/>
            <a:pathLst>
              <a:path w="973137" h="973138">
                <a:moveTo>
                  <a:pt x="202810" y="264637"/>
                </a:moveTo>
                <a:lnTo>
                  <a:pt x="264637" y="202810"/>
                </a:lnTo>
                <a:lnTo>
                  <a:pt x="486569" y="424742"/>
                </a:lnTo>
                <a:lnTo>
                  <a:pt x="708500" y="202810"/>
                </a:lnTo>
                <a:lnTo>
                  <a:pt x="770327" y="264637"/>
                </a:lnTo>
                <a:lnTo>
                  <a:pt x="548395" y="486569"/>
                </a:lnTo>
                <a:lnTo>
                  <a:pt x="770327" y="708501"/>
                </a:lnTo>
                <a:lnTo>
                  <a:pt x="708500" y="770328"/>
                </a:lnTo>
                <a:lnTo>
                  <a:pt x="486569" y="548396"/>
                </a:lnTo>
                <a:lnTo>
                  <a:pt x="264637" y="770328"/>
                </a:lnTo>
                <a:lnTo>
                  <a:pt x="202810" y="708501"/>
                </a:lnTo>
                <a:lnTo>
                  <a:pt x="424742" y="486569"/>
                </a:lnTo>
                <a:lnTo>
                  <a:pt x="202810" y="2646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множение 9"/>
          <p:cNvSpPr/>
          <p:nvPr/>
        </p:nvSpPr>
        <p:spPr>
          <a:xfrm>
            <a:off x="1874880" y="1819440"/>
            <a:ext cx="973080" cy="971280"/>
          </a:xfrm>
          <a:custGeom>
            <a:avLst/>
            <a:gdLst/>
            <a:ahLst/>
            <a:rect l="l" t="t" r="r" b="b"/>
            <a:pathLst>
              <a:path w="973137" h="971550">
                <a:moveTo>
                  <a:pt x="202885" y="264230"/>
                </a:moveTo>
                <a:lnTo>
                  <a:pt x="264561" y="202454"/>
                </a:lnTo>
                <a:lnTo>
                  <a:pt x="486569" y="424099"/>
                </a:lnTo>
                <a:lnTo>
                  <a:pt x="708576" y="202454"/>
                </a:lnTo>
                <a:lnTo>
                  <a:pt x="770252" y="264230"/>
                </a:lnTo>
                <a:lnTo>
                  <a:pt x="548345" y="485775"/>
                </a:lnTo>
                <a:lnTo>
                  <a:pt x="770252" y="707320"/>
                </a:lnTo>
                <a:lnTo>
                  <a:pt x="708576" y="769096"/>
                </a:lnTo>
                <a:lnTo>
                  <a:pt x="486569" y="547451"/>
                </a:lnTo>
                <a:lnTo>
                  <a:pt x="264561" y="769096"/>
                </a:lnTo>
                <a:lnTo>
                  <a:pt x="202885" y="707320"/>
                </a:lnTo>
                <a:lnTo>
                  <a:pt x="424792" y="485775"/>
                </a:lnTo>
                <a:lnTo>
                  <a:pt x="202885" y="2642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431640" y="3189240"/>
            <a:ext cx="4978440" cy="82548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12"/>
          <p:cNvSpPr/>
          <p:nvPr/>
        </p:nvSpPr>
        <p:spPr>
          <a:xfrm rot="5400000">
            <a:off x="2147400" y="2766960"/>
            <a:ext cx="442800" cy="3315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3227400" y="4592520"/>
            <a:ext cx="4862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право 14"/>
          <p:cNvSpPr/>
          <p:nvPr/>
        </p:nvSpPr>
        <p:spPr>
          <a:xfrm rot="5400000">
            <a:off x="3989520" y="4151160"/>
            <a:ext cx="442800" cy="3319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 flipH="1">
            <a:off x="5900760" y="2934720"/>
            <a:ext cx="2341440" cy="732600"/>
          </a:xfrm>
          <a:prstGeom prst="wedgeRoundRectCallout">
            <a:avLst>
              <a:gd name="adj1" fmla="val 40851"/>
              <a:gd name="adj2" fmla="val 199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 с параме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543E-358C-47F1-B833-42F77F5694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431640" y="3009960"/>
            <a:ext cx="4241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431640" y="2154240"/>
            <a:ext cx="426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Группа 9" descr=""/>
          <p:cNvPicPr/>
          <p:nvPr/>
        </p:nvPicPr>
        <p:blipFill>
          <a:blip r:embed="rId1"/>
          <a:stretch/>
        </p:blipFill>
        <p:spPr>
          <a:xfrm>
            <a:off x="2773440" y="4059360"/>
            <a:ext cx="50418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55"/>
          <p:cNvGrpSpPr/>
          <p:nvPr/>
        </p:nvGrpSpPr>
        <p:grpSpPr>
          <a:xfrm>
            <a:off x="4997520" y="2733840"/>
            <a:ext cx="2706120" cy="663480"/>
            <a:chOff x="4997520" y="2733840"/>
            <a:chExt cx="2706120" cy="663480"/>
          </a:xfrm>
        </p:grpSpPr>
        <p:sp>
          <p:nvSpPr>
            <p:cNvPr id="224" name="Text Box 56"/>
            <p:cNvSpPr/>
            <p:nvPr/>
          </p:nvSpPr>
          <p:spPr>
            <a:xfrm>
              <a:off x="5464080" y="2840040"/>
              <a:ext cx="223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7"/>
            <p:cNvSpPr/>
            <p:nvPr/>
          </p:nvSpPr>
          <p:spPr>
            <a:xfrm>
              <a:off x="4997520" y="2733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Скругленная прямоугольная выноска 16"/>
          <p:cNvSpPr/>
          <p:nvPr/>
        </p:nvSpPr>
        <p:spPr>
          <a:xfrm>
            <a:off x="3848040" y="1015920"/>
            <a:ext cx="3987720" cy="1155960"/>
          </a:xfrm>
          <a:prstGeom prst="wedgeRoundRectCallout">
            <a:avLst>
              <a:gd name="adj1" fmla="val -63828"/>
              <a:gd name="adj2" fmla="val 54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личина, от которой зависит работа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сколько параме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B6E8-2F92-4AFF-AE1B-153BA0018E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438120" y="1446120"/>
            <a:ext cx="8217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55"/>
          <p:cNvGrpSpPr/>
          <p:nvPr/>
        </p:nvGrpSpPr>
        <p:grpSpPr>
          <a:xfrm>
            <a:off x="4727520" y="1085760"/>
            <a:ext cx="3575160" cy="663480"/>
            <a:chOff x="4727520" y="1085760"/>
            <a:chExt cx="3575160" cy="663480"/>
          </a:xfrm>
        </p:grpSpPr>
        <p:sp>
          <p:nvSpPr>
            <p:cNvPr id="231" name="Text Box 56"/>
            <p:cNvSpPr/>
            <p:nvPr/>
          </p:nvSpPr>
          <p:spPr>
            <a:xfrm>
              <a:off x="5194440" y="1191960"/>
              <a:ext cx="3108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изменилос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7"/>
            <p:cNvSpPr/>
            <p:nvPr/>
          </p:nvSpPr>
          <p:spPr>
            <a:xfrm>
              <a:off x="4727520" y="108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AutoShape 8"/>
          <p:cNvSpPr/>
          <p:nvPr/>
        </p:nvSpPr>
        <p:spPr>
          <a:xfrm flipH="1">
            <a:off x="1214280" y="902880"/>
            <a:ext cx="3097440" cy="416520"/>
          </a:xfrm>
          <a:prstGeom prst="wedgeRoundRectCallout">
            <a:avLst>
              <a:gd name="adj1" fmla="val -13013"/>
              <a:gd name="adj2" fmla="val 1027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447840" y="2724120"/>
            <a:ext cx="3066480" cy="663480"/>
            <a:chOff x="447840" y="2724120"/>
            <a:chExt cx="3066480" cy="663480"/>
          </a:xfrm>
        </p:grpSpPr>
        <p:sp>
          <p:nvSpPr>
            <p:cNvPr id="235" name="Text Box 56"/>
            <p:cNvSpPr/>
            <p:nvPr/>
          </p:nvSpPr>
          <p:spPr>
            <a:xfrm>
              <a:off x="914400" y="2830320"/>
              <a:ext cx="2599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зыв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57"/>
            <p:cNvSpPr/>
            <p:nvPr/>
          </p:nvSpPr>
          <p:spPr>
            <a:xfrm>
              <a:off x="447840" y="2724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11"/>
          <p:cNvSpPr/>
          <p:nvPr/>
        </p:nvSpPr>
        <p:spPr>
          <a:xfrm>
            <a:off x="1514520" y="46324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1514520" y="3500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6"/>
          <p:cNvSpPr/>
          <p:nvPr/>
        </p:nvSpPr>
        <p:spPr>
          <a:xfrm>
            <a:off x="1514520" y="4067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илиния 17"/>
          <p:cNvSpPr/>
          <p:nvPr/>
        </p:nvSpPr>
        <p:spPr>
          <a:xfrm>
            <a:off x="1166760" y="3560760"/>
            <a:ext cx="349200" cy="334800"/>
          </a:xfrm>
          <a:custGeom>
            <a:avLst/>
            <a:gdLst>
              <a:gd name="textAreaLeft" fmla="*/ 0 w 349200"/>
              <a:gd name="textAreaRight" fmla="*/ 349200 w 3492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олилиния 20"/>
          <p:cNvSpPr/>
          <p:nvPr/>
        </p:nvSpPr>
        <p:spPr>
          <a:xfrm>
            <a:off x="1166760" y="411624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илиния 19"/>
          <p:cNvSpPr/>
          <p:nvPr/>
        </p:nvSpPr>
        <p:spPr>
          <a:xfrm>
            <a:off x="1166760" y="471636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7910-0FDC-4C48-B1CE-959DBCC3A9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392040" y="8478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552600" y="1293840"/>
            <a:ext cx="82166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n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:=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815E-B419-4341-B46F-8988558993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382680" y="833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85640" y="1278000"/>
            <a:ext cx="535968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i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8FC8-27F7-4C48-A4D0-C3A19CA02D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3-11-29T16:57:40Z</dcterms:modified>
  <cp:revision>2183</cp:revision>
  <dc:subject/>
  <dc:title>Программное обеспечение (ПО)</dc:title>
</cp:coreProperties>
</file>